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337-72EC-4E0E-85FE-5AC4428E7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03F-F6F7-4026-9F52-7344E1406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0,5 – 15%, bier, wijn, premix, lichte shooters (10%), port, vermouth, sh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never, rum, shooters (20%), whisky, cognac, likeuren, zelf gemixte dran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D0B6-B0C3-4E7A-A52D-729CB0237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7D3-2B10-4264-B141-7447B3CEB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C89-F29B-47E8-853E-99BAC3543E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C582-81B0-46E9-8552-27ED94354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197-0974-41F8-A675-60CD5A02A5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3E5-C475-4A21-B1EC-6EA10331A7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799A-B052-4896-AEB7-A32261745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a de lever ca 9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glas ca 5 tot 6 kwarti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556-050E-4785-A51C-6B61B2683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slacht/gew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heid lichaamsvo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ote mensen/mannen m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alcohol nodig voo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steltijd is k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voelens worden verster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rder overgeven aan de effec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wezigheid vertraagd opnamen in het 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ugs/genee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t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753F-9FBE-40BF-A0F8-E80E0F1CB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8C1-93F9-4ABA-BF88-85F0C7C67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1970-A0FE-4659-BD95-C3713A9C2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249-7853-4790-B83F-CB3128CF3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C03-E664-4C37-87D7-F21105BE2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8D04-085A-4234-87B2-C95B874C53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AD3-1922-4A99-AA1E-785996985B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CFD-F0D4-4BD7-915F-0C113A1E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281-C44F-4DAA-98CA-6FA39EE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062-2CA8-4ECD-AF0D-7B4FD974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FAC-D70D-4932-A8F8-F083E8F5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541-F5F6-4A5D-8B12-389A21C3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451-C55F-4132-8419-9383432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A20-A2AE-437C-8950-D26A45EB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4B3-BD2D-416F-B20D-0529BCC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78A-EAC9-45FA-8527-FFB8C95C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CB5-A675-4DA5-A7F3-E945063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3B7-8325-49CA-9F42-7F1387A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987-966C-4C7C-A5AB-78AB46B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4EF8-2574-4C4F-916D-C5DD3BB7ABD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eftij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onger dan 16 jaar geen drank met meer dan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sterke drank onder d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kkelt hers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eft geestelijke en lichaamelijke eff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imul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aler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caïne,amfetamine,tabak,kof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dov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aperige 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lmerend en ont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roïne en opiaten,alcohol,slaa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87280" y="2205000"/>
            <a:ext cx="707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wustzijnverand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t dingen anders zien en b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sd,hasj,weed,paddo’s,tripmid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1916280"/>
            <a:ext cx="7077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ium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voor zowel hard- als soft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k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le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stre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wezig t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aar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t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reding = misdr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916280"/>
            <a:ext cx="7201080" cy="396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okversl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geld wordt er gespend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lang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manier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geving waarin hij sp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, Alcohol Ge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0,5 = 1cc bloed bevat halve milligram pur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ffect alcohol op lichaam en function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slacht en gew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mbi drugs/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tig alcohol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14 glazen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21 glazen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eidelijk verdeeld over d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positieve red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matig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situatie het toe 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198900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wust af en toe geen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rinken van wegen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en in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n wanneer je gezond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in combinatie met medicijnen/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eelneemt aan 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zwangerschap/borstvo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sportbeoef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cohol mis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 gevallen waarbij ongewenste effecten optreden voor gebruiker of zijn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1989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nmerken alcohol mis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oms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laten 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g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lies hand-oogcoörd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r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e t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60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1628640"/>
            <a:ext cx="70772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nk en horeca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Leeftijd/verstrekking/toe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boek van straf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oediening/openbare dronk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0.5 pro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Plaatselijke Ver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penbar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557360"/>
            <a:ext cx="7201080" cy="489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4:39Z</dcterms:created>
  <dc:creator>Valued Acer Customer</dc:creator>
  <dc:description/>
  <dc:language>en-US</dc:language>
  <cp:lastModifiedBy>Valued Acer Customer</cp:lastModifiedBy>
  <dcterms:modified xsi:type="dcterms:W3CDTF">2012-03-15T10:06:02Z</dcterms:modified>
  <cp:revision>3</cp:revision>
  <dc:subject/>
  <dc:title>Sociale Hygiëne</dc:title>
</cp:coreProperties>
</file>