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8D25-7FF6-4578-962B-EA9CE9F19E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2666-D465-472B-825A-D82A10F1DC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A3F-6943-49FE-83D9-EEA53A18BC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C7F2-C170-4DF6-80AB-2E26B1AE4B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E71-850D-48DF-A5C9-FE9E50067F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061-7446-4937-9C5F-79EF49EFFB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9BBF-B3DC-4A7B-ABB5-610E77A7A7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6D72-F170-4E31-B7BA-4763B1EDA8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F732-5A49-4FFA-95F5-5D3A291940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6C0C-83E9-4C39-81DE-113B096734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5378-1001-48D2-987B-F79BA425FC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44D0-060E-4134-B27A-C53EC9DF73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930B-9E8B-452D-8FB2-1F2FF6B07C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BA3F-3520-4F46-B3A1-31C9A0259E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E97B-096B-416E-9BB0-6DE03592FC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521-7B2E-4828-833C-0F98CB7E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CCA-9F90-4EC6-ACBF-3C678C09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D1C-FC08-4AE6-8798-F1AB3B7A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0AC-BB60-46C2-8A3F-5EF5AFFD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C6B-AB4D-4241-A944-D4E91066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415-3F53-4785-BD39-C490E4F6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B30-D40F-4425-AB9B-7EFB43FD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0AE-4370-4EE8-958B-B6722799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917-B7D2-4FCD-97DB-A254BFC3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8B0-42F9-40BE-9753-E8F8DBF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982-65D3-4D5E-B42F-37D7844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F95-3235-49C3-BD07-8585D449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A9EE-8088-47A3-8B4A-7D1168D5046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chtergronden risico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achtergro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probl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evings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ultuur verschi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atschappelijke verande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116000" y="2060640"/>
            <a:ext cx="7058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fessionaliteit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ivm regels handha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kbekw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stger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beroepseth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equaat omgaan met risico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058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spreksmod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e verk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enlijke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orgen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6050160" cy="2808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en bij regel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ssistentie of dele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 bep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tr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691380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0920" y="981000"/>
            <a:ext cx="84978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1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en het gesp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waarschuwing                                  geef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 ruimte voor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buigen van de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gmaals waarschuwing               nogmaals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5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/afdwingen san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9280" y="981000"/>
            <a:ext cx="8640720" cy="561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5"/>
          <p:cNvCxnSpPr/>
          <p:nvPr/>
        </p:nvCxnSpPr>
        <p:spPr>
          <a:xfrm>
            <a:off x="4500360" y="1557000"/>
            <a:ext cx="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Rechte verbindingslijn met pijl 6"/>
          <p:cNvCxnSpPr/>
          <p:nvPr/>
        </p:nvCxnSpPr>
        <p:spPr>
          <a:xfrm>
            <a:off x="2555640" y="3141720"/>
            <a:ext cx="43236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Rechte verbindingslijn met pijl 7"/>
          <p:cNvCxnSpPr/>
          <p:nvPr/>
        </p:nvCxnSpPr>
        <p:spPr>
          <a:xfrm>
            <a:off x="6588000" y="2421000"/>
            <a:ext cx="72144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Rechte verbindingslijn met pijl 8"/>
          <p:cNvCxnSpPr/>
          <p:nvPr/>
        </p:nvCxnSpPr>
        <p:spPr>
          <a:xfrm flipH="1">
            <a:off x="2555280" y="2349000"/>
            <a:ext cx="432360" cy="359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Rechte verbindingslijn met pijl 15"/>
          <p:cNvCxnSpPr/>
          <p:nvPr/>
        </p:nvCxnSpPr>
        <p:spPr>
          <a:xfrm flipH="1">
            <a:off x="2339280" y="4581000"/>
            <a:ext cx="577080" cy="28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Rechte verbindingslijn met pijl 16"/>
          <p:cNvCxnSpPr/>
          <p:nvPr/>
        </p:nvCxnSpPr>
        <p:spPr>
          <a:xfrm>
            <a:off x="4642920" y="3716280"/>
            <a:ext cx="1080" cy="65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Rechte verbindingslijn met pijl 17"/>
          <p:cNvCxnSpPr/>
          <p:nvPr/>
        </p:nvCxnSpPr>
        <p:spPr>
          <a:xfrm flipH="1">
            <a:off x="7740000" y="3141720"/>
            <a:ext cx="361080" cy="358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Rechte verbindingslijn met pijl 20"/>
          <p:cNvCxnSpPr/>
          <p:nvPr/>
        </p:nvCxnSpPr>
        <p:spPr>
          <a:xfrm flipH="1">
            <a:off x="7524000" y="5229360"/>
            <a:ext cx="935640" cy="72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Rechte verbindingslijn met pijl 21"/>
          <p:cNvCxnSpPr/>
          <p:nvPr/>
        </p:nvCxnSpPr>
        <p:spPr>
          <a:xfrm>
            <a:off x="7885080" y="4508280"/>
            <a:ext cx="575280" cy="36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Rechte verbindingslijn met pijl 23"/>
          <p:cNvCxnSpPr/>
          <p:nvPr/>
        </p:nvCxnSpPr>
        <p:spPr>
          <a:xfrm>
            <a:off x="2340000" y="5445000"/>
            <a:ext cx="720000" cy="432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66760" y="15048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fo uitwis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Z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nt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igitale comm – in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naloge comm - betre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484280"/>
            <a:ext cx="6050160" cy="3240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66760" y="1504800"/>
            <a:ext cx="7077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ntact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og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Voor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stand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zo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484280"/>
            <a:ext cx="4392720" cy="316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66760" y="15048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Risico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egenwerken A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gressief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Gewelddadig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lcoholmis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rugs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Poblematisch groeps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Crimineel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484280"/>
            <a:ext cx="6050160" cy="42498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genwerken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1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2 ontk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1 kritiek op regel/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2 kritiek handhaving/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gressief gedrag 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i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d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elden               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Verb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e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scrimin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sexueel)intimi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2060640"/>
            <a:ext cx="6050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C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g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nctie aan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weldadig gedrag (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Fysi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16280"/>
            <a:ext cx="6337440" cy="273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f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traliseer 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ken emo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gevolg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1:03Z</dcterms:created>
  <dc:creator>Valued Acer Customer</dc:creator>
  <dc:description/>
  <dc:language>en-US</dc:language>
  <cp:lastModifiedBy>Valued Acer Customer</cp:lastModifiedBy>
  <dcterms:modified xsi:type="dcterms:W3CDTF">2012-05-16T09:27:30Z</dcterms:modified>
  <cp:revision>3</cp:revision>
  <dc:subject/>
  <dc:title>Sociale Hygiëne</dc:title>
</cp:coreProperties>
</file>