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8294-3325-472E-8D2C-360E08A27C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6055-12AC-414D-AD29-BF435A92E5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162E-7B13-4671-885B-30F6B772A0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uwbesl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richting (hoogte, grootte, indel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teria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we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strijden bran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veilig gebou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meldinstallatie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weg aandu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oodverli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lusmid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m. bouwverord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lekt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warming/kookapparatu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itgangen/vluchtwe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offering/versi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valverwe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gunning brandveilig gebru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plicht wann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dan 50 personen aanwez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nachting aan meer dan 10 pers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8793-062B-4869-B535-CD503805F6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z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anuit dienstruimte 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drijfsruim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en uitga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hele bedrijf zichtba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piegels/cam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zich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bserv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anspre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lich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in lichtsterkte 50 lux één meter boven de gr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veiligde kas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roomklu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pers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lu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ijds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38CC-09B7-4529-9202-2C661F050F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nbaar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obiel ook bij va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/inbraak/ov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me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tec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penbez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it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gazij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ackligh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bruik hard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86B2-54D8-4F96-A6CF-14F2EDB404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72ED-75E0-4194-B0B6-D949D3754F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oedersleutel altijd in het bezit van iemand die aanwezig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BB38-538C-429B-8340-95CA2970ED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nbaar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obiel ook bij va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/inbraak/ov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me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tec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penbez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it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gazij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ackligh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bruik hard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583E-D13C-41FC-A7B0-695366B9CF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inder dan 50 1BHV’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0 – 250 1BHV’er per 50 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dan 250 5BHV’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dan 1000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65E0-DA0F-4E80-BB28-8E0BA86A00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398-3701-413F-856B-34EB8A27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B2D-0CF8-4960-9C27-ED8FF4C0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209-21FC-4B3E-8B32-6C2DA7AD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29D-16E7-4E1B-83F0-D063A8B3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90D-17B9-45E7-BB04-B314EF9C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760-C579-4F79-A254-43D894E8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3BC-E679-479F-9D64-2E3021E8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415D-3F3B-42E4-B0BD-C735BCF8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A390-BF45-4006-BC4B-DC90A670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655-17D0-4F29-9703-E82AEE54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824-7690-4F3B-9FDA-2098E478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E9A-80E8-4467-9585-0B335D38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487D-E809-41B0-A51E-0056B306C89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Inrichtingseisen worden gesteld a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pervlakte van de bedrijfs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ile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andpreven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55640" y="2205000"/>
            <a:ext cx="77770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tten en bepalingen brandpreven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ouwbesl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brandveilig gebouw bouw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gemeentelijke bouwverord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unning brandveilig gebru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84360" y="1989000"/>
            <a:ext cx="755964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ouwkundige voorzieni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z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ez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eiligde kas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ilige klu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chnische voorzieni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syste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tectieappa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sluiting kostbare goe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ack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7201080" cy="3527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leutelbeh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87280" y="2205000"/>
            <a:ext cx="707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Inventarisa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umme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leutelkast (1 reserve sleute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verzicht toegankelijkhe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anneer op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1989000"/>
            <a:ext cx="7201080" cy="4392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leutel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87280" y="1841400"/>
            <a:ext cx="7077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welke sleut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mag openen/slui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op welk moment sleutel inlev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opent of slu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lke sleutels in de sleutelka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belast met ontrole/toezic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elden vermi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971640" y="1700280"/>
            <a:ext cx="7200720" cy="46814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205000"/>
            <a:ext cx="70772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chnische voorzieni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syste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tectieappa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sluiting kostbare goe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ack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89000"/>
            <a:ext cx="7201080" cy="3527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87280" y="22050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aken BHV-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lenen EH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trijden/beperken b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/beperken ongeva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eren/evacu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eren/samenwer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42920" y="1989000"/>
            <a:ext cx="7201080" cy="3527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8:20:25Z</dcterms:created>
  <dc:creator>Valued Acer Customer</dc:creator>
  <dc:description/>
  <dc:language>en-US</dc:language>
  <cp:lastModifiedBy>Valued Acer Customer</cp:lastModifiedBy>
  <dcterms:modified xsi:type="dcterms:W3CDTF">2012-03-15T09:21:15Z</dcterms:modified>
  <cp:revision>2</cp:revision>
  <dc:subject/>
  <dc:title>Dia 1</dc:title>
</cp:coreProperties>
</file>