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8948-A97E-42DE-81A1-C249B93B78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A61D-7FD3-459E-BE9E-8A1565FE93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pervlakte ten minsten 35 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ntilatie rechtstreeks op de buitenlu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wee van elkaar gescheiden toile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baar toi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zonderlijke ruimte om handen te wa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terspo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rechtstreeks toegangkel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ijterij ten minste 15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preven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raagbaar blustoestel Rijkskeurme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anghaspel NEN 3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aarlijkse erkende controle met label met da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2B16-3542-4E85-820A-CDBD4DA001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enigi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2 leidinggevende met dipl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erige medewerkers geïnstruee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praken over bereikbaarheid, alcoholbeleid in bestuursreg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FBAB-37EB-4A31-A4DF-FFD5A9D76F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pervlakte ten minsten 35 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ntilatie rechtstreeks op de buitenlu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wee van elkaar gescheiden toile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baar toi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zonderlijke ruimte om handen te wa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terspo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rechtstreeks toegangkel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ijterij ten minste 15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preven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raagbaar blustoestel Rijkskeurme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anghaspel NEN 3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aarlijkse erkende controle met label met da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0964-0096-447A-9EA0-B920149EAC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pervlakte ten minsten 35 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ntilatie rechtstreeks op de buitenlu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wee van elkaar gescheiden toile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baar toi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zonderlijke ruimte om handen te wa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terspo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rechtstreeks toegangkel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ijterij ten minste 15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preven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raagbaar blustoestel Rijkskeurme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anghaspel NEN 3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aarlijkse erkende controle met label met da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E538-71B4-4485-B415-530090F987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pervlakte ten minsten 35 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ntilatie rechtstreeks op de buitenlu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wee van elkaar gescheiden toile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baar toi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zonderlijke ruimte om handen te wa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terspo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rechtstreeks toegangkel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ijterij ten minste 15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preven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raagbaar blustoestel Rijkskeurme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anghaspel NEN 3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aarlijkse erkende controle met label met da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7E0F-7B58-418C-8DF6-50FFE9FF2C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0CC0-164E-4E89-88FC-F1316D57F5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AAA1-7E32-4DB6-A3CA-D9FA28BE4F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E41E-A421-4C11-98AD-6F464AF076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8E78-473E-47E9-A43F-F246E5A9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F37B-84A9-4A8C-9308-9BDB358A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709B-AA3F-4467-8C1E-E076D570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1EB0-64DA-4C14-BBFC-0EAE272A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204E-E470-4F26-BA77-FAFC9CD2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8C3C-BCEB-4FCC-BFA4-56E88C02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7A93-7AAA-406A-B56C-96C002D7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776E-251A-4758-BC5B-2ADAEABC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9E14-48FD-49E9-B9AE-252DD62C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3AE0-0347-44F3-94D2-4D532E71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398F-E98C-446F-8EEE-C53F75E5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F15B-DCEC-4A6E-AF2C-B0B4191D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63E0-B5BA-4DB4-9554-C9C9EAC4314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500" spc="-1" strike="noStrike">
                <a:solidFill>
                  <a:srgbClr val="000000"/>
                </a:solidFill>
                <a:latin typeface="Calibri"/>
              </a:rPr>
              <a:t>Sociale Hygiëne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187280" y="3141720"/>
            <a:ext cx="707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Les 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059280" y="3357720"/>
            <a:ext cx="3313080" cy="1223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187280" y="1557360"/>
            <a:ext cx="6840720" cy="11509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lei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187280" y="2205000"/>
            <a:ext cx="70772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oor wie is Sociale Hygiën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Leidinggevend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enig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uurth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Horeca bedrijf waar alcohol wordt geschonk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042920" y="1989000"/>
            <a:ext cx="7201080" cy="4392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gunning Drank-en horecaw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187280" y="2205000"/>
            <a:ext cx="70772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gevens verstrekken over leid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ven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ijdens openingsuren altijd een leidinggegvende aanwezi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oor verenigingen afwijke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042920" y="1989000"/>
            <a:ext cx="7201080" cy="4032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naar ondernemersch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187280" y="2205000"/>
            <a:ext cx="70772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ier horecabranch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042920" y="1989000"/>
            <a:ext cx="7201080" cy="4032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naar ondernemersch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187280" y="2205000"/>
            <a:ext cx="7077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ier horecabranch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Logiesverstrekke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oedselverstrekke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rankverstrekkend gebruik ter plaats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rankverstrekkend gebruik th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042920" y="1989000"/>
            <a:ext cx="7201080" cy="4032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naar ondernemersch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9640" y="1628640"/>
            <a:ext cx="39610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oelgroep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cholie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uders met kinde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oeris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Zakenmens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enio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lleen staan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68360" y="1628640"/>
            <a:ext cx="8280360" cy="4824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6"/>
          <p:cNvSpPr/>
          <p:nvPr/>
        </p:nvSpPr>
        <p:spPr>
          <a:xfrm>
            <a:off x="4572000" y="2060640"/>
            <a:ext cx="403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weeverdie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rkende jonge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llochtone jonge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uden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asten met veel vrije tijd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naar ondernemersch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116000" y="1844640"/>
            <a:ext cx="70772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edrijfsformule (de 6 P’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laa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at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ersone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ij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omot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042920" y="1628640"/>
            <a:ext cx="7201080" cy="4608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naar ondernemersch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187280" y="2205000"/>
            <a:ext cx="70772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astvrijheidsconce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boden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mgang klan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mgang gasten met elkaar en medewerk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042920" y="1989000"/>
            <a:ext cx="7201080" cy="4032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naar ondernemersch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187280" y="2205000"/>
            <a:ext cx="707724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Bedrijfform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Gastvrijheidsconce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epal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Doelgroe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042920" y="1989000"/>
            <a:ext cx="7201080" cy="4032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4:21:07Z</dcterms:created>
  <dc:creator>Valued Acer Customer</dc:creator>
  <dc:description/>
  <dc:language>en-US</dc:language>
  <cp:lastModifiedBy>Valued Acer Customer</cp:lastModifiedBy>
  <dcterms:modified xsi:type="dcterms:W3CDTF">2012-03-15T15:08:50Z</dcterms:modified>
  <cp:revision>2</cp:revision>
  <dc:subject/>
  <dc:title>Sociale Hygiëne</dc:title>
</cp:coreProperties>
</file>