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FEE2-E529-41B8-BAFD-FFE9924F7C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D9F7-0AF1-4B54-A6FF-41ACA85C9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354C-CAE3-42D7-A5F8-6B3958E537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0452-17F3-48D4-BB05-795D174CD1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AD7-BAA1-4748-97B3-D053B09C1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A870-FEE3-43ED-923B-81404B5C7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D9A-0F30-47C0-9074-5DFBE7407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D5A-18B1-4ED5-A734-7E72D466A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E99D-E09B-4190-A86C-87CC1A3A97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8C3-E111-4C47-AC50-F9FE2D31ED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6F8D-A8F7-4747-ACB1-DC96323940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60C-C07F-454E-B287-585F1DE598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5963-BAA2-4581-970D-1BD591E7E0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E8DA-87B9-4C2B-98E4-BEFD2B6AF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268F-EEC3-4C57-AFBB-151DEFA2CE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11B-C51B-4F9F-8155-E67AC2A181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C87-C232-45F6-939B-C497C705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28A-7AA1-4855-96FB-A177E31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7CF-8B5D-408F-B51D-26774D2B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500-619F-48A0-B110-2FAA42E9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AD1-3A70-4175-BA07-CC133E9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170-D448-4CC8-8864-D493C0A1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9B9-B017-4230-9259-85085CC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A99-B2CF-4D94-8874-CDD05B3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674-4656-41C5-8398-665F1B72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5F9-FE9D-4A9B-A79D-30BBC907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0C0-F73C-442C-B067-651D8795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56A-74FE-4C53-93E8-432FF19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BD1B-5397-4666-81ED-9E0F2ADB2B8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71520" y="1709640"/>
            <a:ext cx="6600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23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0:20:04Z</dcterms:created>
  <dc:creator>Valued Acer Customer</dc:creator>
  <dc:description/>
  <dc:language>en-US</dc:language>
  <cp:lastModifiedBy>Valued Acer Customer</cp:lastModifiedBy>
  <dcterms:modified xsi:type="dcterms:W3CDTF">2012-03-15T10:21:50Z</dcterms:modified>
  <cp:revision>1</cp:revision>
  <dc:subject/>
  <dc:title>Dia 1</dc:title>
</cp:coreProperties>
</file>