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EA48-D65C-4821-866C-D017E7E1CAB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D57C-5F10-473C-A9F4-77822FD31AFC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774A-FD25-4D37-82F0-D6FDAD2B8D4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97DD-0BE3-4383-A399-02E5BA82072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D488-E9AB-4D66-976C-15D6DBD7CA21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5DBC-D3B9-44D3-9FB7-0C8F2094018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2321-10D6-41F1-91D6-E5F5012590AC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DD02-5BC2-4527-81DD-85AA9036FED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9ADC-4BF2-4B60-A6AF-4F24A7A29473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5FE7-F625-44E4-8C26-5B6F5658A0C4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266E-53A3-44BC-986B-EAFB46D6C11D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B043-829B-4845-B9D1-030BD7E6240A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89BF-778A-4E7B-9478-CFFA91DEA24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DAA1-69D7-4FAA-AF89-7B85F136FD4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0C17-6447-43DE-BAD1-7D1CE005E68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B52A-6D3F-409F-9457-C8B849185801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E3A6-8C59-4219-B843-D8724C768981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8497-2613-47C4-87D9-34D6006D7EF0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C369-BAD2-4861-91E1-5E4683C61E31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3A9B-ACF4-4B20-9DBB-1761312E3603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3AF8-AFA5-4BCC-87F9-12E09236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B36-C227-48E4-A381-CB967B0D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60E2-2616-4CF4-B5AE-4FDA0873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09FF-2D30-49F0-BD0D-E2939037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4329-B3EB-4F66-ADAF-F9506AC4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825-A70B-48B1-A355-E52C8FE6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E61-E25D-4A1E-A568-F858EB8A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6BE-28D4-4B80-A062-4EC34170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E9F3-5086-477D-A0D1-8DDE77F2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437-C002-45E3-A381-38EFBB4F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8F1-A5C5-473F-867E-37BCE9F2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1EE-E5EE-42F2-B931-A83C2B32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AB46-2CC9-44A2-8F17-EFEC7E664A6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devosarchitecten.nl/wp-content/uploads/ruzie.png&amp;imgrefurl=http://devosarchitecten.nl/%3Fpage_id%3D217&amp;usg=__Ur2itKiZFG9GNwgJvGligbylS1g=&amp;h=204&amp;w=340&amp;sz=39&amp;hl=nl&amp;start=5&amp;um=1&amp;tbnid=oM7WGA5bL_JWfM:&amp;tbnh=71&amp;tbnw=119&amp;prev=/images%3Fq%3Druzie%26ndsp%3D18%26hl%3Dnl%26rlz%3D1G1GGLQ_NLNL343%26sa%3DN%26um%3D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cohol en 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roost"/>
          <p:cNvPicPr/>
          <p:nvPr/>
        </p:nvPicPr>
        <p:blipFill>
          <a:blip r:embed="rId1"/>
          <a:stretch/>
        </p:blipFill>
        <p:spPr>
          <a:xfrm>
            <a:off x="3132000" y="1413000"/>
            <a:ext cx="2808360" cy="293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erantwoord gebru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732440" y="2177640"/>
            <a:ext cx="152280" cy="30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116000" y="1341360"/>
            <a:ext cx="71280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nk tenminste 2 dagen in een week geen alcoh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veel gedronken? Drink dan daarna 2 aaneengesloten dagen geen alcoh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alcohol wanneer je nog wilt werken, studeren of spor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alcohol in het verke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drinken als reactie op spanningen of persoonlijke probl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 op met alcohol bij medicijngebru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is een stimulerend mid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BS_7414659_7414659_1078965b"/>
          <p:cNvPicPr/>
          <p:nvPr/>
        </p:nvPicPr>
        <p:blipFill>
          <a:blip r:embed="rId1"/>
          <a:stretch/>
        </p:blipFill>
        <p:spPr>
          <a:xfrm>
            <a:off x="2843280" y="2637000"/>
            <a:ext cx="2654280" cy="388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is voedza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dyn002_original_150_184_gif_8616_87c028f65fc6995cf6f33eed40cbe252"/>
          <p:cNvPicPr/>
          <p:nvPr/>
        </p:nvPicPr>
        <p:blipFill>
          <a:blip r:embed="rId1"/>
          <a:stretch/>
        </p:blipFill>
        <p:spPr>
          <a:xfrm>
            <a:off x="2700360" y="2492280"/>
            <a:ext cx="316872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116000" y="1844640"/>
            <a:ext cx="7128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Je wordt weer nuchter door eten, bewegen, overgeven of in de frisse lucht l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kotsen"/>
          <p:cNvPicPr/>
          <p:nvPr/>
        </p:nvPicPr>
        <p:blipFill>
          <a:blip r:embed="rId1"/>
          <a:stretch/>
        </p:blipFill>
        <p:spPr>
          <a:xfrm>
            <a:off x="3132000" y="2852640"/>
            <a:ext cx="2513160" cy="368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16000" y="184464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lang ik niets voel van de alcohol, kan het geen kwa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123(1)"/>
          <p:cNvPicPr/>
          <p:nvPr/>
        </p:nvPicPr>
        <p:blipFill>
          <a:blip r:embed="rId1"/>
          <a:stretch/>
        </p:blipFill>
        <p:spPr>
          <a:xfrm>
            <a:off x="3276720" y="2565360"/>
            <a:ext cx="269388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116000" y="184464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verbroedert en veroorzaakt geen agress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ruz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2924280"/>
            <a:ext cx="4969080" cy="296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alcohol op presteer ik b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4721040" cy="32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de beste hersencellen blijven 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Alcoholmisbruik"/>
          <p:cNvPicPr/>
          <p:nvPr/>
        </p:nvPicPr>
        <p:blipFill>
          <a:blip r:embed="rId1"/>
          <a:stretch/>
        </p:blipFill>
        <p:spPr>
          <a:xfrm>
            <a:off x="2916360" y="2492280"/>
            <a:ext cx="285732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bels over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7662960" y="2069640"/>
            <a:ext cx="69840" cy="75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116000" y="18446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drinken is goed voor de nachtru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170021_962_1178806423800-kater_later_KL"/>
          <p:cNvPicPr/>
          <p:nvPr/>
        </p:nvPicPr>
        <p:blipFill>
          <a:blip r:embed="rId1"/>
          <a:stretch/>
        </p:blipFill>
        <p:spPr>
          <a:xfrm>
            <a:off x="1908000" y="2492280"/>
            <a:ext cx="5185080" cy="398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Alcohol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niet maar drink met ma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roost%20logo%20draft%20334"/>
          <p:cNvPicPr/>
          <p:nvPr/>
        </p:nvPicPr>
        <p:blipFill>
          <a:blip r:embed="rId1"/>
          <a:stretch/>
        </p:blipFill>
        <p:spPr>
          <a:xfrm>
            <a:off x="1979640" y="1700280"/>
            <a:ext cx="5273640" cy="2906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rankcontrole_3"/>
          <p:cNvPicPr/>
          <p:nvPr/>
        </p:nvPicPr>
        <p:blipFill>
          <a:blip r:embed="rId2"/>
          <a:stretch/>
        </p:blipFill>
        <p:spPr>
          <a:xfrm>
            <a:off x="3059280" y="3141720"/>
            <a:ext cx="2695320" cy="202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is Alcoho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042920" y="1700280"/>
            <a:ext cx="734544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cheikundig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formule van alcohol (ethanol): C2H5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bier zit 5%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wijn zit 12%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gedistilleerd, zoals jenever zit 35%.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name in het licha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547640" y="1844640"/>
            <a:ext cx="6193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, slokdarm, maag (20%   opnamen in het blo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t wordt opgenomen in de dunne d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ed naar de lever, hier wordt alcohol afgebr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name in het licha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47640" y="2421000"/>
            <a:ext cx="619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 ca.10 min. komt de alcohol via het bloed in je hers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neer alcohol in de hersenen komt ben je “onder invlo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doet alcohol met j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547640" y="1773360"/>
            <a:ext cx="6409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cohol verdooft de hers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emt remmingen w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een verminderd ge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een verminderd concentratie verm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lfkritiek neemt 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cohol promi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47640" y="1773360"/>
            <a:ext cx="6409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G is het aantal gram alcohol per liter blo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ekse is van invloed op het bloedalcoholgehal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gvulling kan een rol spel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conditie en medicijngebruik zijn van invlo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cohol promi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547640" y="177336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én standaardglas alcohol bevat 10 gram alcohol en leidt gemiddeld tot een promillage van 0,2 bij mannen en 0,3 bij vrouw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059280" y="3052080"/>
            <a:ext cx="238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ardgla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tandaardglazen"/>
          <p:cNvPicPr/>
          <p:nvPr/>
        </p:nvPicPr>
        <p:blipFill>
          <a:blip r:embed="rId1"/>
          <a:stretch/>
        </p:blipFill>
        <p:spPr>
          <a:xfrm>
            <a:off x="826920" y="3789360"/>
            <a:ext cx="6985080" cy="130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braak van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116000" y="1844640"/>
            <a:ext cx="7128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95% door l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5% via urine, adem en zwe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lever doet 1 á 1,5 uur over de afbraak van 1 standaardglas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erantwoord gebru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3200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273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 "/>
          <p:cNvPicPr/>
          <p:nvPr/>
        </p:nvPicPr>
        <p:blipFill>
          <a:blip r:embed="rId1"/>
          <a:stretch/>
        </p:blipFill>
        <p:spPr>
          <a:xfrm>
            <a:off x="5508720" y="1413000"/>
            <a:ext cx="968400" cy="1079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624600" y="2282760"/>
            <a:ext cx="1085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lwassen mannen (18+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ink niet meer dan 2 standaardglazen alcohol per dag.        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756000" y="364392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lwassen vrouwen (18+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 "/>
          <p:cNvPicPr/>
          <p:nvPr/>
        </p:nvPicPr>
        <p:blipFill>
          <a:blip r:embed="rId2"/>
          <a:stretch/>
        </p:blipFill>
        <p:spPr>
          <a:xfrm>
            <a:off x="5580000" y="3068640"/>
            <a:ext cx="874800" cy="1150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0"/>
          <p:cNvSpPr/>
          <p:nvPr/>
        </p:nvSpPr>
        <p:spPr>
          <a:xfrm>
            <a:off x="628560" y="4029840"/>
            <a:ext cx="746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ink niet meer dan 1 standaardglas alcohol per d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6:10:18Z</dcterms:created>
  <dc:creator>Koelewijn</dc:creator>
  <dc:description/>
  <dc:language>en-US</dc:language>
  <cp:lastModifiedBy>Elbert Koelewijn</cp:lastModifiedBy>
  <dcterms:modified xsi:type="dcterms:W3CDTF">2014-07-07T09:26:22Z</dcterms:modified>
  <cp:revision>12</cp:revision>
  <dc:subject/>
  <dc:title>Alcohol en jongeren</dc:title>
</cp:coreProperties>
</file>