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507-4F45-42DE-8689-BADD584B39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639-75C4-421D-8658-6524D46118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w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0,5 – 15%, bier, wijn, premix, lichte shooters (10%), port, vermouth, sher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never, rum, shooters (20%), whisky, cognac, likeuren, zelf gemixte dran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35EC-48F9-4AD3-945A-0547502681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104-1F30-451C-9990-C12BF775A5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1E5-C585-4AD2-AD11-579DC98307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773-470D-4171-B51F-F9F4604F0B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47F-0A7D-4F8A-9161-B561E0496C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62C0-9506-40F5-A28B-2F5F42996D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8F46-CB8E-46EE-A041-BAA2D753DE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ia de lever ca 9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glas ca 5 tot 6 kwarti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8ECC-A4D7-4FF6-BB3F-759CA606F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slacht/gewi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eveelheid lichaamsvo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ote mensen/mannen m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er alcohol nodig voo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steltijd is k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voelens worden verster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rder overgeven aan de effec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wezigheid vertraagd opnamen in het 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ugs/geneesmid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ste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4671-082B-4052-AB0D-7B8DE77DBF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543-2297-4140-A48C-02C7DBB4BB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C99-C339-49A3-9D4C-70874FF80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6E0-658F-4E4F-A6B8-71DAEEBDBF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0A7-52B0-4C51-A64C-86ADFB7FAE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A593-EE97-4900-9005-12E33F5E69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6F25-3890-4C92-9662-AD502A6A5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578-2D29-472E-9596-096CC8F6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0DE-A3AD-4699-A13B-DF2885DF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24E-321F-4845-83CC-BB24EABE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D7D-2227-461C-8DB2-9630CEB3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928-C639-4AE7-86B2-A086131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128-81F1-4938-926E-BBD8CFE7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AEA-EAD7-459A-A523-CC2BF11C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BCA-EA92-451B-91E9-535F463C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939-F5B2-433D-84A3-0552F87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2B8-6686-45DA-BA5F-B98EC163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9B1-5C1C-4C57-A8D7-8A2C0F7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1F8-E5B1-4A8D-864E-40B407F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5A3A-C8EC-4D1C-A600-2820D79EFC2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eftij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onger dan 16 jaar geen drank met meer dan 0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n sterke drank onder de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ikkelt hers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eft geestelijke en lichaamelijke eff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imul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oel van meer aler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caïne,amfetamine,tabak,kof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dov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laperige 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lmerend en ont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roïne en opiaten,alcohol,slaap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87280" y="2205000"/>
            <a:ext cx="707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wustzijnverander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at dingen anders zien en be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sd,hasj,weed,paddo’s,tripmidde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87280" y="1916280"/>
            <a:ext cx="7077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ium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voor zowel hard- als soft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k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le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stre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wezig t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vaar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t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vertreding = misdrij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1916280"/>
            <a:ext cx="7201080" cy="396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okversl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geld wordt er gespend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lang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welke manier wordt gesp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geving waarin hij spe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, Alcohol Ge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ill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0,5 = 1cc bloed bevat halve milligram pure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ffect alcohol op lichaam en function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slacht en gew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zon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e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wac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gin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mbi drugs/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tig alcohol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14 glazen voor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x 21 glazen voor 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eidelijk verdeeld over d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positieve red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matig 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s situatie het toe 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1989000"/>
            <a:ext cx="70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antwoord alcohol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wust af en toe geen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rinken van wegen probl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en in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n wanneer je gezond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in combinatie met medicijnen/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deelneemt aan 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zwangerschap/borstvo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tijdens sportbeoef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1989000"/>
            <a:ext cx="7201080" cy="3816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cohol misbru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 gevallen waarbij ongewenste effecten optreden voor gebruiker of zijn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7201080" cy="3024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1989000"/>
            <a:ext cx="7077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nmerken alcohol mis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omsto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ngen laten 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gg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lies hand-oogcoörd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r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e t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89000"/>
            <a:ext cx="7201080" cy="3600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lcohol, Drugs en Gok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1628640"/>
            <a:ext cx="707724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nk en horeca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Leeftijd/verstrekking/toe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tboek van straf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oediening/openbare dronken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0.5 prom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gemene Plaatselijke Ver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penbar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557360"/>
            <a:ext cx="7201080" cy="4896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4:39Z</dcterms:created>
  <dc:creator>Valued Acer Customer</dc:creator>
  <dc:description/>
  <dc:language>en-US</dc:language>
  <cp:lastModifiedBy>Valued Acer Customer</cp:lastModifiedBy>
  <dcterms:modified xsi:type="dcterms:W3CDTF">2012-03-15T10:06:02Z</dcterms:modified>
  <cp:revision>3</cp:revision>
  <dc:subject/>
  <dc:title>Sociale Hygiëne</dc:title>
</cp:coreProperties>
</file>