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C2AA-E65F-4F00-A3AC-8F6285858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343B-CAF3-44F7-A3AE-CFB4B4E630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C0D0-F724-4D4E-BD0A-3CB87DCFF9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CEFF-6DAF-4B1E-BED4-AA95876C6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71A4-DA1E-4DC0-A190-8073EA4AB7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0F8F-3E47-4741-8C25-11885CB19B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FE96-EF79-44ED-9AE4-64F739A0FC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23F-B240-482A-B39B-B642E3C1AF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3CF5-FEF4-4266-A23C-88D9DA635C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35A8-DAA9-48EA-BA68-DF5A8A524B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8BE-015B-447B-8EE9-8DE82F8A15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3881-B48B-43A3-A033-BC38DC8D07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C3CA-A4EC-4839-978C-5C4A5DA0DD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39EA-D077-47D6-94FA-1914A2B8A7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41F1-23F4-4A82-887F-414A50063B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832-43CB-43AB-9544-54B000C5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503-939E-4EFD-BD18-81F07BAC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C0D-F9CB-451E-B402-E10A5A8F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EF2-7F6F-4555-8FD4-D62FF512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AC0-D963-4FA3-ACCE-BE0C55B4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214-3A27-4B3D-B0E5-C0B43465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9DE-163F-4C3E-8F3A-5486A819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B76-5CBC-47BB-BE4A-0900659C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9B6-51D1-4237-9395-D1289D6B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756-D56A-40B4-B535-6B3CE7E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46F-0E40-4F95-A279-0F74AF0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CEB-0F44-4AE4-B822-FA406C64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673-387D-4E34-A387-FE716B0446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87280" y="2205000"/>
            <a:ext cx="70772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chtergronden risico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achtergro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onlijke probl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evingsfact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ultuur verschi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atschappelijke verande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116000" y="2060640"/>
            <a:ext cx="7058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fessionaliteit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ivm regels handha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kbekw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stger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uit beroepseth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equaat omgaan met risico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men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042920" y="1989000"/>
            <a:ext cx="7058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87280" y="2205000"/>
            <a:ext cx="7077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spreksmod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e verk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enlijke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orgen regelover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42920" y="1989000"/>
            <a:ext cx="6050160" cy="2808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87280" y="2205000"/>
            <a:ext cx="7077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en bij regel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lke overtre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ssistentie of dele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 bep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anneer optr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42920" y="1989000"/>
            <a:ext cx="691380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0920" y="981000"/>
            <a:ext cx="84978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1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fweg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en het gesp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waarschuwing                                  geef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 ruimte voor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buigen van de rea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gmaals waarschuwing               nogmaals 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5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ef/afdwingen sanc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79280" y="981000"/>
            <a:ext cx="8640720" cy="561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5"/>
          <p:cNvCxnSpPr/>
          <p:nvPr/>
        </p:nvCxnSpPr>
        <p:spPr>
          <a:xfrm>
            <a:off x="4500360" y="1557000"/>
            <a:ext cx="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Rechte verbindingslijn met pijl 6"/>
          <p:cNvCxnSpPr/>
          <p:nvPr/>
        </p:nvCxnSpPr>
        <p:spPr>
          <a:xfrm>
            <a:off x="2555640" y="3141720"/>
            <a:ext cx="43236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Rechte verbindingslijn met pijl 7"/>
          <p:cNvCxnSpPr/>
          <p:nvPr/>
        </p:nvCxnSpPr>
        <p:spPr>
          <a:xfrm>
            <a:off x="6588000" y="2421000"/>
            <a:ext cx="72144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Rechte verbindingslijn met pijl 8"/>
          <p:cNvCxnSpPr/>
          <p:nvPr/>
        </p:nvCxnSpPr>
        <p:spPr>
          <a:xfrm flipH="1">
            <a:off x="2555280" y="2349000"/>
            <a:ext cx="432360" cy="359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Rechte verbindingslijn met pijl 15"/>
          <p:cNvCxnSpPr/>
          <p:nvPr/>
        </p:nvCxnSpPr>
        <p:spPr>
          <a:xfrm flipH="1">
            <a:off x="2339280" y="4581000"/>
            <a:ext cx="577080" cy="28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Rechte verbindingslijn met pijl 16"/>
          <p:cNvCxnSpPr/>
          <p:nvPr/>
        </p:nvCxnSpPr>
        <p:spPr>
          <a:xfrm>
            <a:off x="4642920" y="3716280"/>
            <a:ext cx="1080" cy="65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Rechte verbindingslijn met pijl 17"/>
          <p:cNvCxnSpPr/>
          <p:nvPr/>
        </p:nvCxnSpPr>
        <p:spPr>
          <a:xfrm flipH="1">
            <a:off x="7740000" y="3141720"/>
            <a:ext cx="361080" cy="358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Rechte verbindingslijn met pijl 20"/>
          <p:cNvCxnSpPr/>
          <p:nvPr/>
        </p:nvCxnSpPr>
        <p:spPr>
          <a:xfrm flipH="1">
            <a:off x="7524000" y="5229360"/>
            <a:ext cx="935640" cy="7214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Rechte verbindingslijn met pijl 21"/>
          <p:cNvCxnSpPr/>
          <p:nvPr/>
        </p:nvCxnSpPr>
        <p:spPr>
          <a:xfrm>
            <a:off x="7885080" y="4508280"/>
            <a:ext cx="575280" cy="36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Rechte verbindingslijn met pijl 23"/>
          <p:cNvCxnSpPr/>
          <p:nvPr/>
        </p:nvCxnSpPr>
        <p:spPr>
          <a:xfrm>
            <a:off x="2340000" y="5445000"/>
            <a:ext cx="720000" cy="4327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66760" y="1504800"/>
            <a:ext cx="7077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fo uitwis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Z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ntv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igitale comm – in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naloge comm - betrek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484280"/>
            <a:ext cx="6050160" cy="32400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66760" y="1504800"/>
            <a:ext cx="7077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ontact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Oog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Voor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stand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fzo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484280"/>
            <a:ext cx="4392720" cy="316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66760" y="15048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Risico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Tegenwerken A/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gressief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Gewelddadig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Alcoholmis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Drugs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Poblematisch groeps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Crimineel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484280"/>
            <a:ext cx="6050160" cy="424980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genwerken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1 exc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2 ontk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1 kritiek op regel/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2 kritiek handhaving/sa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87280" y="2205000"/>
            <a:ext cx="70772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gressief gedrag (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i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d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elden               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Verb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ed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scrimin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sexueel)intimi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2060640"/>
            <a:ext cx="6050160" cy="374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87280" y="2205000"/>
            <a:ext cx="70772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C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g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anctie aan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187280" y="2205000"/>
            <a:ext cx="7077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weldadig gedrag (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Calibri"/>
              </a:rPr>
              <a:t>Fysi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042920" y="1916280"/>
            <a:ext cx="6337440" cy="2736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ociale Vaardighe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187280" y="2205000"/>
            <a:ext cx="70772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anpak D ge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rijf gedr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eutraliseer an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ken emo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ef gevolge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de orde 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042920" y="1989000"/>
            <a:ext cx="6050160" cy="374508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1:03Z</dcterms:created>
  <dc:creator>Valued Acer Customer</dc:creator>
  <dc:description/>
  <dc:language>en-US</dc:language>
  <cp:lastModifiedBy>Valued Acer Customer</cp:lastModifiedBy>
  <dcterms:modified xsi:type="dcterms:W3CDTF">2012-05-16T09:27:30Z</dcterms:modified>
  <cp:revision>3</cp:revision>
  <dc:subject/>
  <dc:title>Sociale Hygiëne</dc:title>
</cp:coreProperties>
</file>