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F558-E518-4544-9872-C972820999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9E8E-03DE-4407-AD55-591AEC42AD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E32E-0090-44C3-BD62-BFE13C3E54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uwbesl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richting (hoogte, grootte, indel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teria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we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strijden bran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veilig gebou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meldinstallatie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weg aandu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oodverli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lusmid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m. bouwverord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lekt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warming/kookapparatu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itgangen/vluchtwe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offering/versi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valverwe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gunning brandveilig gebru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plicht wann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dan 50 personen aanwez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nachting aan meer dan 10 pers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55D8-80B1-4144-97DE-243451FC9A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z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anuit dienstruimte 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drijfsruim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en uitga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hele bedrijf zichtba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piegels/cam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zich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bserv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anspre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lich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in lichtsterkte 50 lux één meter boven de gr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veiligde kas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roomklu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pers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lu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ijds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34E3-A4A2-4DB9-B41E-14BCDE1DDE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nbaar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obiel ook bij va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/inbraak/ov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me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tec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penbez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it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gazij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ackligh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bruik hard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3347-4F6D-4E24-BFEA-A8D40221B4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23B9-44C7-47BA-A530-CE2751DE20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oedersleutel altijd in het bezit van iemand die aanwezig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112F-3A0E-4015-BAA1-4066BA6736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nbaar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obiel ook bij va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/inbraak/over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me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tec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penbez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it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gazij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ackligh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bruik harddru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0C28-0134-4D57-9D4E-6322B513AB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inder dan 50 1BHV’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0 – 250 1BHV’er per 50 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dan 250 5BHV’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dan 1000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2C63-6B6C-418F-B64C-0AC82E903A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353-4F3A-47E4-BAEC-F94D2AA0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B08-3430-41FB-9CF6-987453A1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FBD-6FA5-4486-B851-3232F21F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E6C-2E4D-4C87-BAA6-F218EE7B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AFD-83BF-4874-98B4-95D45AD6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635-87A9-402E-8203-628DD90D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581-A4F5-43D8-958D-1BE715C5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437-0009-4E89-B23F-2A970239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DE4-A2E1-4C4C-AF3A-77D2C719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6A5-8858-41BC-858E-417C942B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0DD-DEC8-4C40-8140-CD996E3C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849-5458-4B2B-9ECB-914B542B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1E9A-B9E7-4E04-A868-CE03D56C01E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Inrichtingseisen worden gesteld a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pervlakte van de bedrijfs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ile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andpreven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55640" y="2205000"/>
            <a:ext cx="777708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tten en bepalingen brandpreven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ouwbesl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brandveilig gebouw bouw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gemeentelijke bouwverord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unning brandveilig gebru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684360" y="1989000"/>
            <a:ext cx="755964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ouwkundige voorzieni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z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ezi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eiligde kas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ilige klu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chnische voorzieni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syste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tectieappa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sluiting kostbare goe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ack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7201080" cy="3527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leutelbeh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87280" y="2205000"/>
            <a:ext cx="707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Inventarisa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umme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leutelkast (1 reserve sleute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verzicht toegankelijkhe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anneer op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1989000"/>
            <a:ext cx="7201080" cy="4392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leutelproced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87280" y="1841400"/>
            <a:ext cx="7077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welke sleut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mag openen/slui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op welk moment sleutel inlev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opent of slu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lke sleutels in de sleutelka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ie belast met ontrole/toezic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elden vermi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971640" y="1700280"/>
            <a:ext cx="7200720" cy="46814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205000"/>
            <a:ext cx="70772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chnische voorzienin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amera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syste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tectieappa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sluiting kostbare goe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ackl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89000"/>
            <a:ext cx="7201080" cy="3527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richtingseisen en voorzien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87280" y="22050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aken BHV-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lenen EHB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trijden/beperken b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/beperken ongeva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eren/evacu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armeren/samenwer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42920" y="1989000"/>
            <a:ext cx="7201080" cy="3527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8:20:25Z</dcterms:created>
  <dc:creator>Valued Acer Customer</dc:creator>
  <dc:description/>
  <dc:language>en-US</dc:language>
  <cp:lastModifiedBy>Valued Acer Customer</cp:lastModifiedBy>
  <dcterms:modified xsi:type="dcterms:W3CDTF">2012-03-15T09:21:15Z</dcterms:modified>
  <cp:revision>2</cp:revision>
  <dc:subject/>
  <dc:title>Dia 1</dc:title>
</cp:coreProperties>
</file>