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3FE0-E70A-4D6D-AD7E-25A7951C1C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F71C-4486-43ED-AC97-1971E6C2FD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pervlakte ten minsten 35 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ntilatie rechtstreeks op de buitenlu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wee van elkaar gescheiden toile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baar toi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zonderlijke ruimte om handen te wa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terspo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rechtstreeks toegangkel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ijterij ten minste 15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preven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raagbaar blustoestel Rijkskeurme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anghaspel NEN 3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aarlijkse erkende controle met label met da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6135-C49E-4568-AF7C-04CEE9BDA9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enigi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2 leidinggevende met dipl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erige medewerkers geïnstruee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praken over bereikbaarheid, alcoholbeleid in bestuursreg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8440-AD26-44F9-AF68-0C75A6DC80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pervlakte ten minsten 35 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ntilatie rechtstreeks op de buitenlu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wee van elkaar gescheiden toile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baar toi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zonderlijke ruimte om handen te wa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terspo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rechtstreeks toegangkel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ijterij ten minste 15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preven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raagbaar blustoestel Rijkskeurme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anghaspel NEN 3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aarlijkse erkende controle met label met da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B4C3-B7DB-4A37-A2EF-15CFD3AC14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pervlakte ten minsten 35 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ntilatie rechtstreeks op de buitenlu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wee van elkaar gescheiden toile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baar toi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zonderlijke ruimte om handen te wa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terspo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rechtstreeks toegangkel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ijterij ten minste 15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preven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raagbaar blustoestel Rijkskeurme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anghaspel NEN 3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aarlijkse erkende controle met label met da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EA91-35D7-4E09-8C98-29E41C86A6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pervlakte ten minsten 35 m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ntilatie rechtstreeks op de buitenluc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wee van elkaar gescheiden toilet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sluitbaar toi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zonderlijke ruimte om handen te was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terspo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rechtstreeks toegangkel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gte ten minste 2.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ijterij ten minste 15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andpreven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raagbaar blustoestel Rijkskeurme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langhaspel NEN 3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aarlijkse erkende controle met label met da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61C3-81F3-4D0F-A22B-4527343D6E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D70D-8468-4751-9ECD-81B5E5C2BC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7F9D-8151-4A84-8C62-809C5E0B64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AEAC-64C0-48DB-B8C2-F97C372D07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F49F-7B00-49F2-9C63-9A78E691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F2BB-60CB-4C58-9E02-0A145AD3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BA3B-2AC6-4105-AE28-2E2EDDAF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E1BD-1594-4DDD-AF14-0EE4D8C4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E655-AB35-421F-886C-22DD4993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E786-A4F9-4A11-85AD-888BE7D4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41E5-8A8F-49F9-8E80-461C3E09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A167-5330-425B-A139-E864AE25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4EB9-A667-4657-B819-8EC238EF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5014-BDF0-46FF-8132-92E69354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475E-4CD8-4FA9-BF95-D5281D0F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EEA1-523F-4E15-A3EB-2D269571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7618-CAC0-4372-AB6B-536378DFD94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500" spc="-1" strike="noStrike">
                <a:solidFill>
                  <a:srgbClr val="000000"/>
                </a:solidFill>
                <a:latin typeface="Calibri"/>
              </a:rPr>
              <a:t>Sociale Hygiëne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187280" y="3141720"/>
            <a:ext cx="707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alibri"/>
              </a:rPr>
              <a:t>Les 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059280" y="3357720"/>
            <a:ext cx="3313080" cy="122364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187280" y="1557360"/>
            <a:ext cx="6840720" cy="11509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lei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187280" y="2205000"/>
            <a:ext cx="70772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oor wie is Sociale Hygiën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Leidinggevend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enig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uurth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Horeca bedrijf waar alcohol wordt geschonk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042920" y="1989000"/>
            <a:ext cx="7201080" cy="4392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gunning Drank-en horecaw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187280" y="2205000"/>
            <a:ext cx="70772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gevens verstrekken over leid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ven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ijdens openingsuren altijd een leidinggegvende aanwezi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oor verenigingen afwijke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042920" y="1989000"/>
            <a:ext cx="7201080" cy="4032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naar ondernemersch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187280" y="2205000"/>
            <a:ext cx="70772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ier horecabranch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042920" y="1989000"/>
            <a:ext cx="7201080" cy="4032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naar ondernemersch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187280" y="2205000"/>
            <a:ext cx="7077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ier horecabranch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Logiesverstrekke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oedselverstrekke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rankverstrekkend gebruik ter plaats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rankverstrekkend gebruik th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042920" y="1989000"/>
            <a:ext cx="7201080" cy="4032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naar ondernemersch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9640" y="1628640"/>
            <a:ext cx="39610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Doelgroep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cholie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uders met kinde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oeris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Zakenmens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enio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lleen staan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68360" y="1628640"/>
            <a:ext cx="8280360" cy="4824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6"/>
          <p:cNvSpPr/>
          <p:nvPr/>
        </p:nvSpPr>
        <p:spPr>
          <a:xfrm>
            <a:off x="4572000" y="2060640"/>
            <a:ext cx="403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weeverdie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rkende jonge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llochtone jonge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uden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asten met veel vrije tijd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naar ondernemersch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116000" y="1844640"/>
            <a:ext cx="70772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edrijfsformule (de 6 P’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laa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at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ersone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ij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omot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042920" y="1628640"/>
            <a:ext cx="7201080" cy="460872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naar ondernemersch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187280" y="2205000"/>
            <a:ext cx="70772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astvrijheidsconce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Geboden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mgang klan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mgang gasten met elkaar en medewerk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042920" y="1989000"/>
            <a:ext cx="7201080" cy="4032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naar ondernemersch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187280" y="2205000"/>
            <a:ext cx="707724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Bedrijfform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Gastvrijheidsconce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bepal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Doelgroe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042920" y="1989000"/>
            <a:ext cx="7201080" cy="4032360"/>
          </a:xfrm>
          <a:prstGeom prst="rect">
            <a:avLst/>
          </a:prstGeom>
          <a:noFill/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4:21:07Z</dcterms:created>
  <dc:creator>Valued Acer Customer</dc:creator>
  <dc:description/>
  <dc:language>en-US</dc:language>
  <cp:lastModifiedBy>Valued Acer Customer</cp:lastModifiedBy>
  <dcterms:modified xsi:type="dcterms:W3CDTF">2012-03-15T15:08:50Z</dcterms:modified>
  <cp:revision>2</cp:revision>
  <dc:subject/>
  <dc:title>Sociale Hygiëne</dc:title>
</cp:coreProperties>
</file>