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177E-F45D-4F2C-9F23-4F6768C5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B545-5872-45ED-AC79-C4142380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103D-EDC4-4D40-A458-AEDB3F77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89DE-4793-4A0B-9E04-8759A67F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0DAC-831D-4BD9-9E99-7D914A14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5C28-1092-43F5-88B4-87FC3306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54B3-A941-4275-9CFD-2B30D3E0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B47D-892C-4154-A543-85F23E3D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04840" y="136080"/>
            <a:ext cx="65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788-99FB-44E5-A1AB-74430657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137E-ACEB-4472-8B17-7A430209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B0B1-1893-4FFE-94EE-94D4D8F9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2AA-FB2F-49AB-A13F-00AA5BE6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8E58-6EC0-4B4E-817B-EA84A393DEC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203640" y="458136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8c"/>
                </a:solidFill>
                <a:latin typeface="Verdana"/>
              </a:rPr>
              <a:t>NHB DEUR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3635280" y="404640"/>
            <a:ext cx="4969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8c"/>
                </a:solidFill>
                <a:latin typeface="Arial"/>
              </a:rPr>
              <a:t>Hoe leert de ruiter</a:t>
            </a:r>
            <a:endParaRPr b="0" lang="en-US" sz="5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Zelfkennis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dzakelijk voor iedere ruiter/instructeur: leer jezelf kennen want 9 van de 10 foutenzijn ruiterfout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ren paardrijden is karaktervormend: van zelfkennis wordt je b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 is je onbewuste lichaam leren luisteren naar je bewuste ge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oelen en motivatie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tivatie is belangrijker dan tal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r wat is motivati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k na over je drijfv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oelen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tivatie is belangrijker dan t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jouw motivatie?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Schrijf dat eens 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tivatie is niet te trainen maar je kunt er wel over nade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tivatie hangt samen met do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oelen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dagend maar ook realisti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lbare doelen doen de motivatie groe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realistische doelen doen de motivatie verdw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oelen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sultaatdo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statiedo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cesdo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Waar zit je z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 je doelen SM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procesdoelen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paal je eigen doelen! Wat wil je oefen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bijvoorbeeld een scoreformulier|: waar sta je nu en wat wil je verbeteren? ( rijprotocollen leiden als het goed is tot procesdoel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8c"/>
                </a:solidFill>
                <a:latin typeface="Arial"/>
              </a:rPr>
              <a:t>Leerstijlenonderzoek en trainingsstijlen</a:t>
            </a:r>
            <a:endParaRPr b="0" lang="en-US" sz="36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3640" y="1252440"/>
            <a:ext cx="85690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nsen leren verschillend en om hen te helpen makkelijk te ler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nen wij de volgende indeling van leer- en trainingsstij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Vo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concrete erva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Toepass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Observat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(doen)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(kijk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 zelf uitproberen)                                                               ( eerst zelf zien)                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Theorie (denk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leren door begrijp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3446640" y="3679920"/>
            <a:ext cx="215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Line 5"/>
          <p:cNvSpPr/>
          <p:nvPr/>
        </p:nvSpPr>
        <p:spPr>
          <a:xfrm flipV="1">
            <a:off x="3565440" y="30808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Line 6"/>
          <p:cNvSpPr/>
          <p:nvPr/>
        </p:nvSpPr>
        <p:spPr>
          <a:xfrm>
            <a:off x="1619280" y="3794040"/>
            <a:ext cx="464508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3538080" y="3922560"/>
            <a:ext cx="9720" cy="10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Leerstijlen 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jouw voorke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Ken jezelf            Doe de test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eer bij het lesgeven uit te gaan van je leerling! Maar weet ook: je leert het beste als je alle leerstijlen gebrui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IJL-RECHTS 3"/>
          <p:cNvSpPr/>
          <p:nvPr/>
        </p:nvSpPr>
        <p:spPr>
          <a:xfrm>
            <a:off x="3038400" y="3186000"/>
            <a:ext cx="978120" cy="4860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Voeler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0000"/>
                </a:solidFill>
                <a:latin typeface="Arial"/>
              </a:rPr>
              <a:t>Wil eerst gevoelsinformatie verzamelen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at zo iemand eerst gevoelsinformatie verzamelen door een nieuwe oefening uit te proberen, geef daarna pas uitleg en aanwijzi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IJL-RECHTS 3"/>
          <p:cNvSpPr/>
          <p:nvPr/>
        </p:nvSpPr>
        <p:spPr>
          <a:xfrm>
            <a:off x="716040" y="2708280"/>
            <a:ext cx="326880" cy="7308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oener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00000"/>
                </a:solidFill>
                <a:latin typeface="Arial"/>
              </a:rPr>
              <a:t>Wil gelijk uitproberen. Leert van dingen doen en houdt van experiment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f zo iemand een opdracht en laat hem ermee stoeien ( uitproberen en zelf ervaren wat lukt en wat niet, niet teveel theorie vooraf) . Gebruik de “oefenaanpak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IJL-RECHTS 4"/>
          <p:cNvSpPr/>
          <p:nvPr/>
        </p:nvSpPr>
        <p:spPr>
          <a:xfrm>
            <a:off x="826920" y="3716280"/>
            <a:ext cx="360360" cy="4608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kstvak 1"/>
          <p:cNvSpPr/>
          <p:nvPr/>
        </p:nvSpPr>
        <p:spPr>
          <a:xfrm>
            <a:off x="1763640" y="1844640"/>
            <a:ext cx="561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Leren paardrijden vergt inlevings- en aanpassingsvermogen!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zelfkennis is hierbij belangrij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IJL-RECHTS 2"/>
          <p:cNvSpPr/>
          <p:nvPr/>
        </p:nvSpPr>
        <p:spPr>
          <a:xfrm>
            <a:off x="1835280" y="44956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8c"/>
                </a:solidFill>
                <a:latin typeface="Arial"/>
              </a:rPr>
              <a:t>Kijker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0000"/>
                </a:solidFill>
                <a:latin typeface="Arial"/>
              </a:rPr>
              <a:t>Leert va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c00000"/>
                </a:solidFill>
                <a:latin typeface="Arial"/>
              </a:rPr>
              <a:t>kijken en nadoen, wil het eerst een keer gezien heb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      Geef zo iemand de tijd, laat hem/haar erover nadenken en doe het voor of laat het voor do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IJL-RECHTS 4"/>
          <p:cNvSpPr/>
          <p:nvPr/>
        </p:nvSpPr>
        <p:spPr>
          <a:xfrm>
            <a:off x="685800" y="3767040"/>
            <a:ext cx="957240" cy="28908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0000"/>
                </a:solidFill>
                <a:latin typeface="Arial"/>
              </a:rPr>
              <a:t>Leert vanuit de theorie: wil eerst informatie krijgen en dan pas doen. Houdt van gestructureerd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f zo iemand eerst uitleg en stel vragen. Zorg er wel voor dat hij/zij tot actie overgaat en niet eindeloos praat en denk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Denker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4" name="PIJL-RECHTS 2"/>
          <p:cNvSpPr/>
          <p:nvPr/>
        </p:nvSpPr>
        <p:spPr>
          <a:xfrm>
            <a:off x="685800" y="3795840"/>
            <a:ext cx="977760" cy="28080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Tot slot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iedereen leert op dezelfde man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instructeur moet je inspelen op verschi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keuzes heb 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rst beoefenen (praktijk) dan theorie (uitle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rst theorie (uitleg) en dan prakt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) Centraal en gestructureerd ( allen tegelij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) Individueel via een opdrac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8c"/>
                </a:solidFill>
                <a:latin typeface="Arial"/>
              </a:rPr>
              <a:t>Inzicht in eigen leerstijl en instructiestijl</a:t>
            </a:r>
            <a:endParaRPr b="0" lang="en-US" sz="40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ouw eigen leerstijl hangt samen met jouw instructiesti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 daarom jouw eigen voork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kstvak 1"/>
          <p:cNvSpPr/>
          <p:nvPr/>
        </p:nvSpPr>
        <p:spPr>
          <a:xfrm>
            <a:off x="755640" y="1916280"/>
            <a:ext cx="7272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Soms doet je lichaam niet wat je wilt: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Trainen is         je onbewuste lichaam leren luisteren naar je bewuste gee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IJL-RECHTS 3"/>
          <p:cNvSpPr/>
          <p:nvPr/>
        </p:nvSpPr>
        <p:spPr>
          <a:xfrm>
            <a:off x="3903840" y="387504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Gelijkbenige driehoek 1"/>
          <p:cNvSpPr/>
          <p:nvPr/>
        </p:nvSpPr>
        <p:spPr>
          <a:xfrm flipH="1">
            <a:off x="1907280" y="1052640"/>
            <a:ext cx="5256360" cy="43210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kstvak 1"/>
          <p:cNvSpPr/>
          <p:nvPr/>
        </p:nvSpPr>
        <p:spPr>
          <a:xfrm>
            <a:off x="755640" y="1916280"/>
            <a:ext cx="727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Het aanleren van een vaardigheid is heel veel oefenen totdat je het op de automatische piloot kunt        van bewust naar onbewu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IJL-RECHTS 3"/>
          <p:cNvSpPr/>
          <p:nvPr/>
        </p:nvSpPr>
        <p:spPr>
          <a:xfrm>
            <a:off x="2268360" y="450864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Het 4 staps leerproces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gaat dat ook alw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kstvak 1"/>
          <p:cNvSpPr/>
          <p:nvPr/>
        </p:nvSpPr>
        <p:spPr>
          <a:xfrm>
            <a:off x="755640" y="1916280"/>
            <a:ext cx="727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samenwerken van lichaam en geest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de automatische piloot: van bewust naar onbewu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IJL-RECHTS 3"/>
          <p:cNvSpPr/>
          <p:nvPr/>
        </p:nvSpPr>
        <p:spPr>
          <a:xfrm>
            <a:off x="971640" y="37893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04840" y="136080"/>
            <a:ext cx="65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leerprocessen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 doe je vooral bewust, in stadium 2 e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r je moet het ook los kunnen laten ( wedstrijd</a:t>
            </a: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)        Concentrat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IJL-RECHTS 3"/>
          <p:cNvSpPr/>
          <p:nvPr/>
        </p:nvSpPr>
        <p:spPr>
          <a:xfrm>
            <a:off x="3059280" y="3762360"/>
            <a:ext cx="979200" cy="4856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8c"/>
                </a:solidFill>
                <a:latin typeface="Arial"/>
              </a:rPr>
              <a:t>Concentratie: kun je leren!</a:t>
            </a:r>
            <a:endParaRPr b="0" lang="en-US" sz="4400" spc="-1" strike="noStrike">
              <a:solidFill>
                <a:srgbClr val="000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55280" y="2565000"/>
            <a:ext cx="70167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centra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 bezig zijn in het hier en 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dt jezelf bezig met zaken      waar je controle over h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Ik en mijn taak   !!!!!!!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IJL-RECHTS 3"/>
          <p:cNvSpPr/>
          <p:nvPr/>
        </p:nvSpPr>
        <p:spPr>
          <a:xfrm>
            <a:off x="795240" y="3546360"/>
            <a:ext cx="9795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IJL-RECHTS 6"/>
          <p:cNvSpPr/>
          <p:nvPr/>
        </p:nvSpPr>
        <p:spPr>
          <a:xfrm>
            <a:off x="826920" y="4292640"/>
            <a:ext cx="979560" cy="4856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IJL-RECHTS 7"/>
          <p:cNvSpPr/>
          <p:nvPr/>
        </p:nvSpPr>
        <p:spPr>
          <a:xfrm>
            <a:off x="826920" y="4915080"/>
            <a:ext cx="979560" cy="4838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Lotte van de rijt</cp:lastModifiedBy>
  <dcterms:modified xsi:type="dcterms:W3CDTF">2015-03-09T10:37:57Z</dcterms:modified>
  <cp:revision>60</cp:revision>
  <dc:subject/>
  <dc:title>PowerPoint-presentatie</dc:title>
</cp:coreProperties>
</file>