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FABE-1B72-4917-8435-A3555852B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DF2-3916-476E-84D8-7C490B03C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B2E7-159C-4D53-B9CD-B1EA39D682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6BA3-C801-4289-B177-9FFB484A39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3C0-784C-4A7D-83BD-38EB1BAFE1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C560-6D38-4228-9944-143A45BE19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2150-AD4D-4527-9470-93D70FD4D1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6FA3-24FA-438A-9348-9418B86EE5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CB10-1B9B-44EC-9C17-CA649E72B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FA59-9CEE-4E6C-A9CF-EFD834484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19E7-3D3C-4B31-AF95-1A87DD45BD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748-3E67-482E-9472-9D97451274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E3BC-EB67-416E-96C0-D915800B09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31E-1B73-4C71-B9FB-D7DF9176B7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D784-DF74-4B38-8578-9D2934F71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7320-5D38-46E2-B194-44822D03B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A06-5D28-4CA7-925B-EF729C7B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83C-6459-4F99-BCED-7DD94339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128-9D73-48F3-8FE3-F9285E03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AD6-7101-46CD-A121-777FC078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AEA-521C-4D59-90AC-0F8C698B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5F7-9EE7-4198-B20E-72647819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6BCC-C27A-4D4E-A9AA-A91B8B1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B89-7323-4B98-9D7E-D6BCF6E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1C6-5405-433D-8786-42FFBED6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A5E-A062-4925-8CB6-CEBFD046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C4D-28CB-4EA6-8A61-A88246C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2AE-EBBC-4D99-89F9-E01A90F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A3AE-88CE-44A2-9698-FB523ED7C61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71520" y="1709640"/>
            <a:ext cx="66009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323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166760" y="57168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0:20:04Z</dcterms:created>
  <dc:creator>Valued Acer Customer</dc:creator>
  <dc:description/>
  <dc:language>en-US</dc:language>
  <cp:lastModifiedBy>Valued Acer Customer</cp:lastModifiedBy>
  <dcterms:modified xsi:type="dcterms:W3CDTF">2012-03-15T10:21:50Z</dcterms:modified>
  <cp:revision>1</cp:revision>
  <dc:subject/>
  <dc:title>Dia 1</dc:title>
</cp:coreProperties>
</file>