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E3B0-82EE-42D5-8FC8-7A2803ABC4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E1D7-5876-4431-B6A3-C83F740E9B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F448-3622-4C44-8B08-96DA8B1704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18F6-E5B0-4046-9272-A39B1AD7AE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E33E-ECEA-47BA-9B95-A809DAFABE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02C9-05E9-4D4D-8662-C561D64DAA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9264-8F83-4F90-8493-ABB7AE4F77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A3C7-836E-469D-B0C9-F23CD83F47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BA27-FB56-472E-A6FC-F429D6EC2C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3F82-2FA7-4E1F-86FA-A5A0DC6CA4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20D7-F5D4-4430-AA1F-A625EB6CE0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57C5-F67A-45AF-BF58-5AB0B35E27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4BAF-7505-4209-8911-078CC53C2F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10AD-18F6-4CAA-9266-5E665CF2D0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1122-3916-4A59-849D-7999A0EEC2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F3F-C3C6-4BC5-AA2F-11551FFE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CE8-50E0-4E26-92C9-335F03A2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6F9-E32F-4CCC-9034-91AD95F9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D58-7956-4303-AC73-E44236F8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1D3-CC3F-4523-9EA0-65894F9A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AB1-9072-4F13-9E7B-30F108D7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B5E-CB33-4F97-8391-78651ABE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3E6-6345-49F3-B92B-226E6372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478-BB8F-40A4-BD41-963FE8A2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FF4-634E-44A3-9BC6-13DCC4FA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4F1-8DEA-4B52-BD0A-8ADDB4A8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FC6-A3B8-486F-BB32-17629EC9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72FC-1C37-4969-877C-369BE54D36E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87280" y="2205000"/>
            <a:ext cx="70772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chtergronden risico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ersoonlijke achtergro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ersoonlijke proble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gevingsfact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ultuur verschi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aatschappelijke verander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116000" y="2060640"/>
            <a:ext cx="7058160" cy="3744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ofessionaliteit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ivm regels handhav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kbekw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stger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uit beroepseth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equaat omgaan met risico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amen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042920" y="1989000"/>
            <a:ext cx="7058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spreksmode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e verk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enlijke regelovertr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orgen regelovertr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042920" y="1989000"/>
            <a:ext cx="6050160" cy="2808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87280" y="2205000"/>
            <a:ext cx="70772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fwegingen bij regelovertre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lke overtre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ssistentie of deleg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oel bepa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anneer optr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42920" y="1989000"/>
            <a:ext cx="691380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0920" y="981000"/>
            <a:ext cx="849780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1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fweg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2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en het gesp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f waarschuwing                                  geef sa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3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ef ruimte voor reac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4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buigen van de reac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ogmaals waarschuwing               nogmaals sa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5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ef/afdwingen sanc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79280" y="981000"/>
            <a:ext cx="8640720" cy="5616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Rechte verbindingslijn met pijl 5"/>
          <p:cNvCxnSpPr/>
          <p:nvPr/>
        </p:nvCxnSpPr>
        <p:spPr>
          <a:xfrm>
            <a:off x="4500360" y="1557000"/>
            <a:ext cx="108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Rechte verbindingslijn met pijl 6"/>
          <p:cNvCxnSpPr/>
          <p:nvPr/>
        </p:nvCxnSpPr>
        <p:spPr>
          <a:xfrm>
            <a:off x="2555640" y="3141720"/>
            <a:ext cx="432360" cy="288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Rechte verbindingslijn met pijl 7"/>
          <p:cNvCxnSpPr/>
          <p:nvPr/>
        </p:nvCxnSpPr>
        <p:spPr>
          <a:xfrm>
            <a:off x="6588000" y="2421000"/>
            <a:ext cx="721440" cy="288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Rechte verbindingslijn met pijl 8"/>
          <p:cNvCxnSpPr/>
          <p:nvPr/>
        </p:nvCxnSpPr>
        <p:spPr>
          <a:xfrm flipH="1">
            <a:off x="2555280" y="2349000"/>
            <a:ext cx="432360" cy="359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Rechte verbindingslijn met pijl 15"/>
          <p:cNvCxnSpPr/>
          <p:nvPr/>
        </p:nvCxnSpPr>
        <p:spPr>
          <a:xfrm flipH="1">
            <a:off x="2339280" y="4581000"/>
            <a:ext cx="577080" cy="28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Rechte verbindingslijn met pijl 16"/>
          <p:cNvCxnSpPr/>
          <p:nvPr/>
        </p:nvCxnSpPr>
        <p:spPr>
          <a:xfrm>
            <a:off x="4642920" y="3716280"/>
            <a:ext cx="1080" cy="650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Rechte verbindingslijn met pijl 17"/>
          <p:cNvCxnSpPr/>
          <p:nvPr/>
        </p:nvCxnSpPr>
        <p:spPr>
          <a:xfrm flipH="1">
            <a:off x="7740000" y="3141720"/>
            <a:ext cx="361080" cy="358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Rechte verbindingslijn met pijl 20"/>
          <p:cNvCxnSpPr/>
          <p:nvPr/>
        </p:nvCxnSpPr>
        <p:spPr>
          <a:xfrm flipH="1">
            <a:off x="7524000" y="5229360"/>
            <a:ext cx="935640" cy="721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Rechte verbindingslijn met pijl 21"/>
          <p:cNvCxnSpPr/>
          <p:nvPr/>
        </p:nvCxnSpPr>
        <p:spPr>
          <a:xfrm>
            <a:off x="7885080" y="4508280"/>
            <a:ext cx="575280" cy="36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Rechte verbindingslijn met pijl 23"/>
          <p:cNvCxnSpPr/>
          <p:nvPr/>
        </p:nvCxnSpPr>
        <p:spPr>
          <a:xfrm>
            <a:off x="2340000" y="5445000"/>
            <a:ext cx="720000" cy="4327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66760" y="15048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ommunic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fo uitwiss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Z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Ontv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Digitale comm – in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naloge comm - betrek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484280"/>
            <a:ext cx="6050160" cy="32400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166760" y="1504800"/>
            <a:ext cx="7077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ontact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Oog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Voor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fstand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fzo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42920" y="1484280"/>
            <a:ext cx="4392720" cy="3168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66760" y="1504800"/>
            <a:ext cx="70772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Risico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Tegenwerken A/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gressief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Gewelddadig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lcoholmis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Drugs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Poblematisch groeps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Crimineel 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484280"/>
            <a:ext cx="6050160" cy="42498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genwerkend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1 exc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2 ontke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1 kritiek op regel/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2 kritiek handhaving/sa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6050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87280" y="2205000"/>
            <a:ext cx="70772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gressief gedrag 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i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d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elden               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Verb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led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scrimin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sexueel)intimi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2060640"/>
            <a:ext cx="6050160" cy="3744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87280" y="2205000"/>
            <a:ext cx="70772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anpak C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g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 de orde 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anctie aan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042920" y="1989000"/>
            <a:ext cx="6050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205000"/>
            <a:ext cx="70772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weldadig gedrag (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nl-NL" sz="3600" spc="-1" strike="noStrike" u="sng">
                <a:solidFill>
                  <a:srgbClr val="000000"/>
                </a:solidFill>
                <a:uFillTx/>
                <a:latin typeface="Calibri"/>
              </a:rPr>
              <a:t>Fysi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16280"/>
            <a:ext cx="6337440" cy="2736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anpak D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rijf 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utraliseer an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ken emo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f gevolge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 de orde 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42920" y="1989000"/>
            <a:ext cx="6050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8:01:03Z</dcterms:created>
  <dc:creator>Valued Acer Customer</dc:creator>
  <dc:description/>
  <dc:language>en-US</dc:language>
  <cp:lastModifiedBy>Valued Acer Customer</cp:lastModifiedBy>
  <dcterms:modified xsi:type="dcterms:W3CDTF">2012-05-16T09:27:30Z</dcterms:modified>
  <cp:revision>3</cp:revision>
  <dc:subject/>
  <dc:title>Sociale Hygiëne</dc:title>
</cp:coreProperties>
</file>