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7A41-69B6-40F5-B0F8-8F5A0430EA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F4FF-9A48-498E-9B04-4C8D7B5068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3F28-DA39-47CD-8364-D5A91820E7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9180-B889-4FAC-A648-4E645404C0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248D-103B-4B89-8649-E4D4299B04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74CD-F654-4A10-877A-DD86B92482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E784-DF5E-42E5-9FF0-8597225E49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F317-6F6C-4F8C-889B-B0A5D7611F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0AAC-B721-4887-BECF-BE76A33FEA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5A8B-68F2-4D30-98A8-A9425C473A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1144-2A9B-4DEB-9400-C5BB7D9F0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77CE-F670-4906-A098-49C54C451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D7D1-3E3E-425B-AD6D-6A2C3436FA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F2E9-FC38-4EFA-A19C-D4BDBDC4DB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D9FC-50C9-412D-97E2-B34A6DE9FF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7C72-24DE-4C65-AFC8-EC60158132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966-6AFB-49FB-87DB-4123A2CA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DE7-AD69-481E-BDF6-E77E622D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70A-5CA5-4924-BF2F-3C0BC887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8F3-C909-429C-9154-048833B2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A76-BA67-4AA0-8C13-78D4486B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989-295D-4869-98E8-D91D2157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F31-4EAD-48CD-98F9-B5F375A9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108-E5C5-44C9-B5EF-6A562AAC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CA8-BF1F-4F7C-B87F-4968F9E4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F4B-8852-4ED7-83BC-4955BD1E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DA4-296B-41D2-8147-E0B9261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A80-67FB-4143-97FD-5266A210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C950-F573-4831-98AE-618184F94FF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271520" y="1709640"/>
            <a:ext cx="66009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323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0:20:04Z</dcterms:created>
  <dc:creator>Valued Acer Customer</dc:creator>
  <dc:description/>
  <dc:language>en-US</dc:language>
  <cp:lastModifiedBy>Valued Acer Customer</cp:lastModifiedBy>
  <dcterms:modified xsi:type="dcterms:W3CDTF">2012-03-15T10:21:50Z</dcterms:modified>
  <cp:revision>1</cp:revision>
  <dc:subject/>
  <dc:title>Dia 1</dc:title>
</cp:coreProperties>
</file>