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FD3E-D035-4868-B733-187C8BF12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D112-939D-4C34-AC83-BCCDDE397A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7CA7-FD99-4378-90BA-F81901C001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D609-41FA-4380-8F04-5E5C938BE2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5127-3801-4CD9-962B-BD5E7E3965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9AEF-534A-46EC-8036-79223DA69B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8CBD-1632-4A10-9597-0FDA3C437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E379-D83E-4E64-BD94-A86836DA73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17CC-CD7A-421E-A2CC-9D3A2CE928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A77-3E38-4640-8B1F-66AE5D89D3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80A9-98A5-4D42-A6E2-062AF64720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9271-B2FC-475B-93C6-1D51CA142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F2D-BC71-46B1-BBA9-B31949E9F8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DE3-0F31-4375-AE1F-9F8718D820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F3C4-E03A-41FE-9450-103DA093A9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E28-7F24-43DC-8E54-AE49422595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606-1327-4D54-8721-25D6878C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92A-4E3B-4AF5-AD0C-C303BA25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6D0-8D8D-422C-AD15-E2722FAE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2F8-7F43-4C45-BD2F-E884F2C0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39B-0C22-45F3-B9F2-39FEE421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D2F-C0D3-450D-8029-FBB352FF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D18-3294-41CB-A5F1-7B690590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34E-5617-485D-ADC3-FA76CFCA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DFE-B698-4DEF-8A4E-E336B4BA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EA1-F62B-4FA5-96F5-2E486C1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53C-DF42-468F-9E33-9CF89E32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3F3-9BC8-4D04-9E04-1488E6E1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6CD-A352-439D-9FA5-02FFDB66379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71520" y="1709640"/>
            <a:ext cx="66009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323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0:20:04Z</dcterms:created>
  <dc:creator>Valued Acer Customer</dc:creator>
  <dc:description/>
  <dc:language>en-US</dc:language>
  <cp:lastModifiedBy>Valued Acer Customer</cp:lastModifiedBy>
  <dcterms:modified xsi:type="dcterms:W3CDTF">2012-03-15T10:21:50Z</dcterms:modified>
  <cp:revision>1</cp:revision>
  <dc:subject/>
  <dc:title>Dia 1</dc:title>
</cp:coreProperties>
</file>