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0A4-6393-4921-95C3-FD3E28402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1EC3-9834-4366-A76D-95F998E74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493-A2CA-45CB-80D5-11ACA869C8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richting (hoogte, grootte, indel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ria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strijden bran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veilig gebou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meldinstallatie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 aandu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odverli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u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m. bouwvero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rming/kookapparatu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gangen/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offering/versi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valverw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plicht wan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50 personen aanwez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nachting aan meer dan 10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A4F-9448-4FBC-B3ED-D04EAF47E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nuit dienstruimte 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drijfsrui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en uitg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hele bedrijf zicht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iegels/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zic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erv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spr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 lichtsterkte 50 lux één meter boven de gr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roomkl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lu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107-1E7C-450F-B08D-9553AB736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BFE-B859-4436-99B0-EB836CD1F5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C63-BE29-4A12-AE8B-97E162386A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edersleutel altijd in het bezit van iemand die aanwezig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3DBD-06B5-4667-A1E0-488067E762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606-9241-405E-BC2C-1F560399E2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der dan 50 1BHV’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0 – 250 1BHV’er per 50 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250 5BHV’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1000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221-F32B-4A1F-93A0-8E979EF9F4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642-00C2-4974-B342-08EE37D6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23C-D5B9-4603-A46F-66257A96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984-0E24-4C77-9E3F-9EBCBF0D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487-6681-4C81-98B8-45E6E528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D99-59FA-4B01-B2B1-B94B538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24D-59D7-44E8-9485-6B7B2430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A79-F0BD-4964-8D31-2CB978D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CEA-AF92-45AC-B08B-254B049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426-0815-4874-876A-967BC5D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567-2824-4246-9F45-6D0E22E1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FF9-9126-45D7-BF9C-0FE700C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9E6-EF1B-470E-B952-85401AF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E78-E85E-4819-8E26-65271B79492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richtingseisen worden gesteld 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 van de bedrijfs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il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ndpreven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220500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ten en bepalingen brandpreve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randveilig gebouw bo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emeentelijke bouwverord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4360" y="1989000"/>
            <a:ext cx="755964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ouwkundig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ilige kl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ventaris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umm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leutelkast (1 reserve sleute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toegankelijkhe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1841400"/>
            <a:ext cx="7077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welke sleut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mag openen/slu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 welk moment sleutel inlev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ent of sl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sleutels in de sleutelk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belast met ontrole/toezi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lden vermi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71640" y="1700280"/>
            <a:ext cx="7200720" cy="46814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aken BHV-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enen EH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rijden/beperken b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/beperken ongev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evacu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samenwer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20:25Z</dcterms:created>
  <dc:creator>Valued Acer Customer</dc:creator>
  <dc:description/>
  <dc:language>en-US</dc:language>
  <cp:lastModifiedBy>Valued Acer Customer</cp:lastModifiedBy>
  <dcterms:modified xsi:type="dcterms:W3CDTF">2012-03-15T09:21:15Z</dcterms:modified>
  <cp:revision>2</cp:revision>
  <dc:subject/>
  <dc:title>Dia 1</dc:title>
</cp:coreProperties>
</file>