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8.jpeg" ContentType="image/jpeg"/>
  <Override PartName="/ppt/media/image5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7F8C4-5441-4909-BDA0-64760DB6510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CEDAA-6778-478A-AA47-AEF8F620AEC7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4F4A5-7F6B-47A6-88FD-185C0BCD35D2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08282-5FDD-4920-AD52-85ABD4E29958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BF33-DBAB-477F-A0BD-516620A59D2F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CF9FA-19CB-4206-AA7A-56DC006630A5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286F2-2EE7-4C5C-9EED-E398269AF109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16A2A-E375-4439-BC10-78ED8D9DE910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0402B-EBCC-4C84-B033-ACF7291E3117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4B849-CE85-4236-9A13-5016721FD628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8A201-5F06-4564-8F28-07D5803A4944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BB44B-7511-4E6E-A666-48D9CACE07CC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916CA-6C58-4C83-9D6C-C07085A58D0B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35608-B5E9-45A0-8F03-16FD122E5057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1F65D-5AF8-4793-A283-688D1B9A93D3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40D8D-995B-47B9-A76A-CDAA11318E08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333D7-0965-41BC-9920-20959C5C08DE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F5FE4-84DC-4AAE-B27D-A7E7D1354C1A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E8F5D-8E1F-47D5-B627-8267DF677925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1C61F-D876-4012-B361-E2A267528D2B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96C1-0EA7-4060-A76C-FA4B9DECF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146A-2BF5-4DFD-9F56-3641F30A9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EDCE-402F-448F-ADB3-A255E3C29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FE23-09AD-407B-889A-E42835D81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7FF6-3866-44A8-87BE-49E041997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6E0D-3E49-46A8-B3E5-9473D59DD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E5CD-0C34-4F25-8D19-640007FEF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E17A-2283-4FDB-86FF-1D018B2C7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1856-25E9-403A-92E5-23BA4B364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A187-8663-4F34-8EAA-1B5C2587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3D05-5145-486F-8369-0A33D47C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442B-6223-4BBA-A11D-7398D7B0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D22BF-9E91-4678-BA43-EAF30E80D28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devosarchitecten.nl/wp-content/uploads/ruzie.png&amp;imgrefurl=http://devosarchitecten.nl/%3Fpage_id%3D217&amp;usg=__Ur2itKiZFG9GNwgJvGligbylS1g=&amp;h=204&amp;w=340&amp;sz=39&amp;hl=nl&amp;start=5&amp;um=1&amp;tbnid=oM7WGA5bL_JWfM:&amp;tbnh=71&amp;tbnw=119&amp;prev=/images%3Fq%3Druzie%26ndsp%3D18%26hl%3Dnl%26rlz%3D1G1GGLQ_NLNL343%26sa%3DN%26um%3D1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lcohol en 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proost"/>
          <p:cNvPicPr/>
          <p:nvPr/>
        </p:nvPicPr>
        <p:blipFill>
          <a:blip r:embed="rId1"/>
          <a:stretch/>
        </p:blipFill>
        <p:spPr>
          <a:xfrm>
            <a:off x="3132000" y="1413000"/>
            <a:ext cx="2808360" cy="293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Verantwoord gebrui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7732440" y="2177640"/>
            <a:ext cx="152280" cy="30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1116000" y="1341360"/>
            <a:ext cx="712800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rink tenminste 2 dagen in een week geen alcoh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veel gedronken? Drink dan daarna 2 aaneengesloten dagen geen alcoh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alcohol wanneer je nog wilt werken, studeren of sport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alcohol in het verke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drinken als reactie op spanningen of persoonlijke proble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as op met alcohol bij medicijngebrui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abels over alcoh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662960" y="2069640"/>
            <a:ext cx="69840" cy="75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1116000" y="1844640"/>
            <a:ext cx="71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cohol is een stimulerend mid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BS_7414659_7414659_1078965b"/>
          <p:cNvPicPr/>
          <p:nvPr/>
        </p:nvPicPr>
        <p:blipFill>
          <a:blip r:embed="rId1"/>
          <a:stretch/>
        </p:blipFill>
        <p:spPr>
          <a:xfrm>
            <a:off x="2843280" y="2637000"/>
            <a:ext cx="2654280" cy="3881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abels over alcoh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662960" y="2069640"/>
            <a:ext cx="69840" cy="75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1116000" y="1844640"/>
            <a:ext cx="71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cohol is voedza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dyn002_original_150_184_gif_8616_87c028f65fc6995cf6f33eed40cbe252"/>
          <p:cNvPicPr/>
          <p:nvPr/>
        </p:nvPicPr>
        <p:blipFill>
          <a:blip r:embed="rId1"/>
          <a:stretch/>
        </p:blipFill>
        <p:spPr>
          <a:xfrm>
            <a:off x="2700360" y="2492280"/>
            <a:ext cx="3168720" cy="388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abels over alcoh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662960" y="2069640"/>
            <a:ext cx="69840" cy="75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1116000" y="1844640"/>
            <a:ext cx="71280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Je wordt weer nuchter door eten, bewegen, overgeven of in de frisse lucht lo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9" descr="kotsen"/>
          <p:cNvPicPr/>
          <p:nvPr/>
        </p:nvPicPr>
        <p:blipFill>
          <a:blip r:embed="rId1"/>
          <a:stretch/>
        </p:blipFill>
        <p:spPr>
          <a:xfrm>
            <a:off x="3132000" y="2852640"/>
            <a:ext cx="2513160" cy="3684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abels over alcoh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7662960" y="2069640"/>
            <a:ext cx="69840" cy="75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116000" y="1844640"/>
            <a:ext cx="712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lang ik niets voel van de alcohol, kan het geen kwa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123(1)"/>
          <p:cNvPicPr/>
          <p:nvPr/>
        </p:nvPicPr>
        <p:blipFill>
          <a:blip r:embed="rId1"/>
          <a:stretch/>
        </p:blipFill>
        <p:spPr>
          <a:xfrm>
            <a:off x="3276720" y="2565360"/>
            <a:ext cx="2693880" cy="3816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abels over alcoh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7662960" y="2069640"/>
            <a:ext cx="69840" cy="75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1116000" y="1844640"/>
            <a:ext cx="712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cohol verbroedert en veroorzaakt geen agress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ruzi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8000" y="2924280"/>
            <a:ext cx="4969080" cy="2963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abels over alcoh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7662960" y="2069640"/>
            <a:ext cx="69840" cy="75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116000" y="1844640"/>
            <a:ext cx="71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t alcohol op presteer ik be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1"/>
          <a:stretch/>
        </p:blipFill>
        <p:spPr>
          <a:xfrm>
            <a:off x="1835280" y="2421000"/>
            <a:ext cx="4721040" cy="320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abels over alcoh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7662960" y="2069640"/>
            <a:ext cx="69840" cy="75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1116000" y="1844640"/>
            <a:ext cx="71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leen de beste hersencellen blijven ov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Alcoholmisbruik"/>
          <p:cNvPicPr/>
          <p:nvPr/>
        </p:nvPicPr>
        <p:blipFill>
          <a:blip r:embed="rId1"/>
          <a:stretch/>
        </p:blipFill>
        <p:spPr>
          <a:xfrm>
            <a:off x="2916360" y="2492280"/>
            <a:ext cx="2857320" cy="3810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abels over alcoh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7662960" y="2069640"/>
            <a:ext cx="69840" cy="75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116000" y="1844640"/>
            <a:ext cx="71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cohol drinken is goed voor de nachtru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170021_962_1178806423800-kater_later_KL"/>
          <p:cNvPicPr/>
          <p:nvPr/>
        </p:nvPicPr>
        <p:blipFill>
          <a:blip r:embed="rId1"/>
          <a:stretch/>
        </p:blipFill>
        <p:spPr>
          <a:xfrm>
            <a:off x="1908000" y="2492280"/>
            <a:ext cx="5185080" cy="3986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Alcohol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geniet maar drink met mat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32000" y="5373360"/>
            <a:ext cx="640080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proost%20logo%20draft%20334"/>
          <p:cNvPicPr/>
          <p:nvPr/>
        </p:nvPicPr>
        <p:blipFill>
          <a:blip r:embed="rId1"/>
          <a:stretch/>
        </p:blipFill>
        <p:spPr>
          <a:xfrm>
            <a:off x="1979640" y="1700280"/>
            <a:ext cx="5273640" cy="2906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drankcontrole_3"/>
          <p:cNvPicPr/>
          <p:nvPr/>
        </p:nvPicPr>
        <p:blipFill>
          <a:blip r:embed="rId2"/>
          <a:stretch/>
        </p:blipFill>
        <p:spPr>
          <a:xfrm>
            <a:off x="3059280" y="3141720"/>
            <a:ext cx="2695320" cy="2028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at is Alcohol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32000" y="5373360"/>
            <a:ext cx="640080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1042920" y="1700280"/>
            <a:ext cx="734544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Scheikundige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formule van alcohol (ethanol): C2H5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 bier zit 5% alcoh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 wijn zit 12% alcoh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 gedistilleerd, zoals jenever zit 35%. alcoh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pname in het licha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32000" y="5373360"/>
            <a:ext cx="640080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1547640" y="1844640"/>
            <a:ext cx="619308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ond, slokdarm, maag (20%   opnamen in het blo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st wordt opgenomen in de dunne d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loed naar de lever, hier wordt alcohol afgebro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pname in het licha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32000" y="5373360"/>
            <a:ext cx="640080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547640" y="2421000"/>
            <a:ext cx="6193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 ca.10 min. komt de alcohol via het bloed in je herse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nneer alcohol in de hersenen komt ben je “onder invloe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at doet alcohol met j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32000" y="5373360"/>
            <a:ext cx="640080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1547640" y="1773360"/>
            <a:ext cx="640908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cohol verdooft de herse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eemt remmingen w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t voor een verminderd geheu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t voor een verminderd concentratie verm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elfkritiek neemt a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lcohol promil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32000" y="5373360"/>
            <a:ext cx="640080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1547640" y="1773360"/>
            <a:ext cx="64090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AG is het aantal gram alcohol per liter blo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ekse is van invloed op het bloedalcoholgehal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gvulling kan een rol spel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ichamelijke conditie en medicijngebruik zijn van invlo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lcohol promil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32000" y="5373360"/>
            <a:ext cx="640080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1547640" y="1773360"/>
            <a:ext cx="64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én standaardglas alcohol bevat 10 gram alcohol en leidt gemiddeld tot een promillage van 0,2 bij mannen en 0,3 bij vrouw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3059280" y="3052080"/>
            <a:ext cx="238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ardgla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Standaardglazen"/>
          <p:cNvPicPr/>
          <p:nvPr/>
        </p:nvPicPr>
        <p:blipFill>
          <a:blip r:embed="rId1"/>
          <a:stretch/>
        </p:blipFill>
        <p:spPr>
          <a:xfrm>
            <a:off x="826920" y="3789360"/>
            <a:ext cx="6985080" cy="1309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fbraak van alcoh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32000" y="5373360"/>
            <a:ext cx="640080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116000" y="1844640"/>
            <a:ext cx="71280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95% door l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5% via urine, adem en zwe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lever doet 1 á 1,5 uur over de afbraak van 1 standaardglas alcoh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Verantwoord gebrui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32000" y="5373360"/>
            <a:ext cx="640080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0" y="273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 "/>
          <p:cNvPicPr/>
          <p:nvPr/>
        </p:nvPicPr>
        <p:blipFill>
          <a:blip r:embed="rId1"/>
          <a:stretch/>
        </p:blipFill>
        <p:spPr>
          <a:xfrm>
            <a:off x="5508720" y="1413000"/>
            <a:ext cx="968400" cy="10792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7"/>
          <p:cNvSpPr/>
          <p:nvPr/>
        </p:nvSpPr>
        <p:spPr>
          <a:xfrm>
            <a:off x="624600" y="2282760"/>
            <a:ext cx="10852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olwassen mannen (18+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rink niet meer dan 2 standaardglazen alcohol per dag.        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                                          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756000" y="3643920"/>
            <a:ext cx="400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olwassen vrouwen (18+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 "/>
          <p:cNvPicPr/>
          <p:nvPr/>
        </p:nvPicPr>
        <p:blipFill>
          <a:blip r:embed="rId2"/>
          <a:stretch/>
        </p:blipFill>
        <p:spPr>
          <a:xfrm>
            <a:off x="5580000" y="3068640"/>
            <a:ext cx="874800" cy="115092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10"/>
          <p:cNvSpPr/>
          <p:nvPr/>
        </p:nvSpPr>
        <p:spPr>
          <a:xfrm>
            <a:off x="628560" y="4029840"/>
            <a:ext cx="746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rink niet meer dan 1 standaardglas alcohol per da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1T16:10:18Z</dcterms:created>
  <dc:creator>Koelewijn</dc:creator>
  <dc:description/>
  <dc:language>en-US</dc:language>
  <cp:lastModifiedBy>Elbert Koelewijn</cp:lastModifiedBy>
  <dcterms:modified xsi:type="dcterms:W3CDTF">2014-07-07T09:26:22Z</dcterms:modified>
  <cp:revision>12</cp:revision>
  <dc:subject/>
  <dc:title>Alcohol en jongeren</dc:title>
</cp:coreProperties>
</file>