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9753-6CB1-494B-8911-CC7F8627D3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582-877B-4E50-9F4F-EEFFE4E2E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0,5 – 15%, bier, wijn, premix, lichte shooters (10%), port, vermouth, sh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never, rum, shooters (20%), whisky, cognac, likeuren, zelf gemixte dran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189D-3FB0-40A1-B3D4-061DC669AF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01F1-B080-4FEA-BBF4-874A54558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9B7-A33D-4706-9236-57CFD7E82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BB4-F388-4C4F-A8EE-F5B1E48417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2D9F-FE6A-4BA1-9D40-EC8A15AC1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8EDF-2C45-43C2-A8B3-2E522C633C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E97-D51A-495B-97DB-162B1F65D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a de lever ca 9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glas ca 5 tot 6 kwarti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E18F-C183-4AF3-859A-AFC1B87EC5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slacht/gew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heid lichaamsvo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ote mensen/mannen m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alcohol nodig voo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steltijd is k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voelens worden verster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rder overgeven aan de effec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wezigheid vertraagd opnamen in het 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ugs/genee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t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9457-C869-493E-9F4D-72CE6FB091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9D8-AA40-4C6B-AFC2-8083E79B2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7548-71E5-4A02-9DA4-AA64A8591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3CB-A39B-427F-A29A-13D0E688C8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747-177E-42BA-AB6B-06F51834F0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203-356C-46B6-9ABE-7A120F689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EBA3-A1FF-4B61-996D-5E48B8CAA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E12-71DA-427F-BCAB-8E33E2F2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866-5224-456F-A55B-1DEB519B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98A-1A07-42AE-9AE5-8836BADD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337-48AC-401D-97D1-FA6C8555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FE2-0C1C-460C-95BE-7DA81D6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BF2-BC11-4ACF-9798-6437261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39C-FD9C-4E83-B4A7-B2AA0DF3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D47-CD04-4BFA-B619-CE516D4F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24C-DBA9-4062-9BAD-6FEA7A7D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D46-E367-46C7-A57F-37E47D4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4B1-AB6E-4AAF-B8FF-818F306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2F4-9FAE-42AF-B532-00DF2D6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164A-7560-4E38-B538-B601803F4B6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eftij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onger dan 16 jaar geen drank met meer dan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sterke drank onder d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kkelt hers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eft geestelijke en lichaamelijke eff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imul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aler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caïne,amfetamine,tabak,kof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dov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aperige 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lmerend en ont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roïne en opiaten,alcohol,slaa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87280" y="2205000"/>
            <a:ext cx="707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wustzijnverand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t dingen anders zien en b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sd,hasj,weed,paddo’s,tripmid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1916280"/>
            <a:ext cx="7077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ium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voor zowel hard- als soft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k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le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stre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wezig t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aar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t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reding = misdr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916280"/>
            <a:ext cx="7201080" cy="396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okversl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geld wordt er gespend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lang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manier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geving waarin hij sp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, Alcohol Ge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0,5 = 1cc bloed bevat halve milligram pur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ffect alcohol op lichaam en function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slacht en gew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mbi drugs/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tig alcohol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14 glazen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21 glazen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eidelijk verdeeld over d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positieve red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matig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situatie het toe 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198900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wust af en toe geen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rinken van wegen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en in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n wanneer je gezond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in combinatie met medicijnen/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eelneemt aan 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zwangerschap/borstvo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sportbeoef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cohol mis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 gevallen waarbij ongewenste effecten optreden voor gebruiker of zijn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1989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nmerken alcohol mis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oms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laten 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g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lies hand-oogcoörd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r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e t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60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1628640"/>
            <a:ext cx="70772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nk en horeca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Leeftijd/verstrekking/toe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boek van straf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oediening/openbare dronk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0.5 pro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Plaatselijke Ver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penbar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557360"/>
            <a:ext cx="7201080" cy="489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4:39Z</dcterms:created>
  <dc:creator>Valued Acer Customer</dc:creator>
  <dc:description/>
  <dc:language>en-US</dc:language>
  <cp:lastModifiedBy>Valued Acer Customer</cp:lastModifiedBy>
  <dcterms:modified xsi:type="dcterms:W3CDTF">2012-03-15T10:06:02Z</dcterms:modified>
  <cp:revision>3</cp:revision>
  <dc:subject/>
  <dc:title>Sociale Hygiëne</dc:title>
</cp:coreProperties>
</file>