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A5BD-8DB1-40CE-9658-D832065D115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6882-E3F9-46D3-8826-038BD0B0E51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B77E-8E43-4DA3-AE34-6664FBB8CF3D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4FB7-7680-423D-824D-463EDD9623E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3047-448A-4051-B5B5-A4CE19056651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F66B-D646-4DA8-9EC4-BC460E0EDFF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A3A7-4A6E-4726-B869-8430C7953C0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391C-C94A-4535-8855-3A09457C7C2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D5FF-040D-47C0-92B1-7575921B5072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8E78-971A-4172-8988-DF68B52A17A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E759-4232-4B6D-966C-1FF785AE55E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02C7-F8DF-454F-80E2-7EE9C288818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EBD9-CA06-4E1E-B579-5243DE661C3B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0F71-80C6-4EF4-904A-BA9AB514039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724F-8CFD-41A5-BA66-AFC7F31D754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F4C9-325D-4392-980A-A11B6782C12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ACA9-0B83-4EA6-B2D2-A7C9AB6AF8D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90B2-CFA8-4366-9AEA-EECBDDFD13E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F516-1C59-4FE9-A94E-2052A749351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09C7-9A34-4487-98FC-F09A54A2BE7D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2CB-57CD-4FB8-B373-813D01D8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55B6-7C83-47C6-B7AF-CA67C1C2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C0E-6E85-4E41-9C06-A840E796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9EA-8A27-44C0-8502-5E919E3D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0EF4-4969-4A26-8246-7C0B79AD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77E-72D9-40E3-9714-314C8A42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868F-434C-4F9C-84B3-3164DF64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6AF-41A6-440B-832B-45239D4D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3B8-4F5B-41A0-831F-3FA560C8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2FF-29BA-418B-ADB6-33BD2A07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27F-FAF0-46BB-9560-FECD1F33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789-439B-4151-82FD-467B7EAC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743D-FDE3-4242-9583-BAD36E99C7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devosarchitecten.nl/wp-content/uploads/ruzie.png&amp;imgrefurl=http://devosarchitecten.nl/%3Fpage_id%3D217&amp;usg=__Ur2itKiZFG9GNwgJvGligbylS1g=&amp;h=204&amp;w=340&amp;sz=39&amp;hl=nl&amp;start=5&amp;um=1&amp;tbnid=oM7WGA5bL_JWfM:&amp;tbnh=71&amp;tbnw=119&amp;prev=/images%3Fq%3Druzie%26ndsp%3D18%26hl%3Dnl%26rlz%3D1G1GGLQ_NLNL343%26sa%3DN%26um%3D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cohol en 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roost"/>
          <p:cNvPicPr/>
          <p:nvPr/>
        </p:nvPicPr>
        <p:blipFill>
          <a:blip r:embed="rId1"/>
          <a:stretch/>
        </p:blipFill>
        <p:spPr>
          <a:xfrm>
            <a:off x="3132000" y="1413000"/>
            <a:ext cx="2808360" cy="293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erantwoord gebru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732440" y="2177640"/>
            <a:ext cx="152280" cy="30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116000" y="1341360"/>
            <a:ext cx="71280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nk tenminste 2 dagen in een week geen alcoh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veel gedronken? Drink dan daarna 2 aaneengesloten dagen geen alcoh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alcohol wanneer je nog wilt werken, studeren of spor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alcohol in het verke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drinken als reactie op spanningen of persoonlijke probl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 op met alcohol bij medicijngebru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is een stimulerend mid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BS_7414659_7414659_1078965b"/>
          <p:cNvPicPr/>
          <p:nvPr/>
        </p:nvPicPr>
        <p:blipFill>
          <a:blip r:embed="rId1"/>
          <a:stretch/>
        </p:blipFill>
        <p:spPr>
          <a:xfrm>
            <a:off x="2843280" y="2637000"/>
            <a:ext cx="2654280" cy="388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is voedza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dyn002_original_150_184_gif_8616_87c028f65fc6995cf6f33eed40cbe252"/>
          <p:cNvPicPr/>
          <p:nvPr/>
        </p:nvPicPr>
        <p:blipFill>
          <a:blip r:embed="rId1"/>
          <a:stretch/>
        </p:blipFill>
        <p:spPr>
          <a:xfrm>
            <a:off x="2700360" y="2492280"/>
            <a:ext cx="316872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116000" y="1844640"/>
            <a:ext cx="7128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Je wordt weer nuchter door eten, bewegen, overgeven of in de frisse lucht l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kotsen"/>
          <p:cNvPicPr/>
          <p:nvPr/>
        </p:nvPicPr>
        <p:blipFill>
          <a:blip r:embed="rId1"/>
          <a:stretch/>
        </p:blipFill>
        <p:spPr>
          <a:xfrm>
            <a:off x="3132000" y="2852640"/>
            <a:ext cx="2513160" cy="368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16000" y="184464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lang ik niets voel van de alcohol, kan het geen kwa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123(1)"/>
          <p:cNvPicPr/>
          <p:nvPr/>
        </p:nvPicPr>
        <p:blipFill>
          <a:blip r:embed="rId1"/>
          <a:stretch/>
        </p:blipFill>
        <p:spPr>
          <a:xfrm>
            <a:off x="3276720" y="2565360"/>
            <a:ext cx="269388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116000" y="184464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verbroedert en veroorzaakt geen agress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ruz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2924280"/>
            <a:ext cx="4969080" cy="296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alcohol op presteer ik b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4721040" cy="32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de beste hersencellen blijven 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Alcoholmisbruik"/>
          <p:cNvPicPr/>
          <p:nvPr/>
        </p:nvPicPr>
        <p:blipFill>
          <a:blip r:embed="rId1"/>
          <a:stretch/>
        </p:blipFill>
        <p:spPr>
          <a:xfrm>
            <a:off x="2916360" y="2492280"/>
            <a:ext cx="285732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drinken is goed voor de nachtru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170021_962_1178806423800-kater_later_KL"/>
          <p:cNvPicPr/>
          <p:nvPr/>
        </p:nvPicPr>
        <p:blipFill>
          <a:blip r:embed="rId1"/>
          <a:stretch/>
        </p:blipFill>
        <p:spPr>
          <a:xfrm>
            <a:off x="1908000" y="2492280"/>
            <a:ext cx="5185080" cy="398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lcohol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niet maar drink met ma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roost%20logo%20draft%20334"/>
          <p:cNvPicPr/>
          <p:nvPr/>
        </p:nvPicPr>
        <p:blipFill>
          <a:blip r:embed="rId1"/>
          <a:stretch/>
        </p:blipFill>
        <p:spPr>
          <a:xfrm>
            <a:off x="1979640" y="1700280"/>
            <a:ext cx="5273640" cy="2906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rankcontrole_3"/>
          <p:cNvPicPr/>
          <p:nvPr/>
        </p:nvPicPr>
        <p:blipFill>
          <a:blip r:embed="rId2"/>
          <a:stretch/>
        </p:blipFill>
        <p:spPr>
          <a:xfrm>
            <a:off x="3059280" y="3141720"/>
            <a:ext cx="2695320" cy="202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is Alcoho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042920" y="1700280"/>
            <a:ext cx="734544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cheikundig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formule van alcohol (ethanol): C2H5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bier zit 5%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wijn zit 12%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gedistilleerd, zoals jenever zit 35%.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name in het licha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547640" y="1844640"/>
            <a:ext cx="6193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, slokdarm, maag (20%   opnamen in het blo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t wordt opgenomen in de dunne d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ed naar de lever, hier wordt alcohol afgebr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name in het licha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47640" y="2421000"/>
            <a:ext cx="619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 ca.10 min. komt de alcohol via het bloed in je hers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neer alcohol in de hersenen komt ben je “onder invlo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doet alcohol met j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547640" y="1773360"/>
            <a:ext cx="6409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verdooft de hers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emt remmingen w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een verminderd ge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een verminderd concentratie verm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lfkritiek neemt 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cohol promi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47640" y="1773360"/>
            <a:ext cx="6409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G is het aantal gram alcohol per liter blo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ekse is van invloed op het bloedalcoholgehal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gvulling kan een rol spe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conditie en medicijngebruik zijn van invlo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cohol promi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547640" y="177336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én standaardglas alcohol bevat 10 gram alcohol en leidt gemiddeld tot een promillage van 0,2 bij mannen en 0,3 bij vrouw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059280" y="3052080"/>
            <a:ext cx="238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ardgla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tandaardglazen"/>
          <p:cNvPicPr/>
          <p:nvPr/>
        </p:nvPicPr>
        <p:blipFill>
          <a:blip r:embed="rId1"/>
          <a:stretch/>
        </p:blipFill>
        <p:spPr>
          <a:xfrm>
            <a:off x="826920" y="3789360"/>
            <a:ext cx="6985080" cy="130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braak van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116000" y="1844640"/>
            <a:ext cx="7128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95% door l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5% via urine, adem en zwe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lever doet 1 á 1,5 uur over de afbraak van 1 standaardglas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erantwoord gebru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273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 "/>
          <p:cNvPicPr/>
          <p:nvPr/>
        </p:nvPicPr>
        <p:blipFill>
          <a:blip r:embed="rId1"/>
          <a:stretch/>
        </p:blipFill>
        <p:spPr>
          <a:xfrm>
            <a:off x="5508720" y="1413000"/>
            <a:ext cx="968400" cy="1079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624600" y="2282760"/>
            <a:ext cx="1085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lwassen mannen (18+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ink niet meer dan 2 standaardglazen alcohol per dag.        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756000" y="364392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lwassen vrouwen (18+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 "/>
          <p:cNvPicPr/>
          <p:nvPr/>
        </p:nvPicPr>
        <p:blipFill>
          <a:blip r:embed="rId2"/>
          <a:stretch/>
        </p:blipFill>
        <p:spPr>
          <a:xfrm>
            <a:off x="5580000" y="3068640"/>
            <a:ext cx="874800" cy="1150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0"/>
          <p:cNvSpPr/>
          <p:nvPr/>
        </p:nvSpPr>
        <p:spPr>
          <a:xfrm>
            <a:off x="628560" y="4029840"/>
            <a:ext cx="746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ink niet meer dan 1 standaardglas alcohol per d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10:18Z</dcterms:created>
  <dc:creator>Koelewijn</dc:creator>
  <dc:description/>
  <dc:language>en-US</dc:language>
  <cp:lastModifiedBy>Elbert Koelewijn</cp:lastModifiedBy>
  <dcterms:modified xsi:type="dcterms:W3CDTF">2014-07-07T09:26:22Z</dcterms:modified>
  <cp:revision>12</cp:revision>
  <dc:subject/>
  <dc:title>Alcohol en jongeren</dc:title>
</cp:coreProperties>
</file>