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A500-4CC1-462A-98DA-138F71FD4D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D2C4-958D-42C1-AE67-FD441B0468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6F1D-E34C-483D-874E-F4278D7514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enig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 leidinggevende met dipl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ige medewerkers geïnstruee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praken over bereikbaarheid, alcoholbeleid in bestuursreg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13F3-46DB-4982-B9AE-C90DD486A1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6211-EE72-4C54-9CF1-233633720B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C70E-4B74-46F8-AF42-53F93D7F95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885F-7C2E-4212-B23E-F7C635E830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6F2D-9CDF-4C94-8572-D0F713BC69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EAF2-5392-4599-8AC2-EDBB1ECD42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28D6-A031-47A6-A961-B5A3382113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8ED-41F7-419C-8EB2-004A2AD0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E5A-D066-4ABA-B163-6C386CD9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054-990F-4BC6-A6CD-2032366C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ED9-D7C5-48CD-B531-4FE80A52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74A-DDF0-4980-B2E5-9774DF60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5B4-6F77-4981-A61B-5D9F1277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ED2-2E52-4643-9A9D-C09184EC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7B8-26D8-4D08-B355-B005D287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336-3E36-443A-B2F9-018E0BCF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C7A-A6CF-4A6C-B371-A49FA10F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BCC-B1C5-4FB6-A371-9943223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69E-64E1-433D-A73D-118DD193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90D0-1BFB-438E-936B-A44E9740B52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or wie is Sociale Hygië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eidinggeven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enig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uurth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oreca bedrijf waar alcohol wordt geschonk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4392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gunning Drank-en horecaw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87280" y="2205000"/>
            <a:ext cx="7077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gevens verstrekken over lei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ve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ijdens openingsuren altijd een leidinggegvende aanwezi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or verenigingen afwij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ier horeca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ier horeca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ogiesverstrek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edselverstrek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ankverstrekkend gebruik ter plaats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ankverstrekkend gebruik th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9640" y="1628640"/>
            <a:ext cx="39610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oelgroe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choli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uders met kind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oeris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Zakenmens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enio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leen staa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628640"/>
            <a:ext cx="8280360" cy="482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6"/>
          <p:cNvSpPr/>
          <p:nvPr/>
        </p:nvSpPr>
        <p:spPr>
          <a:xfrm>
            <a:off x="4572000" y="206064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weeverdie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ende jong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lochtone jong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uden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asten met veel vrije tijd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116000" y="1844640"/>
            <a:ext cx="7077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drijfsformule (de 6 P’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laa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a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ne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ij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mo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42920" y="1628640"/>
            <a:ext cx="7201080" cy="4608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187280" y="2205000"/>
            <a:ext cx="7077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astvrijheids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bode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ang klan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ang gasten met elkaar en medewer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87280" y="2205000"/>
            <a:ext cx="70772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edrijfform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Gastvrijheids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pa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oelgroe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4:21:07Z</dcterms:created>
  <dc:creator>Valued Acer Customer</dc:creator>
  <dc:description/>
  <dc:language>en-US</dc:language>
  <cp:lastModifiedBy>Valued Acer Customer</cp:lastModifiedBy>
  <dcterms:modified xsi:type="dcterms:W3CDTF">2012-03-15T15:08:50Z</dcterms:modified>
  <cp:revision>2</cp:revision>
  <dc:subject/>
  <dc:title>Sociale Hygiëne</dc:title>
</cp:coreProperties>
</file>