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2062-1592-479A-9FD1-407419ECD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B19-7C89-4868-AB1A-53A1B1B76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0,5 – 15%, bier, wijn, premix, lichte shooters (10%), port, vermouth, sh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never, rum, shooters (20%), whisky, cognac, likeuren, zelf gemixte dran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6303-D109-4A0D-B32B-149D6389F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26DA-3305-40E4-9F42-C841D9E57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DDC-3E6E-4E9A-97AC-4A81661DD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6E8-926F-49F7-9392-1BFFC57021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6DA-27A2-4B2C-9491-C0A1B8D7E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C4A-4D71-434F-BA80-8B9904560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F00-5BCC-4DC3-9FAC-3F76A2AD2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a de lever ca 9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glas ca 5 tot 6 kwarti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E0C9-C3F0-441B-A2B1-61A80F899F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slacht/gew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heid lichaamsvo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ote mensen/mannen m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alcohol nodig voo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steltijd is k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voelens worden verster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rder overgeven aan de effec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wezigheid vertraagd opnamen in het 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ugs/genee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t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E63E-1154-40C2-9221-56D6FB317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ECA0-ECEF-453D-A0B1-80FB7BBDE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555A-8BFE-42DB-BC34-2E8BF9737E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9D0-2EC2-4171-AC24-2969BE13E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5D4-372B-4222-9388-85DCAF0E5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D52-8ACA-409A-B929-1FFC14A9B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D51-0763-4EEA-A4D4-E7315DB3C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9FD-5A71-446E-9BCB-D6FD7E8B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544-8EFF-4C22-893B-4832E7C6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B93-8C36-4C69-AA7C-07BA105B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54C-432D-482D-A329-B9162E28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342-EEC5-415C-B714-3F5E3F2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664-9173-4353-B341-4837D301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516-5096-4BC8-9319-4456C38E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2F4-1F98-4F63-A002-14C862C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B52-6ED6-45E3-8262-E6C87DC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E0F-6C39-416C-95FC-2C8A257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021-1B35-471F-A9B1-6A7F55B0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1AE-4C3F-4B5B-9624-9F6AAC7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E51B-255F-4583-B017-737B6DE100E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eftij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onger dan 16 jaar geen drank met meer dan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sterke drank onder d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kkelt hers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eft geestelijke en lichaamelijke eff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imul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aler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caïne,amfetamine,tabak,kof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dov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aperige 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lmerend en ont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roïne en opiaten,alcohol,slaa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87280" y="2205000"/>
            <a:ext cx="707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wustzijnverand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t dingen anders zien en b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sd,hasj,weed,paddo’s,tripmid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1916280"/>
            <a:ext cx="7077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ium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voor zowel hard- als soft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k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le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stre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wezig t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aar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t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reding = misdr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916280"/>
            <a:ext cx="7201080" cy="396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okversl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geld wordt er gespend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lang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manier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geving waarin hij sp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, Alcohol Ge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0,5 = 1cc bloed bevat halve milligram pur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ffect alcohol op lichaam en function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slacht en gew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mbi drugs/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tig alcohol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14 glazen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21 glazen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eidelijk verdeeld over d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positieve red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matig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situatie het toe 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198900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wust af en toe geen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rinken van wegen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en in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n wanneer je gezond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in combinatie met medicijnen/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eelneemt aan 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zwangerschap/borstvo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sportbeoef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cohol mis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 gevallen waarbij ongewenste effecten optreden voor gebruiker of zijn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1989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nmerken alcohol mis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oms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laten 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g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lies hand-oogcoörd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r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e t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60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1628640"/>
            <a:ext cx="70772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nk en horeca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Leeftijd/verstrekking/toe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boek van straf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oediening/openbare dronk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0.5 pro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Plaatselijke Ver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penbar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557360"/>
            <a:ext cx="7201080" cy="489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4:39Z</dcterms:created>
  <dc:creator>Valued Acer Customer</dc:creator>
  <dc:description/>
  <dc:language>en-US</dc:language>
  <cp:lastModifiedBy>Valued Acer Customer</cp:lastModifiedBy>
  <dcterms:modified xsi:type="dcterms:W3CDTF">2012-03-15T10:06:02Z</dcterms:modified>
  <cp:revision>3</cp:revision>
  <dc:subject/>
  <dc:title>Sociale Hygiëne</dc:title>
</cp:coreProperties>
</file>