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CBC-6622-483A-807B-4F57B2EF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569-A10B-4EAE-A158-6461828D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20A-F385-438E-9B5D-8B937A39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028-3C72-436F-8595-B9C874B0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06C-8DED-4545-9E1A-3472F276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216-DBC7-4BA5-9042-01A60978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C20-02A5-431E-A75C-F8F7A69B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D72-5807-483E-B4FC-6F6FA57E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04840" y="136080"/>
            <a:ext cx="65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D86-1805-4768-BBB5-E31C8BD3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4BB-3E51-42FE-A632-19B434D2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ACA-147F-4C08-BD7A-32ABCF5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D27-DA3D-4175-9249-D61C927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ADFB-17D7-40AA-B225-EE55002DF54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03640" y="4581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8c"/>
                </a:solidFill>
                <a:latin typeface="Verdana"/>
              </a:rPr>
              <a:t>NHB DEUR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635280" y="404640"/>
            <a:ext cx="496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8c"/>
                </a:solidFill>
                <a:latin typeface="Arial"/>
              </a:rPr>
              <a:t>Hoe leert de ruiter</a:t>
            </a:r>
            <a:endParaRPr b="0" lang="en-US" sz="5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Zelfkenni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dzakelijk voor iedere ruiter/instructeur: leer jezelf kennen want 9 van de 10 foutenzijn ruiterfou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paardrijden is karaktervormend: van zelfkennis wordt je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is je onbewuste lichaam leren luisteren naar je bewuste ge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 en motivatie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wat is motivati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na over je drijfv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motivatie?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Schrijf dat eens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niet te trainen maar je kunt er wel over nade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hangt samen met do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dagend maar ook realis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lbare doelen doen de motivatie gro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realistische doelen doen de motivatie verdw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ultaat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ces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aar zit je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 je doelen SM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proces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 je eigen doelen! Wat wil je oefen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bijvoorbeeld een scoreformulier|: waar sta je nu en wat wil je verbeteren? ( rijprotocollen leiden als het goed is tot procesdo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8c"/>
                </a:solidFill>
                <a:latin typeface="Arial"/>
              </a:rPr>
              <a:t>Leerstijlenonderzoek en trainingsstijlen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252440"/>
            <a:ext cx="85690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sen leren verschillend en om hen te helpen makkelijk te le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wij de volgende indeling van leer- en trainingsstij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concrete erva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oepass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Observa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doen)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kij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 zelf uitproberen)                                                               ( eerst zelf zien)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heorie (den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leren door begrij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446640" y="36799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3565440" y="3080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Line 6"/>
          <p:cNvSpPr/>
          <p:nvPr/>
        </p:nvSpPr>
        <p:spPr>
          <a:xfrm>
            <a:off x="1619280" y="3794040"/>
            <a:ext cx="4645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538080" y="3922560"/>
            <a:ext cx="972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stijlen 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voork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en jezelf            Doe de tes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eer bij het lesgeven uit te gaan van je leerling! Maar weet ook: je leert het beste als je alle leerstijlen gebru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IJL-RECHTS 3"/>
          <p:cNvSpPr/>
          <p:nvPr/>
        </p:nvSpPr>
        <p:spPr>
          <a:xfrm>
            <a:off x="3038400" y="318600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Voel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Wil eerst gevoelsinformatie verzamelen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at zo iemand eerst gevoelsinformatie verzamelen door een nieuwe oefening uit te proberen, geef daarna pas uitleg en aanwijz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IJL-RECHTS 3"/>
          <p:cNvSpPr/>
          <p:nvPr/>
        </p:nvSpPr>
        <p:spPr>
          <a:xfrm>
            <a:off x="716040" y="2708280"/>
            <a:ext cx="326880" cy="7308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n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0000"/>
                </a:solidFill>
                <a:latin typeface="Arial"/>
              </a:rPr>
              <a:t>Wil gelijk uitproberen. Leert van dingen doen en houdt van experiment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zo iemand een opdracht en laat hem ermee stoeien ( uitproberen en zelf ervaren wat lukt en wat niet, niet teveel theorie vooraf) . Gebruik de “oefenaanpak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IJL-RECHTS 4"/>
          <p:cNvSpPr/>
          <p:nvPr/>
        </p:nvSpPr>
        <p:spPr>
          <a:xfrm>
            <a:off x="826920" y="3716280"/>
            <a:ext cx="36036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kstvak 1"/>
          <p:cNvSpPr/>
          <p:nvPr/>
        </p:nvSpPr>
        <p:spPr>
          <a:xfrm>
            <a:off x="1763640" y="1844640"/>
            <a:ext cx="56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Leren paardrijden vergt inlevings- en aanpassingsvermogen!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elfkennis is hierbij belangrij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IJL-RECHTS 2"/>
          <p:cNvSpPr/>
          <p:nvPr/>
        </p:nvSpPr>
        <p:spPr>
          <a:xfrm>
            <a:off x="1835280" y="4495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Kijk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kijken en nadoen, wil het eerst een keer gezi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      Geef zo iemand de tijd, laat hem/haar erover nadenken en doe het voor of laat het voor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IJL-RECHTS 4"/>
          <p:cNvSpPr/>
          <p:nvPr/>
        </p:nvSpPr>
        <p:spPr>
          <a:xfrm>
            <a:off x="685800" y="3767040"/>
            <a:ext cx="957240" cy="2890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uit de theorie: wil eerst informatie krijgen en dan pas doen. Houdt van gestructureerd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zo iemand eerst uitleg en stel vragen. Zorg er wel voor dat hij/zij tot actie overgaat en niet eindeloos praat en den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enk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4" name="PIJL-RECHTS 2"/>
          <p:cNvSpPr/>
          <p:nvPr/>
        </p:nvSpPr>
        <p:spPr>
          <a:xfrm>
            <a:off x="685800" y="3795840"/>
            <a:ext cx="977760" cy="2808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Tot slo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iedereen leert op dezelfde man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nstructeur moet je inspelen op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keuzes heb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beoefenen (praktijk) dan theorie (uitl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theorie (uitleg) en dan prakt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) Centraal en gestructureerd ( allen te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) Individueel via een opdra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Inzicht in eigen leerstijl en instructiestij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ouw eigen leerstijl hangt samen met jouw instructie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 daarom jouw eigen voork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kstvak 1"/>
          <p:cNvSpPr/>
          <p:nvPr/>
        </p:nvSpPr>
        <p:spPr>
          <a:xfrm>
            <a:off x="755640" y="1916280"/>
            <a:ext cx="72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oms doet je lichaam niet wat je wilt: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Trainen is         je onbewuste lichaam leren luisteren naar je bewuste ge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IJL-RECHTS 3"/>
          <p:cNvSpPr/>
          <p:nvPr/>
        </p:nvSpPr>
        <p:spPr>
          <a:xfrm>
            <a:off x="3903840" y="38750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Gelijkbenige driehoek 1"/>
          <p:cNvSpPr/>
          <p:nvPr/>
        </p:nvSpPr>
        <p:spPr>
          <a:xfrm flipH="1">
            <a:off x="1907280" y="1052640"/>
            <a:ext cx="5256360" cy="4321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aanleren van een vaardigheid is heel veel oefenen totdat je het op de automatische piloot kunt       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IJL-RECHTS 3"/>
          <p:cNvSpPr/>
          <p:nvPr/>
        </p:nvSpPr>
        <p:spPr>
          <a:xfrm>
            <a:off x="2268360" y="45086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Het 4 staps leerproce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gaat dat ook alw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amenwerken van lichaam en geest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de automatische piloot: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IJL-RECHTS 3"/>
          <p:cNvSpPr/>
          <p:nvPr/>
        </p:nvSpPr>
        <p:spPr>
          <a:xfrm>
            <a:off x="971640" y="3789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process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doe je vooral bewust, in stadium 2 e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je moet het ook los kunnen laten ( wedstrijd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)        Concentrat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IJL-RECHTS 3"/>
          <p:cNvSpPr/>
          <p:nvPr/>
        </p:nvSpPr>
        <p:spPr>
          <a:xfrm>
            <a:off x="3059280" y="376236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Concentratie: kun je leren!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280" y="2565000"/>
            <a:ext cx="70167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cent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bezig zijn in het hier en 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t jezelf bezig met zaken      waar je controle over h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k en mijn taak   !!!!!!!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3"/>
          <p:cNvSpPr/>
          <p:nvPr/>
        </p:nvSpPr>
        <p:spPr>
          <a:xfrm>
            <a:off x="795240" y="354636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IJL-RECHTS 6"/>
          <p:cNvSpPr/>
          <p:nvPr/>
        </p:nvSpPr>
        <p:spPr>
          <a:xfrm>
            <a:off x="826920" y="429264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IJL-RECHTS 7"/>
          <p:cNvSpPr/>
          <p:nvPr/>
        </p:nvSpPr>
        <p:spPr>
          <a:xfrm>
            <a:off x="826920" y="4915080"/>
            <a:ext cx="979560" cy="483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Lotte van de rijt</cp:lastModifiedBy>
  <dcterms:modified xsi:type="dcterms:W3CDTF">2015-03-09T10:37:57Z</dcterms:modified>
  <cp:revision>60</cp:revision>
  <dc:subject/>
  <dc:title>PowerPoint-presentatie</dc:title>
</cp:coreProperties>
</file>