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2083-92E9-4E45-93B5-097D6142A3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DF40-AAA3-4215-8F24-FD2A85855B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D0C-733F-41C6-B139-EB0B148713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27EE-D160-485D-AE9B-239AA2B77D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96B7-222C-48E9-B740-014540D1AC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6EC6-BC9F-451F-A5BF-15FDFB04F8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7302-920F-4264-9959-DF2162EB76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0EC-0A1B-46B4-9037-59BCE457DF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CA82-5901-4524-ACE4-A257A300AD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3F24-15D9-40A2-BCDD-0F19E331A2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0E53-1586-4045-B7D4-FF0BE1DAC5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41E3-6347-4A5C-AE45-52A15E9AD0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D116-5334-4FEA-BC87-34CCFD7D66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66A2-BC59-469F-948C-A244B4CFAF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BF8E-E980-4EC0-A1FE-86715D80EC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17F-3C25-4BCE-A82B-EF1E0A1D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544-33AF-4CE7-8930-F5D8EE57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B10-9CFC-4616-813B-4B6906ED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71A-74BC-486F-890A-CE0667C5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C68-0F88-473A-BA4F-53EC5F6B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543-AF33-43F6-9522-772AA3D9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077-ECA3-4549-9117-7B7FBF76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01E-16AD-4425-9067-B38A095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17F-93D2-4E08-A85E-7822D85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EAC-2B00-438A-929D-6A8BADE7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4B0-DC26-466D-9007-B145E76D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FAA-84A8-4336-AB2E-1E389CEF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CA0A-40DE-4B25-9ABA-6C474A14F56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chtergronden risico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achtergro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probl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evings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ultuur verschi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atschappelijke verande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116000" y="2060640"/>
            <a:ext cx="7058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fessionaliteit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ivm regels handha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kbekw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stger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beroepseth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equaat omgaan met risico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058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spreksmod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e verk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enlijke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orgen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6050160" cy="2808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en bij regel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ssistentie of dele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 bep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tr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691380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0920" y="981000"/>
            <a:ext cx="84978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1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en het gesp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waarschuwing                                  geef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 ruimte voor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buigen van de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gmaals waarschuwing               nogmaals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5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/afdwingen san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9280" y="981000"/>
            <a:ext cx="8640720" cy="561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5"/>
          <p:cNvCxnSpPr/>
          <p:nvPr/>
        </p:nvCxnSpPr>
        <p:spPr>
          <a:xfrm>
            <a:off x="4500360" y="1557000"/>
            <a:ext cx="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Rechte verbindingslijn met pijl 6"/>
          <p:cNvCxnSpPr/>
          <p:nvPr/>
        </p:nvCxnSpPr>
        <p:spPr>
          <a:xfrm>
            <a:off x="2555640" y="3141720"/>
            <a:ext cx="43236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Rechte verbindingslijn met pijl 7"/>
          <p:cNvCxnSpPr/>
          <p:nvPr/>
        </p:nvCxnSpPr>
        <p:spPr>
          <a:xfrm>
            <a:off x="6588000" y="2421000"/>
            <a:ext cx="72144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Rechte verbindingslijn met pijl 8"/>
          <p:cNvCxnSpPr/>
          <p:nvPr/>
        </p:nvCxnSpPr>
        <p:spPr>
          <a:xfrm flipH="1">
            <a:off x="2555280" y="2349000"/>
            <a:ext cx="432360" cy="359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Rechte verbindingslijn met pijl 15"/>
          <p:cNvCxnSpPr/>
          <p:nvPr/>
        </p:nvCxnSpPr>
        <p:spPr>
          <a:xfrm flipH="1">
            <a:off x="2339280" y="4581000"/>
            <a:ext cx="577080" cy="28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Rechte verbindingslijn met pijl 16"/>
          <p:cNvCxnSpPr/>
          <p:nvPr/>
        </p:nvCxnSpPr>
        <p:spPr>
          <a:xfrm>
            <a:off x="4642920" y="3716280"/>
            <a:ext cx="1080" cy="65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Rechte verbindingslijn met pijl 17"/>
          <p:cNvCxnSpPr/>
          <p:nvPr/>
        </p:nvCxnSpPr>
        <p:spPr>
          <a:xfrm flipH="1">
            <a:off x="7740000" y="3141720"/>
            <a:ext cx="361080" cy="358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Rechte verbindingslijn met pijl 20"/>
          <p:cNvCxnSpPr/>
          <p:nvPr/>
        </p:nvCxnSpPr>
        <p:spPr>
          <a:xfrm flipH="1">
            <a:off x="7524000" y="5229360"/>
            <a:ext cx="935640" cy="72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Rechte verbindingslijn met pijl 21"/>
          <p:cNvCxnSpPr/>
          <p:nvPr/>
        </p:nvCxnSpPr>
        <p:spPr>
          <a:xfrm>
            <a:off x="7885080" y="4508280"/>
            <a:ext cx="575280" cy="36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Rechte verbindingslijn met pijl 23"/>
          <p:cNvCxnSpPr/>
          <p:nvPr/>
        </p:nvCxnSpPr>
        <p:spPr>
          <a:xfrm>
            <a:off x="2340000" y="5445000"/>
            <a:ext cx="720000" cy="432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66760" y="15048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fo uitwis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Z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nt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igitale comm – in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naloge comm - betre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484280"/>
            <a:ext cx="6050160" cy="3240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66760" y="1504800"/>
            <a:ext cx="7077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ntact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og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Voor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stand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zo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484280"/>
            <a:ext cx="4392720" cy="316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66760" y="15048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Risico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egenwerken A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gressief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Gewelddadig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lcoholmis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rugs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Poblematisch groeps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Crimineel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484280"/>
            <a:ext cx="6050160" cy="42498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genwerken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1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2 ontk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1 kritiek op regel/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2 kritiek handhaving/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gressief gedrag 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i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d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elden               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Verb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e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scrimin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sexueel)intimi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2060640"/>
            <a:ext cx="6050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C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g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nctie aan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weldadig gedrag (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Fysi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16280"/>
            <a:ext cx="6337440" cy="273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f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traliseer 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ken emo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gevolg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1:03Z</dcterms:created>
  <dc:creator>Valued Acer Customer</dc:creator>
  <dc:description/>
  <dc:language>en-US</dc:language>
  <cp:lastModifiedBy>Valued Acer Customer</cp:lastModifiedBy>
  <dcterms:modified xsi:type="dcterms:W3CDTF">2012-05-16T09:27:30Z</dcterms:modified>
  <cp:revision>3</cp:revision>
  <dc:subject/>
  <dc:title>Sociale Hygiëne</dc:title>
</cp:coreProperties>
</file>