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E68A-2F2A-4D60-8B24-52640A3E28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420D-872C-463D-9F29-CFE9FFF340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1A9E-5A91-481F-8AD4-E1BAD42E3F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enigi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2 leidinggevende met dipl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erige medewerkers geïnstruee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praken over bereikbaarheid, alcoholbeleid in bestuursreg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98C5-2BEE-4887-A19D-0CB4A062EA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A4D3-9E0C-40A4-A6BC-9BC42DA2A1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55FD-9899-48ED-B1E1-A51689083A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9181-D242-45A1-913C-DC309CD1A2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0A87-3515-4D11-86D2-3D3BC9C650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9134-02E7-413A-ACFC-54AB2CEE3A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5483-225C-4FF6-804A-8CD2933D73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5913-86C4-44D8-BC36-B2A2A109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E16-F584-4E97-B03C-E79DAC80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563B-417A-4740-9C62-14870B47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3B4D-54CE-4F55-84A3-003BA1A7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F7A3-5F53-4D74-A918-EB395E95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A76-C9AB-4E57-8236-948C314F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FE16-B02B-433C-B6AA-B8765AF9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22B7-D265-4BC0-B0B3-B2BC5757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847B-FD66-45C9-806C-65E3D634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7F8-469C-47E7-B86D-8B66DC71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EB6-DBBA-47A0-A215-41D4E91C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C32B-83CC-42D0-B571-70BAF002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8FC9-B74B-4837-ABE9-AC0B2F2C0F5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500" spc="-1" strike="noStrike">
                <a:solidFill>
                  <a:srgbClr val="000000"/>
                </a:solidFill>
                <a:latin typeface="Calibri"/>
              </a:rPr>
              <a:t>Sociale Hygiëne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280" y="3141720"/>
            <a:ext cx="70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es 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59280" y="3357720"/>
            <a:ext cx="3313080" cy="1223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87280" y="1557360"/>
            <a:ext cx="6840720" cy="11509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lei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187280" y="2205000"/>
            <a:ext cx="70772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oor wie is Sociale Hygiën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Leidinggevend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enig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uurth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Horeca bedrijf waar alcohol wordt geschonk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042920" y="1989000"/>
            <a:ext cx="7201080" cy="4392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gunning Drank-en horecaw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187280" y="2205000"/>
            <a:ext cx="70772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gevens verstrekken over lei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ven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ijdens openingsuren altijd een leidinggegvende aanwezi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oor verenigingen afwijke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187280" y="2205000"/>
            <a:ext cx="70772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ier horecabran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87280" y="2205000"/>
            <a:ext cx="7077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ier horecabran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Logiesverstrekke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oedselverstrekke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rankverstrekkend gebruik ter plaats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rankverstrekkend gebruik th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9640" y="1628640"/>
            <a:ext cx="39610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oelgroep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choli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uders met kind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oeris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Zakenmens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enio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lleen staan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628640"/>
            <a:ext cx="8280360" cy="4824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6"/>
          <p:cNvSpPr/>
          <p:nvPr/>
        </p:nvSpPr>
        <p:spPr>
          <a:xfrm>
            <a:off x="4572000" y="2060640"/>
            <a:ext cx="403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weeverdie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rkende jong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llochtone jong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uden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asten met veel vrije tijd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116000" y="1844640"/>
            <a:ext cx="70772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edrijfsformule (de 6 P’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laa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a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ersone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ij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omo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042920" y="1628640"/>
            <a:ext cx="7201080" cy="4608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187280" y="2205000"/>
            <a:ext cx="70772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astvrijheidsconce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boden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mgang klan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mgang gasten met elkaar en medewer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187280" y="2205000"/>
            <a:ext cx="707724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Bedrijfform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Gastvrijheidsconce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epal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Doelgroe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4:21:07Z</dcterms:created>
  <dc:creator>Valued Acer Customer</dc:creator>
  <dc:description/>
  <dc:language>en-US</dc:language>
  <cp:lastModifiedBy>Valued Acer Customer</cp:lastModifiedBy>
  <dcterms:modified xsi:type="dcterms:W3CDTF">2012-03-15T15:08:50Z</dcterms:modified>
  <cp:revision>2</cp:revision>
  <dc:subject/>
  <dc:title>Sociale Hygiëne</dc:title>
</cp:coreProperties>
</file>