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DA74-D994-46AC-80F2-12CF937A3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9049-E7FE-4EC8-BD72-3639218409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425D-385F-48A5-9168-813A2DF8D0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richting (hoogte, grootte, indel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ria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strijden bran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veilig gebou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meldinstallatie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 aandu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odverli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u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m. bouwvero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kt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rming/kookapparatu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gangen/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offering/versi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valverw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plicht wan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50 personen aanwez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nachting aan meer dan 10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70DD-3FFD-454B-9169-7D352A81C4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anuit dienstruimte 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drijfsruim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en uitga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hele bedrijf zichtb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piegels/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zic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bserv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spre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 lichtsterkte 50 lux één meter boven de gr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roomklu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lu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ijds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7E69-8705-41F9-A329-50902C88CB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46AA-C091-4255-8A70-C111F5C436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8535-6977-463C-BDD8-57077EF02E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edersleutel altijd in het bezit van iemand die aanwezig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9E6C-83BD-4189-8A8E-202A2ADF60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506B-FC2C-4C31-A5C0-B7A108AD87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der dan 50 1BHV’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0 – 250 1BHV’er per 50 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250 5BHV’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1000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9319-D844-44BA-B8E7-737DE50C12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E3E-0192-4219-BC44-25078254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DF5-D532-46CC-A75D-FD5269E4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9B0-A63F-41EF-AB5A-D1183912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701-1B7B-4C88-8E8B-2D83F242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837-350C-42ED-8628-4059D738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765-B971-4E8E-BA89-68DB0B0E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45B-A0FF-4E98-93D6-2CF3798F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6C3-75D3-453F-9870-02865B05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E0B-9736-48BC-8999-1C51CAC0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C00-1E75-4AB9-99B3-40B5ABB8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385-6B16-4571-AD22-58C072C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7C0-76A5-453E-A706-E9AB3933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8A8-94D4-4BFC-A2A1-9C63C7353CB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richtingseisen worden gesteld 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pervlakte van de bedrijfs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il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andpreven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55640" y="2205000"/>
            <a:ext cx="7777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tten en bepalingen brandpreve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brandveilig gebouw bou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gemeentelijke bouwverord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4360" y="1989000"/>
            <a:ext cx="755964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ouwkundig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ilige kl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beh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ventaris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umm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leutelkast (1 reserve sleute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verzicht toegankelijkhe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1841400"/>
            <a:ext cx="7077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welke sleut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mag openen/slui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 welk moment sleutel inlev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ent of slu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sleutels in de sleutelk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belast met ontrole/toezic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lden vermi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71640" y="1700280"/>
            <a:ext cx="7200720" cy="46814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aken BHV-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enen EH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trijden/beperken b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/beperken ongev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evacu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samenwer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20:25Z</dcterms:created>
  <dc:creator>Valued Acer Customer</dc:creator>
  <dc:description/>
  <dc:language>en-US</dc:language>
  <cp:lastModifiedBy>Valued Acer Customer</cp:lastModifiedBy>
  <dcterms:modified xsi:type="dcterms:W3CDTF">2012-03-15T09:21:15Z</dcterms:modified>
  <cp:revision>2</cp:revision>
  <dc:subject/>
  <dc:title>Dia 1</dc:title>
</cp:coreProperties>
</file>