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F546-09EE-4ADF-BC00-66C7D7EC8A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dagelijksevoedingsrichtlijn.nl/consument/lekker-en-gevarieerd-eten/energie-en-voedingsstoffen" TargetMode="External"/><Relationship Id="rId2" Type="http://schemas.openxmlformats.org/officeDocument/2006/relationships/hyperlink" Target="http://www.dagelijksevoedingsrichtlijn.nl/consument/lekker-en-gevarieerd-eten/energie-en-voedingsstoffen"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53920" y="744480"/>
            <a:ext cx="496116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64DC-DF0E-4179-BF8E-FD1BADE3D6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hoe je het product moet bewaren en gebruike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Verplicht </a:t>
            </a:r>
            <a:r>
              <a:rPr b="0" lang="nl-BE" sz="1200" spc="-1" strike="noStrike">
                <a:solidFill>
                  <a:srgbClr val="000000"/>
                </a:solidFill>
                <a:latin typeface="Tahoma"/>
                <a:ea typeface="Tahoma"/>
              </a:rPr>
              <a:t>indien dit invloed heeft op de houdbaarheid vb. koel bewaren op yoghu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FA15-3ED4-4C75-82B2-F71DFF2E36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Claims</a:t>
            </a:r>
            <a:r>
              <a:rPr b="0" lang="nl-BE" sz="1200" spc="-1" strike="noStrike">
                <a:solidFill>
                  <a:srgbClr val="000000"/>
                </a:solidFill>
                <a:latin typeface="Tahoma"/>
                <a:ea typeface="Tahoma"/>
              </a:rPr>
              <a:t> boodschappen over de voedingswaarde of gezondheidseigenschappen van het produ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Allergenen</a:t>
            </a:r>
            <a:r>
              <a:rPr b="0" lang="nl-BE" sz="1200" spc="-1" strike="noStrike">
                <a:solidFill>
                  <a:srgbClr val="000000"/>
                </a:solidFill>
                <a:latin typeface="Tahoma"/>
                <a:ea typeface="Tahoma"/>
              </a:rPr>
              <a:t>: belangrijk voor mensen die allergisch zijn aan bepaalde voedingsstoffen of toevoeging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gevens van </a:t>
            </a:r>
            <a:r>
              <a:rPr b="1" lang="nl-BE" sz="1200" spc="-1" strike="noStrike">
                <a:solidFill>
                  <a:srgbClr val="000000"/>
                </a:solidFill>
                <a:latin typeface="Tahoma"/>
                <a:ea typeface="Tahoma"/>
              </a:rPr>
              <a:t>herkomst </a:t>
            </a:r>
            <a:r>
              <a:rPr b="0" lang="nl-BE" sz="1200" spc="-1" strike="noStrike">
                <a:solidFill>
                  <a:srgbClr val="000000"/>
                </a:solidFill>
                <a:latin typeface="Tahoma"/>
                <a:ea typeface="Tahoma"/>
              </a:rPr>
              <a:t>(producent of invoerder): vb. geproduceerd door…, made in Belgi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Streepjescode of barcode: </a:t>
            </a:r>
            <a:r>
              <a:rPr b="0" lang="nl-BE" sz="1200" spc="-1" strike="noStrike">
                <a:solidFill>
                  <a:srgbClr val="000000"/>
                </a:solidFill>
                <a:latin typeface="Tahoma"/>
                <a:ea typeface="Tahoma"/>
              </a:rPr>
              <a:t>wordt aan de kassa gebruikt voor het automatisch inscannen van gegevens</a:t>
            </a:r>
            <a:endParaRPr b="0" lang="en-US" sz="1200" spc="-1" strike="noStrike">
              <a:solidFill>
                <a:srgbClr val="000000"/>
              </a:solidFill>
              <a:latin typeface="Calibri"/>
            </a:endParaRPr>
          </a:p>
        </p:txBody>
      </p:sp>
      <p:sp>
        <p:nvSpPr>
          <p:cNvPr id="1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7434-455D-463C-A4F4-55204E5CA5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voedingscentrum.nl/encyclopedie/etiket.aspx</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oedingsmiddelen in de supermarkt vind je regelmatig het Ik Kies Bewust-logo. Dit kan je helpen bij het kiezen voor een gezond produkt. Produkten met het logo bevatten minder suiker, zout, en verzadigd vet dan dezelfde soorten produkten zónder dit lo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riteria</a:t>
            </a:r>
            <a:br>
              <a:rPr sz="1200"/>
            </a:br>
            <a:r>
              <a:rPr b="0" lang="nl-NL" sz="1200" spc="-1" strike="noStrike">
                <a:solidFill>
                  <a:srgbClr val="000000"/>
                </a:solidFill>
                <a:latin typeface="Calibri"/>
              </a:rPr>
              <a:t>Fabrikanten van voedingsmiddelen kunnen voor hun produkten zo'n logo aanvragen als hun produkten voldoen aan de eisen (criteria) voor minder suiker, zout en vet. Een fabrikant kan hiervoor een aanvraag indienen bij de Stichting Ik kies bewust. Om het logo te mogen gebruiken moet een product aan heldere, wetenschappelijk bewezen criteria vold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C72F-8DAB-424B-AFDC-3DF6244015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erschillende produkten van het eigen merk van Albert Hein vind je Klavertjes: </a:t>
            </a:r>
            <a:br>
              <a:rPr sz="1200"/>
            </a:br>
            <a:r>
              <a:rPr b="0" lang="nl-NL" sz="1200" spc="-1" strike="noStrike">
                <a:solidFill>
                  <a:srgbClr val="000000"/>
                </a:solidFill>
                <a:latin typeface="Calibri"/>
              </a:rPr>
              <a:t>Het </a:t>
            </a:r>
            <a:r>
              <a:rPr b="1" lang="nl-NL" sz="1200" spc="-1" strike="noStrike">
                <a:solidFill>
                  <a:srgbClr val="000000"/>
                </a:solidFill>
                <a:latin typeface="Calibri"/>
              </a:rPr>
              <a:t>Gezonde Keuze Klavertje</a:t>
            </a:r>
            <a:r>
              <a:rPr b="0" lang="nl-NL" sz="1200" spc="-1" strike="noStrike">
                <a:solidFill>
                  <a:srgbClr val="000000"/>
                </a:solidFill>
                <a:latin typeface="Calibri"/>
              </a:rPr>
              <a:t> (groene ring) vind je op bijvoorbeeld verse groenten, kant-en-klaarmaaltijden, kaas en vlees, vruchtensappen en melkproducten. Het klavertje geeft aan welke producten een ‘gezonde keuze’ zijn. Het staat op produkten met </a:t>
            </a:r>
            <a:r>
              <a:rPr b="1" lang="nl-NL" sz="1200" spc="-1" strike="noStrike">
                <a:solidFill>
                  <a:srgbClr val="000000"/>
                </a:solidFill>
                <a:latin typeface="Calibri"/>
              </a:rPr>
              <a:t>minder suiker, minder zout, minder verzadigd vet, maar ook met méér vez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Gezonde Keuze Klavertje staat alleen maar op huismerkproducten van Albert Heijn. Je kunt dus eigenlijk alleen maar stellen dat produkten van het Albert Heijn eigen merk mét een klavertje een gezondere keuze zijn dan vergelijkbare producten van het Albert Heijn eigen merk zónder klaver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t>
            </a:r>
            <a:r>
              <a:rPr b="1" lang="nl-NL" sz="1200" spc="-1" strike="noStrike">
                <a:solidFill>
                  <a:srgbClr val="000000"/>
                </a:solidFill>
                <a:latin typeface="Calibri"/>
              </a:rPr>
              <a:t>Bewuste Keuze Klavertje</a:t>
            </a:r>
            <a:r>
              <a:rPr b="0" lang="nl-NL" sz="1200" spc="-1" strike="noStrike">
                <a:solidFill>
                  <a:srgbClr val="000000"/>
                </a:solidFill>
                <a:latin typeface="Calibri"/>
              </a:rPr>
              <a:t> (oranje ring) vind je op produkten die wel in een gezond voedingspatroon passen, maar een minder goede keuze zijn dan produkten met het 'groene' Klavertje. Maar het gaat erom dat de produkten beter zijn in vergelijking met andere produkten uit dezelfde product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CF33-EE31-4641-A7FE-259D2B90CC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 november 2011 is bekend geworden dat de logo's van Ik Kies Bewust en de Gezonde Keuze Klavertjes van Albert Heijn samengevoegd worden in twee nieuwe logo's! Het Ik Kies Bewust-logo heet voortaan 'het Vinkj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angzaam zullen de oude logo's verdwijnen en in maart 2012 moet op alle verpakkingen het Vinkje staan en géén klavertjes of oude Ik Kies Bewust log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Groen en blauw</a:t>
            </a:r>
            <a:br>
              <a:rPr sz="1100"/>
            </a:br>
            <a:r>
              <a:rPr b="0" lang="nl-NL" sz="1100" spc="-1" strike="noStrike">
                <a:solidFill>
                  <a:srgbClr val="000000"/>
                </a:solidFill>
                <a:latin typeface="Calibri"/>
              </a:rPr>
              <a:t>Er zijn twee kleuren. Het </a:t>
            </a:r>
            <a:r>
              <a:rPr b="1" lang="nl-NL" sz="1100" spc="-1" strike="noStrike">
                <a:solidFill>
                  <a:srgbClr val="000000"/>
                </a:solidFill>
                <a:latin typeface="Calibri"/>
              </a:rPr>
              <a:t>groene</a:t>
            </a:r>
            <a:r>
              <a:rPr b="0" lang="nl-NL" sz="1100" spc="-1" strike="noStrike">
                <a:solidFill>
                  <a:srgbClr val="000000"/>
                </a:solidFill>
                <a:latin typeface="Calibri"/>
              </a:rPr>
              <a:t> Vinkje staat voor een gezondere keuze binnen een groep van basisproducten als brood en melk. Het </a:t>
            </a:r>
            <a:r>
              <a:rPr b="1" lang="nl-NL" sz="1100" spc="-1" strike="noStrike">
                <a:solidFill>
                  <a:srgbClr val="000000"/>
                </a:solidFill>
                <a:latin typeface="Calibri"/>
              </a:rPr>
              <a:t>blauwe</a:t>
            </a:r>
            <a:r>
              <a:rPr b="0" lang="nl-NL" sz="1100" spc="-1" strike="noStrike">
                <a:solidFill>
                  <a:srgbClr val="000000"/>
                </a:solidFill>
                <a:latin typeface="Calibri"/>
              </a:rPr>
              <a:t> Vinkje staat voor een bewuste keuze binnen andere groepen zoals soepen en sauze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Verschil groen (gezond) en blauw (bewust) logo</a:t>
            </a:r>
            <a:br>
              <a:rPr sz="1100"/>
            </a:br>
            <a:r>
              <a:rPr b="0" lang="nl-NL" sz="1100" spc="-1" strike="noStrike">
                <a:solidFill>
                  <a:srgbClr val="000000"/>
                </a:solidFill>
                <a:latin typeface="Calibri"/>
              </a:rPr>
              <a:t>Het </a:t>
            </a:r>
            <a:r>
              <a:rPr b="1" lang="nl-NL" sz="1100" spc="-1" strike="noStrike">
                <a:solidFill>
                  <a:srgbClr val="000000"/>
                </a:solidFill>
                <a:latin typeface="Calibri"/>
              </a:rPr>
              <a:t>groene</a:t>
            </a:r>
            <a:r>
              <a:rPr b="0" lang="nl-NL" sz="1100" spc="-1" strike="noStrike">
                <a:solidFill>
                  <a:srgbClr val="000000"/>
                </a:solidFill>
                <a:latin typeface="Calibri"/>
              </a:rPr>
              <a:t> logo met de tekst ‘gezondere keuze’ staat op basisvoedingsmiddelen (Schijf van Vijf-producten) die veel nuttige voedingsstoffen bevatten. Ze bevatten minder verzadigd vet, suiker en zout en soms meer vezel dan andere producten uit dezelfde productgroe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a:t>
            </a:r>
            <a:r>
              <a:rPr b="1" lang="nl-NL" sz="1100" spc="-1" strike="noStrike">
                <a:solidFill>
                  <a:srgbClr val="000000"/>
                </a:solidFill>
                <a:latin typeface="Calibri"/>
              </a:rPr>
              <a:t>blauwe</a:t>
            </a:r>
            <a:r>
              <a:rPr b="0" lang="nl-NL" sz="1100" spc="-1" strike="noStrike">
                <a:solidFill>
                  <a:srgbClr val="000000"/>
                </a:solidFill>
                <a:latin typeface="Calibri"/>
              </a:rPr>
              <a:t> logo ‘bewuste keuze’ staat op producten die geen basisvoedingsmiddel zijn. Ze bevatten wel minder verzadigd vet, suiker, zout en soms meer vezel bevatten dan andere producten uit dezelfde productgroep. Omdat deze producten minder belangrijk voor de gezondheid zijn, is hier een ander woord gekozen.</a:t>
            </a:r>
            <a:br>
              <a:rPr sz="1100"/>
            </a:br>
            <a:br>
              <a:rPr sz="1100"/>
            </a:br>
            <a:r>
              <a:rPr b="1" lang="nl-NL" sz="1100" spc="-1" strike="noStrike">
                <a:solidFill>
                  <a:srgbClr val="000000"/>
                </a:solidFill>
                <a:latin typeface="Calibri"/>
              </a:rPr>
              <a:t>Alles met een logo is gezond?</a:t>
            </a:r>
            <a:br>
              <a:rPr sz="1100"/>
            </a:br>
            <a:r>
              <a:rPr b="0" lang="nl-NL" sz="1100" spc="-1" strike="noStrike">
                <a:solidFill>
                  <a:srgbClr val="000000"/>
                </a:solidFill>
                <a:latin typeface="Calibri"/>
              </a:rPr>
              <a:t>Je denkt misschien dat produkten met een groen of blauw logo gezond zijn. Maar dat is niet zo. Het zijn de gezondere producten binnen een groep. Dus als je bijvoorbeeld een snack wilt eten, helpt het logo je een snack te kiezen, waar minder of weinig verzadigde vetten, suiker en zout in zitten. Aan het blauwe logo kun je zien dat zo’n product geen basisvoedingsmiddel is. Je kunt het dus missen in een gezond voedingspatro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8707-7B3C-4871-AF0E-0A5EF9F909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steeds meer verpakkingen van levensmiddelen kom je de Dagelijkse Voedingsrichtlijn tegen in de vorm van een Energielogo. Dit logo is gemaakt door de Federatie Nederlandse Levensmiddelen Industrie (FNLI). Het laat zien hoeveel calorieën een produkt bevat. Het makkelijke eraan is, dat je de hoeveelheid calorieën per portie kunt aflezen. En niet alleen per 100 gr, zoals je op de meeste verpakkingen z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6984-A52E-41E5-B27D-E1509E11E7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Wat smeer ik op brood? </a:t>
            </a:r>
            <a:br>
              <a:rPr sz="1200"/>
            </a:br>
            <a:r>
              <a:rPr b="0" lang="nl-NL" sz="1200" spc="-1" strike="noStrike">
                <a:solidFill>
                  <a:srgbClr val="000000"/>
                </a:solidFill>
                <a:latin typeface="Calibri"/>
              </a:rPr>
              <a:t>In de supermarkt vindt u een grote keuze aan broodsmeersels. In de warenwet is vastgele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rgarine en roomboter bevatten 8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lvarine bevat 4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evoeging 'dieet' mag alleen als het product minimaal 50% onverzadigd vet bev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mige producten heten 'product voor op brood'. Het vetgehalte varieert. Dit kan 20% maar ook 70% zijn. Algemene regel: kies voor een product met minder dan 17 gram verzadigd vet per 100 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FF60-EFD5-4380-BDBC-C178B6F9D3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DBAA-152B-415A-A4AA-6A86B88F41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3920" y="744480"/>
            <a:ext cx="4961160" cy="3722760"/>
          </a:xfrm>
          <a:prstGeom prst="rect">
            <a:avLst/>
          </a:prstGeom>
          <a:ln w="0">
            <a:noFill/>
          </a:ln>
        </p:spPr>
      </p:sp>
      <p:sp>
        <p:nvSpPr>
          <p:cNvPr id="1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54D0-AECF-4EC4-B733-569D84A90C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3920" y="744480"/>
            <a:ext cx="496116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3A1C-E87A-4551-8FAB-78D9E37F7D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53920" y="744480"/>
            <a:ext cx="496116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uiker wordt vaak anders genoemd, bijvoorbeeld glucose, sacharose, sucr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Verplicht voor voorverpakte voedingsmiddel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wat in het product het meest voorkomt staat als eerst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3920" y="744480"/>
            <a:ext cx="496116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Vetten, koolhydraten, eiwitten en alcohol leveren energie</a:t>
            </a:r>
            <a:r>
              <a:rPr b="0" lang="nl-BE" sz="3600" spc="-1" strike="noStrike">
                <a:solidFill>
                  <a:srgbClr val="000000"/>
                </a:solidFill>
                <a:latin typeface="Tahoma"/>
                <a:ea typeface="Tahoma"/>
              </a:rPr>
              <a:t> </a:t>
            </a:r>
            <a:r>
              <a:rPr b="0" lang="nl-BE" sz="1200" spc="-1" strike="noStrike">
                <a:solidFill>
                  <a:srgbClr val="000000"/>
                </a:solidFill>
                <a:latin typeface="Wingdings"/>
                <a:ea typeface="Wingdings"/>
              </a:rPr>
              <a:t></a:t>
            </a:r>
            <a:r>
              <a:rPr b="0" lang="nl-BE" sz="1200" spc="-1" strike="noStrike">
                <a:solidFill>
                  <a:srgbClr val="000000"/>
                </a:solidFill>
                <a:latin typeface="Tahoma"/>
                <a:ea typeface="Tahoma"/>
              </a:rPr>
              <a:t> brandstof</a:t>
            </a:r>
            <a:endParaRPr b="0" lang="en-US" sz="1200" spc="-1" strike="noStrike">
              <a:solidFill>
                <a:srgbClr val="000000"/>
              </a:solidFill>
              <a:latin typeface="Calibri"/>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	</a:t>
            </a: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DA) geeft aan hoeveel </a:t>
            </a:r>
            <a:r>
              <a:rPr b="0" lang="nl-NL" sz="1200" spc="-1" strike="noStrike" u="sng">
                <a:solidFill>
                  <a:srgbClr val="0000ff"/>
                </a:solidFill>
                <a:uFillTx/>
                <a:latin typeface="Calibri"/>
                <a:hlinkClick r:id="rId1"/>
              </a:rPr>
              <a:t>energie</a:t>
            </a:r>
            <a:r>
              <a:rPr b="0" lang="nl-NL" sz="1200" spc="-1" strike="noStrike">
                <a:solidFill>
                  <a:srgbClr val="000000"/>
                </a:solidFill>
                <a:latin typeface="Calibri"/>
              </a:rPr>
              <a:t> je gemiddeld per dag nodig hebt. Dit is de hoeveelheid kilocalorieën die je binnenkrijgt. Voor een verantwoorde voeding heb je naast de hoeveelheid energie ook een beperkte consumptie van </a:t>
            </a:r>
            <a:r>
              <a:rPr b="0" lang="nl-NL" sz="1200" spc="-1" strike="noStrike" u="sng">
                <a:solidFill>
                  <a:srgbClr val="0000ff"/>
                </a:solidFill>
                <a:uFillTx/>
                <a:latin typeface="Calibri"/>
                <a:hlinkClick r:id="rId2"/>
              </a:rPr>
              <a:t>suikers, vet, verzadigd vet en natrium (zout)</a:t>
            </a:r>
            <a:r>
              <a:rPr b="0" lang="nl-NL" sz="1200" spc="-1" strike="noStrike">
                <a:solidFill>
                  <a:srgbClr val="000000"/>
                </a:solidFill>
                <a:latin typeface="Calibri"/>
              </a:rPr>
              <a:t> nodig. Deze voedingsstoffen vallen ook onder de Dagelijkse Voedingsrichtl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verpakking van producten vind je een overzicht met de Dagelijkse Voedingsrichtlijn. Daarin is opgenomen hoeveel energie een product bevat. In veel gevallen zijn ook de hoeveelheden suikers, vet, verzadigd vet en natrium/ zout opgenomen. Bovendien zie je hoe deze hoeveelheden zich verhouden tot de hoeveelheden die je dagelijks maximaal binnen zou mogen krijgen volgens de richtlijnen voor een uitgebalanceerde vo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Referentiewaarde van de Dagelijkse Voedingsrichtlijn voor een volwass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cal) 2000</a:t>
            </a:r>
            <a:br>
              <a:rPr sz="1200"/>
            </a:br>
            <a:r>
              <a:rPr b="0" lang="nl-NL" sz="1200" spc="-1" strike="noStrike">
                <a:solidFill>
                  <a:srgbClr val="000000"/>
                </a:solidFill>
                <a:latin typeface="Calibri"/>
              </a:rPr>
              <a:t>Suikers (g )niet meer dan 90*</a:t>
            </a:r>
            <a:br>
              <a:rPr sz="1200"/>
            </a:br>
            <a:r>
              <a:rPr b="0" lang="nl-NL" sz="1200" spc="-1" strike="noStrike">
                <a:solidFill>
                  <a:srgbClr val="000000"/>
                </a:solidFill>
                <a:latin typeface="Calibri"/>
              </a:rPr>
              <a:t>Vet (g)niet meer dan 70</a:t>
            </a:r>
            <a:br>
              <a:rPr sz="1200"/>
            </a:br>
            <a:r>
              <a:rPr b="0" lang="nl-NL" sz="1200" spc="-1" strike="noStrike">
                <a:solidFill>
                  <a:srgbClr val="000000"/>
                </a:solidFill>
                <a:latin typeface="Calibri"/>
              </a:rPr>
              <a:t>Verzadigd vet (g)niet meer dan 20</a:t>
            </a:r>
            <a:br>
              <a:rPr sz="1200"/>
            </a:br>
            <a:r>
              <a:rPr b="0" lang="nl-NL" sz="1200" spc="-1" strike="noStrike">
                <a:solidFill>
                  <a:srgbClr val="000000"/>
                </a:solidFill>
                <a:latin typeface="Calibri"/>
              </a:rPr>
              <a:t>Natrium (zout) (g)niet meer dan 2,4 (6 voor zout)</a:t>
            </a:r>
            <a:br>
              <a:rPr sz="1200"/>
            </a:br>
            <a:br>
              <a:rPr sz="1200"/>
            </a:br>
            <a:r>
              <a:rPr b="0" lang="nl-NL" sz="1200" spc="-1" strike="noStrike">
                <a:solidFill>
                  <a:srgbClr val="000000"/>
                </a:solidFill>
                <a:latin typeface="Calibri"/>
              </a:rPr>
              <a:t>* </a:t>
            </a:r>
            <a:r>
              <a:rPr b="0" i="1" lang="nl-NL" sz="1200" spc="-1" strike="noStrike">
                <a:solidFill>
                  <a:srgbClr val="000000"/>
                </a:solidFill>
                <a:latin typeface="Calibri"/>
              </a:rPr>
              <a:t>Dit geldt met name voor personen met (dreigend) overgew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Enige opmerk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chtlijn geldt voor een gemiddelde volwassene. Dit betekent dat er geen rekening is gehouden met factoren als leeftijd, geslacht en leefstijl, die per individu verschi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nbevolen wordt om niet meer te consumeren dan deze hoeveelh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is een indicatie. De getallen zijn geen doel op zich. Probeer er zo veel mogelijk onder te blijven. Mocht je de richtlijn toch overschrijven, dan is dat geen ramp. Probeer dit de volgende dagen te compens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Voedingsstoff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eeft informatie over de hoeveelheid energie (kilocalorieën) en eventueel de hoeveelheid suikers, vet, verzadigd vet en natrium (zout). Deze stoffen verdienen specifiek aandacht bij een uitgebalanceerde voeding, omdat we er vaak te veel van binnenkrijgen. Ook andere aspecten zoals vitaminen en mineralen zijn van belang. Deze zijn echter niet in de Dagelijkse Voedingsrichtlijn op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De GDA is maar een schatting, de behoefte verschilt van persoon tot perso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116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B746-503B-4349-829A-4F5E0FD34F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3920" y="744480"/>
            <a:ext cx="496116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oms wordt ook het gewicht per portie vermeld.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853920" y="744480"/>
            <a:ext cx="4961160" cy="3722760"/>
          </a:xfrm>
          <a:prstGeom prst="rect">
            <a:avLst/>
          </a:prstGeom>
          <a:ln w="0">
            <a:noFill/>
          </a:ln>
        </p:spPr>
      </p:sp>
      <p:sp>
        <p:nvSpPr>
          <p:cNvPr id="1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tot wanneer je het product kan eten, drinken en bewa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Na het openen van de verpakking is de houdbaarheidsdatum niet meer geldi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B9148-45BE-4D62-9447-8C540C807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0FD4A-EF57-4337-83C5-D8652874A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94FE0-14FF-4DF7-8846-D1AF8F58F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EB5B9-6EF1-4901-8A99-388589EAD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54F5F-1A42-4856-B99F-7A87ED30D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C0191-95A9-4706-B960-59C949D40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8B280-11D9-4797-9EA0-7D90D820F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6A02F-AFE0-4404-BA51-239832187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8D5FE-7C38-42C0-9BFF-6025C2542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6CFC2-1870-482A-AFB2-EF691B230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5BC49-BDCD-46F9-AC2D-1DC59514B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C4477-C2A0-49B1-B88D-8B0E3757D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2035-9FB4-4E5A-AE88-6A8A4C17287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b80042"/>
                </a:solidFill>
                <a:latin typeface="Kristen ITC"/>
              </a:rPr>
              <a:t>En… Wat zit er in?</a:t>
            </a:r>
            <a:endParaRPr b="0" lang="en-US" sz="6000" spc="-1" strike="noStrike">
              <a:solidFill>
                <a:srgbClr val="000000"/>
              </a:solidFill>
              <a:latin typeface="Arial"/>
            </a:endParaRPr>
          </a:p>
        </p:txBody>
      </p:sp>
      <p:sp>
        <p:nvSpPr>
          <p:cNvPr id="49" name="Tekstvak 9"/>
          <p:cNvSpPr/>
          <p:nvPr/>
        </p:nvSpPr>
        <p:spPr>
          <a:xfrm>
            <a:off x="1476360" y="2997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80042"/>
                </a:solidFill>
                <a:latin typeface="Kristen ITC"/>
              </a:rPr>
              <a:t>Het etiket onder de loep!</a:t>
            </a:r>
            <a:endParaRPr b="0" lang="en-US" sz="2400" spc="-1" strike="noStrike">
              <a:solidFill>
                <a:srgbClr val="000000"/>
              </a:solidFill>
              <a:latin typeface="Arial"/>
            </a:endParaRPr>
          </a:p>
        </p:txBody>
      </p:sp>
      <p:sp>
        <p:nvSpPr>
          <p:cNvPr id="50" name="Rechthoek 4"/>
          <p:cNvSpPr/>
          <p:nvPr/>
        </p:nvSpPr>
        <p:spPr>
          <a:xfrm rot="20653200">
            <a:off x="4307040" y="3417840"/>
            <a:ext cx="29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b80042"/>
                </a:solidFill>
                <a:latin typeface="Kristen ITC"/>
              </a:rPr>
              <a:t>Laat je niet ver(mis)leiden</a:t>
            </a:r>
            <a:endParaRPr b="0" lang="en-US" sz="1800" spc="-1" strike="noStrike">
              <a:solidFill>
                <a:srgbClr val="000000"/>
              </a:solidFill>
              <a:latin typeface="Arial"/>
            </a:endParaRPr>
          </a:p>
        </p:txBody>
      </p:sp>
      <p:pic>
        <p:nvPicPr>
          <p:cNvPr id="51" name="Afbeelding 5" descr="Naamloos.jpg"/>
          <p:cNvPicPr/>
          <p:nvPr/>
        </p:nvPicPr>
        <p:blipFill>
          <a:blip r:embed="rId1"/>
          <a:stretch/>
        </p:blipFill>
        <p:spPr>
          <a:xfrm>
            <a:off x="2124000" y="5084640"/>
            <a:ext cx="4356000" cy="1533600"/>
          </a:xfrm>
          <a:prstGeom prst="rect">
            <a:avLst/>
          </a:prstGeom>
          <a:ln w="0">
            <a:noFill/>
          </a:ln>
        </p:spPr>
      </p:pic>
      <p:pic>
        <p:nvPicPr>
          <p:cNvPr id="52" name="Afbeelding 5" descr="kopsoep_etiket.JPG"/>
          <p:cNvPicPr/>
          <p:nvPr/>
        </p:nvPicPr>
        <p:blipFill>
          <a:blip r:embed="rId2"/>
          <a:stretch/>
        </p:blipFill>
        <p:spPr>
          <a:xfrm>
            <a:off x="6372360" y="3789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orschriften voor </a:t>
            </a:r>
            <a:br>
              <a:rPr sz="4400"/>
            </a:br>
            <a:r>
              <a:rPr b="0" lang="nl-BE" sz="4400" spc="-1" strike="noStrike">
                <a:solidFill>
                  <a:srgbClr val="b80042"/>
                </a:solidFill>
                <a:latin typeface="Kristen ITC"/>
                <a:ea typeface="Tahoma"/>
              </a:rPr>
              <a:t>bewaring &amp; gebruik</a:t>
            </a:r>
            <a:endParaRPr b="0" lang="en-US" sz="4400" spc="-1" strike="noStrike">
              <a:solidFill>
                <a:srgbClr val="000000"/>
              </a:solidFill>
              <a:latin typeface="Arial"/>
            </a:endParaRPr>
          </a:p>
        </p:txBody>
      </p:sp>
      <p:sp>
        <p:nvSpPr>
          <p:cNvPr id="7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Schudden voor gebruik, koel bewaren in de koelkast 7° C , verwarmen in de oven gedurende 8 minuten op 160° C.</a:t>
            </a:r>
            <a:endParaRPr b="0" lang="en-US" sz="3200" spc="-1" strike="noStrike">
              <a:solidFill>
                <a:srgbClr val="000000"/>
              </a:solidFill>
              <a:latin typeface="Arial"/>
            </a:endParaRPr>
          </a:p>
        </p:txBody>
      </p:sp>
      <p:pic>
        <p:nvPicPr>
          <p:cNvPr id="73" name="Afbeelding 3" descr="koelkastje.jpg"/>
          <p:cNvPicPr/>
          <p:nvPr/>
        </p:nvPicPr>
        <p:blipFill>
          <a:blip r:embed="rId1"/>
          <a:stretch/>
        </p:blipFill>
        <p:spPr>
          <a:xfrm>
            <a:off x="5435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Andere</a:t>
            </a:r>
            <a:endParaRPr b="0" lang="en-US" sz="4400" spc="-1" strike="noStrike">
              <a:solidFill>
                <a:srgbClr val="000000"/>
              </a:solidFill>
              <a:latin typeface="Arial"/>
            </a:endParaRPr>
          </a:p>
        </p:txBody>
      </p:sp>
      <p:sp>
        <p:nvSpPr>
          <p:cNvPr id="75" name="PlaceHolder 2"/>
          <p:cNvSpPr>
            <a:spLocks noGrp="1"/>
          </p:cNvSpPr>
          <p:nvPr>
            <p:ph/>
          </p:nvPr>
        </p:nvSpPr>
        <p:spPr>
          <a:xfrm>
            <a:off x="323640" y="1125000"/>
            <a:ext cx="8569080" cy="500076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0% vet, cholesterolverlage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ik kies bewust lo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Allerg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2" descr=""/>
          <p:cNvPicPr/>
          <p:nvPr/>
        </p:nvPicPr>
        <p:blipFill>
          <a:blip r:embed="rId1"/>
          <a:stretch/>
        </p:blipFill>
        <p:spPr>
          <a:xfrm>
            <a:off x="5364000" y="4797360"/>
            <a:ext cx="2168640" cy="15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b80042"/>
                </a:solidFill>
                <a:latin typeface="Kristen ITC"/>
                <a:ea typeface="Tahoma"/>
              </a:rPr>
              <a:t>Voorbeeld voedingsmiddel</a:t>
            </a:r>
            <a:endParaRPr b="0" lang="en-US" sz="3200" spc="-1" strike="noStrike">
              <a:solidFill>
                <a:srgbClr val="000000"/>
              </a:solidFill>
              <a:latin typeface="Arial"/>
            </a:endParaRPr>
          </a:p>
        </p:txBody>
      </p:sp>
      <p:pic>
        <p:nvPicPr>
          <p:cNvPr id="78" name="Afbeelding 2" descr="etiket_default.jpg"/>
          <p:cNvPicPr/>
          <p:nvPr/>
        </p:nvPicPr>
        <p:blipFill>
          <a:blip r:embed="rId1"/>
          <a:stretch/>
        </p:blipFill>
        <p:spPr>
          <a:xfrm>
            <a:off x="3048120" y="1052640"/>
            <a:ext cx="304776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Afbeelding 1" descr="s670x670_8c54ea576e4b2f144a203ef45dc73afb.jpg"/>
          <p:cNvPicPr/>
          <p:nvPr/>
        </p:nvPicPr>
        <p:blipFill>
          <a:blip r:embed="rId1"/>
          <a:stretch/>
        </p:blipFill>
        <p:spPr>
          <a:xfrm>
            <a:off x="3381480" y="223848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1" descr="s670x670_5db8cb8bccb7966eb474bda09d256ed2.jpg"/>
          <p:cNvPicPr/>
          <p:nvPr/>
        </p:nvPicPr>
        <p:blipFill>
          <a:blip r:embed="rId1"/>
          <a:stretch/>
        </p:blipFill>
        <p:spPr>
          <a:xfrm>
            <a:off x="2843280" y="2492280"/>
            <a:ext cx="3359160" cy="19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Afbeelding 1" descr="s334x334_239790dfc82e199382d29410b9a2a022.jpg"/>
          <p:cNvPicPr/>
          <p:nvPr/>
        </p:nvPicPr>
        <p:blipFill>
          <a:blip r:embed="rId1"/>
          <a:stretch/>
        </p:blipFill>
        <p:spPr>
          <a:xfrm>
            <a:off x="2981160" y="2604960"/>
            <a:ext cx="318168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Afbeelding 1" descr="s670x670_3e06cd35d1eaf32de20662a90374963d.jpg"/>
          <p:cNvPicPr/>
          <p:nvPr/>
        </p:nvPicPr>
        <p:blipFill>
          <a:blip r:embed="rId1"/>
          <a:stretch/>
        </p:blipFill>
        <p:spPr>
          <a:xfrm>
            <a:off x="1332000" y="3068640"/>
            <a:ext cx="66960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b80042"/>
                </a:solidFill>
                <a:latin typeface="Kristen ITC"/>
              </a:rPr>
              <a:t>Opdracht(e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Opdracht 3 : Verpakking onder de loep</a:t>
            </a:r>
            <a:br>
              <a:rPr sz="4400"/>
            </a:b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Maak de opdrachten op ‘werkblad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Extra opdracht : uit het hoofd…</a:t>
            </a:r>
            <a:br>
              <a:rPr sz="4400"/>
            </a:br>
            <a:endParaRPr b="0" lang="en-US" sz="4400" spc="-1" strike="noStrike">
              <a:solidFill>
                <a:srgbClr val="000000"/>
              </a:solidFill>
              <a:latin typeface="Arial"/>
            </a:endParaRPr>
          </a:p>
        </p:txBody>
      </p:sp>
      <p:sp>
        <p:nvSpPr>
          <p:cNvPr id="87" name=""/>
          <p:cNvSpPr txBox="1"/>
          <p:nvPr/>
        </p:nvSpPr>
        <p:spPr>
          <a:xfrm>
            <a:off x="250920" y="1628640"/>
            <a:ext cx="8229600" cy="452592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Pak 5 verpakkingen en leg deze van </a:t>
            </a:r>
            <a:r>
              <a:rPr b="0" lang="nl-NL" sz="2800" spc="-1" strike="noStrike" u="sng">
                <a:solidFill>
                  <a:srgbClr val="000000"/>
                </a:solidFill>
                <a:uFillTx/>
                <a:latin typeface="Tahoma"/>
                <a:ea typeface="Tahoma"/>
              </a:rPr>
              <a:t>laag naar hoog zonder te kijken</a:t>
            </a:r>
            <a:r>
              <a:rPr b="0" lang="nl-NL" sz="2800" spc="-1" strike="noStrike">
                <a:solidFill>
                  <a:srgbClr val="000000"/>
                </a:solidFill>
                <a:latin typeface="Tahoma"/>
                <a:ea typeface="Tahoma"/>
              </a:rPr>
              <a:t>:</a:t>
            </a:r>
            <a:br>
              <a:rPr sz="2800"/>
            </a:br>
            <a:r>
              <a:rPr b="0" lang="nl-NL" sz="2800" spc="-1" strike="noStrike">
                <a:solidFill>
                  <a:srgbClr val="000000"/>
                </a:solidFill>
                <a:latin typeface="Tahoma"/>
                <a:ea typeface="Tahoma"/>
              </a:rPr>
              <a:t>  </a:t>
            </a:r>
            <a:br>
              <a:rPr sz="2800"/>
            </a:br>
            <a:r>
              <a:rPr b="0" lang="nl-NL" sz="2800" spc="-1" strike="noStrike">
                <a:solidFill>
                  <a:srgbClr val="000000"/>
                </a:solidFill>
                <a:latin typeface="Tahoma"/>
                <a:ea typeface="Tahoma"/>
              </a:rPr>
              <a:t> 1. Energie gehalte (kcal)</a:t>
            </a:r>
            <a:br>
              <a:rPr sz="2800"/>
            </a:br>
            <a:r>
              <a:rPr b="0" lang="nl-NL" sz="2800" spc="-1" strike="noStrike">
                <a:solidFill>
                  <a:srgbClr val="000000"/>
                </a:solidFill>
                <a:latin typeface="Tahoma"/>
                <a:ea typeface="Tahoma"/>
              </a:rPr>
              <a:t>Controleer of je het goed hebt. </a:t>
            </a:r>
            <a:br>
              <a:rPr sz="2800"/>
            </a:br>
            <a:br>
              <a:rPr sz="2800"/>
            </a:br>
            <a:r>
              <a:rPr b="0" lang="nl-NL" sz="2800" spc="-1" strike="noStrike">
                <a:solidFill>
                  <a:srgbClr val="000000"/>
                </a:solidFill>
                <a:latin typeface="Tahoma"/>
                <a:ea typeface="Tahoma"/>
              </a:rPr>
              <a:t>Herhaal dit dan ook voor:</a:t>
            </a:r>
            <a:br>
              <a:rPr sz="2800"/>
            </a:br>
            <a:r>
              <a:rPr b="0" lang="nl-NL" sz="2800" spc="-1" strike="noStrike">
                <a:solidFill>
                  <a:srgbClr val="000000"/>
                </a:solidFill>
                <a:latin typeface="Tahoma"/>
                <a:ea typeface="Tahoma"/>
              </a:rPr>
              <a:t>2. Suikergehalte</a:t>
            </a:r>
            <a:br>
              <a:rPr sz="2800"/>
            </a:br>
            <a:r>
              <a:rPr b="0" lang="nl-NL" sz="2800" spc="-1" strike="noStrike">
                <a:solidFill>
                  <a:srgbClr val="000000"/>
                </a:solidFill>
                <a:latin typeface="Tahoma"/>
                <a:ea typeface="Tahoma"/>
              </a:rPr>
              <a:t>3. Vet gehalte</a:t>
            </a:r>
            <a:br>
              <a:rPr sz="2800"/>
            </a:br>
            <a:r>
              <a:rPr b="0" lang="nl-NL" sz="2800" spc="-1" strike="noStrike">
                <a:solidFill>
                  <a:srgbClr val="000000"/>
                </a:solidFill>
                <a:latin typeface="Tahoma"/>
                <a:ea typeface="Tahoma"/>
              </a:rPr>
              <a:t>4. Verzadigd vet gehalte</a:t>
            </a:r>
            <a:br>
              <a:rPr sz="2800"/>
            </a:br>
            <a:r>
              <a:rPr b="0" lang="nl-NL" sz="2800" spc="-1" strike="noStrike">
                <a:solidFill>
                  <a:srgbClr val="000000"/>
                </a:solidFill>
                <a:latin typeface="Tahoma"/>
                <a:ea typeface="Tahoma"/>
              </a:rPr>
              <a:t>5. Natrium gehalte</a:t>
            </a:r>
            <a:br>
              <a:rPr sz="2800"/>
            </a:br>
            <a:r>
              <a:rPr b="0" lang="nl-NL" sz="3200" spc="-1" strike="noStrike">
                <a:solidFill>
                  <a:srgbClr val="000000"/>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Doel van deze l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zicht krijgen in de voedingswaarden van voedingsmiddelen en dranken: Hoeveel koolhydraten, vetten en eiwitten zitten er in een product? Bevat het ook zout en vezels?</a:t>
            </a:r>
            <a:endParaRPr b="0" lang="en-US" sz="2600" spc="-1" strike="noStrike">
              <a:solidFill>
                <a:srgbClr val="000000"/>
              </a:solidFill>
              <a:latin typeface="Arial"/>
            </a:endParaRPr>
          </a:p>
          <a:p>
            <a:pPr lvl="1" marL="735480" indent="-28296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grediëntenlijst en voedingswaarden aflezen.</a:t>
            </a:r>
            <a:endParaRPr b="0" lang="en-US" sz="2600" spc="-1" strike="noStrike">
              <a:solidFill>
                <a:srgbClr val="000000"/>
              </a:solidFill>
              <a:latin typeface="Arial"/>
            </a:endParaRPr>
          </a:p>
          <a:p>
            <a:pPr lvl="1" marL="735480" indent="-282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Een goede keuze kunnen maken uit verschillende voedingsmiddelen en dranken op basis van de informatie die op het etiket staat.</a:t>
            </a:r>
            <a:endParaRPr b="0" lang="en-US" sz="2600" spc="-1" strike="noStrike">
              <a:solidFill>
                <a:srgbClr val="000000"/>
              </a:solidFill>
              <a:latin typeface="Arial"/>
            </a:endParaRPr>
          </a:p>
          <a:p>
            <a:pPr marL="339480" indent="-3394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egevens op het etiket</a:t>
            </a:r>
            <a:endParaRPr b="0" lang="en-US" sz="4400" spc="-1" strike="noStrike">
              <a:solidFill>
                <a:srgbClr val="000000"/>
              </a:solidFill>
              <a:latin typeface="Arial"/>
            </a:endParaRPr>
          </a:p>
        </p:txBody>
      </p:sp>
      <p:sp>
        <p:nvSpPr>
          <p:cNvPr id="5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80042"/>
                </a:solidFill>
                <a:latin typeface="Tahoma"/>
                <a:ea typeface="Tahoma"/>
              </a:rPr>
              <a:t> </a:t>
            </a:r>
            <a:r>
              <a:rPr b="0" lang="nl-BE" sz="2800" spc="-1" strike="noStrike">
                <a:solidFill>
                  <a:srgbClr val="b80042"/>
                </a:solidFill>
                <a:latin typeface="Tahoma"/>
                <a:ea typeface="Tahoma"/>
              </a:rPr>
              <a:t>Ingrediëntenlijs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 (kcal/kj)</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 (o.a. suiker)</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iwitte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GDA of dagelijkse voedingsrichtlij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Nettogewich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Houdbaarheidsdatum</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And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Ingrediëntenlijs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In afnemende volgor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a:t>
            </a:r>
            <a:endParaRPr b="0" lang="en-US" sz="2800" spc="-1" strike="noStrike">
              <a:solidFill>
                <a:srgbClr val="000000"/>
              </a:solidFill>
              <a:latin typeface="Arial"/>
            </a:endParaRPr>
          </a:p>
        </p:txBody>
      </p:sp>
      <p:pic>
        <p:nvPicPr>
          <p:cNvPr id="59" name="Afbeelding 4" descr="kopsoep_etiket.JPG"/>
          <p:cNvPicPr/>
          <p:nvPr/>
        </p:nvPicPr>
        <p:blipFill>
          <a:blip r:embed="rId1"/>
          <a:stretch/>
        </p:blipFill>
        <p:spPr>
          <a:xfrm>
            <a:off x="4643280" y="3933720"/>
            <a:ext cx="382428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edingswaard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aste stof of </a:t>
            </a:r>
            <a:r>
              <a:rPr b="0" lang="nl-BE" sz="2800" spc="-1" strike="noStrike" u="sng">
                <a:solidFill>
                  <a:srgbClr val="000000"/>
                </a:solidFill>
                <a:uFillTx/>
                <a:latin typeface="Tahoma"/>
                <a:ea typeface="Tahoma"/>
              </a:rPr>
              <a:t>per 100 ml</a:t>
            </a:r>
            <a:br>
              <a:rPr sz="2800"/>
            </a:br>
            <a:r>
              <a:rPr b="0" lang="nl-BE" sz="2800" spc="-1" strike="noStrike">
                <a:solidFill>
                  <a:srgbClr val="000000"/>
                </a:solidFill>
                <a:latin typeface="Tahoma"/>
                <a:ea typeface="Tahoma"/>
              </a:rPr>
              <a:t>vloeistof</a:t>
            </a:r>
            <a:br>
              <a:rPr sz="2800"/>
            </a:br>
            <a:r>
              <a:rPr b="0" lang="nl-BE" sz="2800" spc="-1" strike="noStrike" u="sng">
                <a:solidFill>
                  <a:srgbClr val="000000"/>
                </a:solidFill>
                <a:uFillTx/>
                <a:latin typeface="Tahoma"/>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waar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waarvan sui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waarvan verzadigd v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iw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Natri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zels</a:t>
            </a:r>
            <a:endParaRPr b="0" lang="en-US" sz="2400" spc="-1" strike="noStrike">
              <a:solidFill>
                <a:srgbClr val="000000"/>
              </a:solidFill>
              <a:latin typeface="Arial"/>
            </a:endParaRPr>
          </a:p>
        </p:txBody>
      </p:sp>
      <p:pic>
        <p:nvPicPr>
          <p:cNvPr id="62" name="Afbeelding 3" descr="kopsoep_etiket.JPG"/>
          <p:cNvPicPr/>
          <p:nvPr/>
        </p:nvPicPr>
        <p:blipFill>
          <a:blip r:embed="rId1"/>
          <a:stretch/>
        </p:blipFill>
        <p:spPr>
          <a:xfrm>
            <a:off x="5435640" y="4581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DA of Dagelijkse richtlij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uideline Daily Amou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van de AD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ebaseerd op een dagelijkse inname van 2000 kcal</a:t>
            </a:r>
            <a:endParaRPr b="0" lang="en-US" sz="3200" spc="-1" strike="noStrike">
              <a:solidFill>
                <a:srgbClr val="000000"/>
              </a:solidFill>
              <a:latin typeface="Arial"/>
            </a:endParaRPr>
          </a:p>
        </p:txBody>
      </p:sp>
      <p:pic>
        <p:nvPicPr>
          <p:cNvPr id="65" name="Afbeelding 5" descr="Naamloos.jpg"/>
          <p:cNvPicPr/>
          <p:nvPr/>
        </p:nvPicPr>
        <p:blipFill>
          <a:blip r:embed="rId1"/>
          <a:stretch/>
        </p:blipFill>
        <p:spPr>
          <a:xfrm>
            <a:off x="3924360" y="5084640"/>
            <a:ext cx="4356000" cy="15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jdelijke aanduiding voor inhoud 3" descr="34.jpg"/>
          <p:cNvPicPr/>
          <p:nvPr/>
        </p:nvPicPr>
        <p:blipFill>
          <a:blip r:embed="rId1"/>
          <a:stretch/>
        </p:blipFill>
        <p:spPr>
          <a:xfrm>
            <a:off x="0" y="736560"/>
            <a:ext cx="907092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Nettogewich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BE" sz="3200" spc="-1" strike="noStrike">
                <a:solidFill>
                  <a:srgbClr val="000000"/>
                </a:solidFill>
                <a:latin typeface="Tahoma"/>
                <a:ea typeface="Tahoma"/>
              </a:rPr>
              <a:t>Gewicht van het voedingsmiddel zonder de verpak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Houdbaarheidsdatum</a:t>
            </a:r>
            <a:endParaRPr b="0" lang="en-US" sz="4400" spc="-1" strike="noStrike">
              <a:solidFill>
                <a:srgbClr val="000000"/>
              </a:solidFill>
              <a:latin typeface="Arial"/>
            </a:endParaRPr>
          </a:p>
        </p:txBody>
      </p:sp>
      <p:sp>
        <p:nvSpPr>
          <p:cNvPr id="70" name="PlaceHolder 2"/>
          <p:cNvSpPr>
            <a:spLocks noGrp="1"/>
          </p:cNvSpPr>
          <p:nvPr>
            <p:ph/>
          </p:nvPr>
        </p:nvSpPr>
        <p:spPr>
          <a:xfrm>
            <a:off x="611280" y="21337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nminste houdbaar tot …</a:t>
            </a:r>
            <a:br>
              <a:rPr sz="3200"/>
            </a:br>
            <a:r>
              <a:rPr b="0" lang="nl-BE"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 gebruiken t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Simon Boels</cp:lastModifiedBy>
  <cp:lastPrinted>2012-02-03T12:52:21Z</cp:lastPrinted>
  <dcterms:modified xsi:type="dcterms:W3CDTF">2014-04-19T14:04:07Z</dcterms:modified>
  <cp:revision>85</cp:revision>
  <dc:subject/>
  <dc:title>Dia 1</dc:title>
</cp:coreProperties>
</file>