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1C6A-9DAF-4020-A20E-9437B419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FD0F-5A87-4BE4-A0A9-CBE21CDB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F924-A8ED-40EC-A251-9514420C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8B4B-8981-4F2C-92D4-BB5521A9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D6A6F-DC6B-4360-831E-6AD6053E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058F9-E710-4816-8643-D6E58C09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DC23E-016D-4292-B613-E120C6E4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98B67-71C5-4911-96B8-355E8307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92798-6594-4A7A-9CA4-B24B3416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7146A-FB85-44B5-B12D-8D5741A5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57CCA-8F04-4415-9749-B1E71325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233F-2D88-47E6-A7BB-E479CAD5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91FAF-924C-49F5-A6A5-181E039D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5B832-75F0-45B0-AF32-4394A192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04837-4660-4292-9F21-8EB6EE68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71AB9-F88F-4AD1-A512-1E158BD4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F5630-D913-487C-8695-FA67364A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CB57-7CFC-4BC4-A807-66259EF4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0E7D-175E-4F1A-848B-3DFF396F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D5FB-25D2-4370-B8F9-EE8D8489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9418-C6A7-4FE2-BA8A-6EFBC6D2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9AEC-540E-4765-A6F9-21258DE3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47E9-BCFC-4375-B6C3-9C846EB6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1A5F-F28C-4D40-959B-E4843DFA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9A18-A8FA-40FA-BFA6-32E00D22895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97E7-CBCC-4DA7-B0EE-5F311E2A6E9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Mijn opleidingsbeeld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student"/>
          <p:cNvPicPr/>
          <p:nvPr/>
        </p:nvPicPr>
        <p:blipFill>
          <a:blip r:embed="rId1"/>
          <a:stretch/>
        </p:blipFill>
        <p:spPr>
          <a:xfrm>
            <a:off x="2411280" y="1989000"/>
            <a:ext cx="41911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Algemene vakken op de Utrechste Zorgacadem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eken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Nederl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ngels (alleen niveau 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urgerscha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gitaal geletterdhe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Hoe pak je het aa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en uitdelen verschillende benodigdheden per va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werken met Wiki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ZW u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roo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Docenten hier zij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udieloopbaanbegeleider = SL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kdoc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, ziektekunde, communicatievaardigheden, taal, rekenen, stagedoc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pbouw van de opleid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3 fas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nerieke f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pecifieke fase (I en voor niveau 4 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stroomf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School en stage</a:t>
            </a:r>
            <a:br>
              <a:rPr sz="4000"/>
            </a:b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in generieke fas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Object 82"/>
          <p:cNvGraphicFramePr/>
          <p:nvPr/>
        </p:nvGraphicFramePr>
        <p:xfrm>
          <a:off x="7192800" y="1628640"/>
          <a:ext cx="1951200" cy="21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0" y="1628640"/>
                    <a:ext cx="195120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Line 5"/>
          <p:cNvSpPr/>
          <p:nvPr/>
        </p:nvSpPr>
        <p:spPr>
          <a:xfrm>
            <a:off x="611280" y="2349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133360"/>
            <a:ext cx="799128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opbouw schooljaar met de st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veelheid stage en afwisseling scho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soort stageplekk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bereid je nu voor, voor op de eerste lesda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42960" y="1928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96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en competentie is een combinatie v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enn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aardighe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u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e je in een bepaalde context laat zi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ls verpleegkundige/verzorgende weet je … kun je … ben je … in het contact met de zorgvra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Waarom competentiegericht onderwij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landelijke ontwikkeling binnen onderwijs, is verplicht door overheid per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ok binnen verpleegkundig/verzorgend beroep: kwalificatiedossier MBO verpleegkundige/verzorgende is op basis van kerntaken werkprocessen en competen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NIET alles zelf moeten uitzoe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NIET hetzelfde als geen begelei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WEL toewerken naar zelfstandigheid als verpleegkundige/verzorgen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WEL toewerken naar een verpleegkundige/verzorgende die kennis heeft, vaardig is, op een juiste wijze met mensen omgaat en zich blijft ontwikk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In 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ijk je telkens na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moet ik straks kennen en kunn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weet ik al, kan ik al, ben ik a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moet ik dus nog ler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e ga ik dat aanton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ga ik er voor doen om dat te ler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ierin wordt je begeleid door je studieloopbaanbegeleid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I Kerntaken, werkprocessen en competen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t kwalificatiedossier is opgebouwd ui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Kerntaken (bv 1. bieden van verpleegkundige zorg en ondersteuning op basis van verpleegpla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Werkprocessen (bv 1.1 stelt verpleegkundige diagnose en stelt verpleegplan o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Competenties (bv presenteren of begeleiden (25 competenties)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Vertaling naar de beroepspresaties (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kerntaken en werkprocessen zijn vertaalt naar beroepsprestaties. Dat wat je uiteindelijk in de praktijk moet behal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Uitgevoerd aan de hand van het werkboek voor de stage: ‘Beroepsprestaties Generieke opleidingsfase’ met allerlei opdracht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lessen op school zijn ondersteunend in het behalen van de beroepsprestaties op je st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Vakinhoudelijk onderwijs op de Utrechste Zorgacadem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988640"/>
            <a:ext cx="785988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/Verzorging basisprogram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/Verzorging plusprogram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stercl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raktijkonderwij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ommunicatievaar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rojec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F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W - u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nderwijs ter ondersteu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tudieloopbaanbegelei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visie (ter ondersteuning van de stag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13:01:51Z</dcterms:created>
  <dc:creator>pouwerh</dc:creator>
  <dc:description/>
  <dc:language>en-US</dc:language>
  <cp:lastModifiedBy>Maaike de Bruin</cp:lastModifiedBy>
  <dcterms:modified xsi:type="dcterms:W3CDTF">2014-07-08T12:17:14Z</dcterms:modified>
  <cp:revision>33</cp:revision>
  <dc:subject/>
  <dc:title>COMPETENTIEGERICHTE OPLEIDING: Wat is dat ???</dc:title>
</cp:coreProperties>
</file>