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2A0-D684-4EB4-99F1-2458B5B8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6D8-5D50-4175-91AD-12245BD4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472-880B-4CFC-9A03-E89BDEFC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FA8-A289-4190-968B-2D8E04EB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F46EF-0969-45F8-89DD-CE2D4946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90637-F928-485D-9A8C-F64B40C9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51097-7143-4F49-9665-70AE07A3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C20D1-201A-4FCB-92A5-0BBC51E8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7A39B-9EBF-400F-88C1-4F02A55F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88529-6C4A-47A8-80A0-285D309E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936B4-4E36-4DB6-B563-918B6CE2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24B-CFD4-4C81-B74E-2FE266B0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F8FAA-A35E-4855-BB8A-6CF68767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0A7F6-17F1-4F01-B4F8-19B6B11D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CBC94-B0BB-4530-8EC7-A1E25948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5624A-675C-4396-80E2-7AE67F35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048E2-02D6-4E58-8E5E-52F8CEF4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7EA-F92C-435A-9CBA-4CA6D735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0B2-ED2B-45B0-BD18-C777FF76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4C2-3BCC-41D5-948A-B3A96BE4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410-5032-4E04-B587-A5FACC5E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BD5-B080-4AA4-8C1E-63AD2B28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3E7-306B-44D9-9BB0-4470B4C0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C1A-BB90-4156-820B-8B6996CC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ED74-2F3D-4F2E-AD7F-FC3ADF196A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A145-78D4-44BB-8FC6-1112BA0B43A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Mijn opleidingsbeel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tudent"/>
          <p:cNvPicPr/>
          <p:nvPr/>
        </p:nvPicPr>
        <p:blipFill>
          <a:blip r:embed="rId1"/>
          <a:stretch/>
        </p:blipFill>
        <p:spPr>
          <a:xfrm>
            <a:off x="2411280" y="1989000"/>
            <a:ext cx="4191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Algemene vakken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ke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ederl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ngels (alleen niveau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urgersch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gitaal geletterd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Hoe pak je het aa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en uitdelen verschillende benodigdheden per v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werken met Wiki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ZW u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roo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centen hier zij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udieloopbaanbegeleider = SL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kdo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, ziektekunde, communicatievaardigheden, taal, rekenen, stagedoc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pbouw van de oplei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3 f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nerieke f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pecifieke fase (I en voor niveau 4 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stroomf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School en stage</a:t>
            </a: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in generieke fas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Object 82"/>
          <p:cNvGraphicFramePr/>
          <p:nvPr/>
        </p:nvGraphicFramePr>
        <p:xfrm>
          <a:off x="7192800" y="1628640"/>
          <a:ext cx="195120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0" y="1628640"/>
                    <a:ext cx="195120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Line 5"/>
          <p:cNvSpPr/>
          <p:nvPr/>
        </p:nvSpPr>
        <p:spPr>
          <a:xfrm>
            <a:off x="611280" y="2349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133360"/>
            <a:ext cx="799128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opbouw schooljaar met de st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veelheid stage en afwisseling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soort stageplekk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bereid je nu voor, voor op de eerste lesd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42960" y="1928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9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en competentie is een combinatie 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enn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aardig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u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e je in een bepaalde context laat zi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ls verpleegkundige/verzorgende weet je … kun je … ben je … in het contact met de zorgvra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Waarom competentiegericht onderwij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landelijke ontwikkeling binnen onderwijs, is verplicht door overheid per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ok binnen verpleegkundig/verzorgend beroep: kwalificatiedossier MBO verpleegkundige/verzorgende is op basis van kerntaken werkprocessen en competen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alles zelf moeten uitzoe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hetzelfde als geen 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zelfstandigheid als verpleegkundige/verzorge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een verpleegkundige/verzorgende die kennis heeft, vaardig is, op een juiste wijze met mensen omgaat en zich blijft ontwikk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n 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jk je telkens na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straks kennen en kun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weet ik al, kan ik al, ben ik a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dus nog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e ga ik dat aanto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ga ik er voor doen om dat te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ierin wordt je begeleid door je studieloopbaanbegeleid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 Kerntaken, werkprocessen en competen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kwalificatiedossier is opgebouwd ui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Kerntaken (bv 1. bieden van verpleegkundige zorg en ondersteuning op basis van verpleegpl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Werkprocessen (bv 1.1 stelt verpleegkundige diagnose en stelt verpleegplan o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Competenties (bv presenteren of begeleiden (25 competenties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ertaling naar de beroepspresaties (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kerntaken en werkprocessen zijn vertaalt naar beroepsprestaties. Dat wat je uiteindelijk in de praktijk moet behal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Uitgevoerd aan de hand van het werkboek voor de stage: ‘Beroepsprestaties Generieke opleidingsfase’ met allerlei opdrach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lessen op school zijn ondersteunend in het behalen van de beroepsprestaties op je st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akinhoudelijk onderwijs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988640"/>
            <a:ext cx="785988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basi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plu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ster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aktijkonderwij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ommunicatievaar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ojec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F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 - 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nderwijs ter ondersteu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udieloopbaan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visie (ter ondersteuning van de sta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3:01:51Z</dcterms:created>
  <dc:creator>pouwerh</dc:creator>
  <dc:description/>
  <dc:language>en-US</dc:language>
  <cp:lastModifiedBy>Maaike de Bruin</cp:lastModifiedBy>
  <dcterms:modified xsi:type="dcterms:W3CDTF">2014-07-08T12:17:14Z</dcterms:modified>
  <cp:revision>33</cp:revision>
  <dc:subject/>
  <dc:title>COMPETENTIEGERICHTE OPLEIDING: Wat is dat ???</dc:title>
</cp:coreProperties>
</file>