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678-B978-4F48-9EC3-0F4CDD8C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95F-D674-4954-AA44-FDFE0BF5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12A5-2F47-4475-A4BB-2830D2B6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A374-6EDD-4A15-81EA-52F7CACF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1176A-1B08-496C-86AF-F785B010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53ED6-B210-4E8D-A94D-09BA571B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808B0-7A01-4F82-9BAE-5630ED23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933CD-ED79-40F2-BB91-AB734FB7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4078E-4402-4A92-906E-F6E1CE81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2BD47-75A5-4405-A3CD-E7DF37EA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428F1-F700-4A40-AEE9-154B5D2E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4AE-949A-4BB3-94AC-DFAA0021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E1C12-0DCA-4211-9401-0A93CA3B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B8C2C-2BB2-4FCB-ADA3-AD8B39CB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3FF12-4301-487B-9084-C33C3333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0669F-0242-43CF-9A88-30533D11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80914-8B43-44CE-9432-81CCFF04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FB6-C1C5-4991-899C-5F0FFD00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45E8-1966-47B0-A882-82BD8BB1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9A5D-72C5-4842-9342-D5EB8A6F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9EAD-ADAC-4565-B0EB-E4981552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B0F1-76A5-4F50-BAE3-3D9F8AA8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D40-4FA4-42C4-B1DA-DC45B16F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A433-9FA4-4E5B-B717-5BC130C9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E0E2-36F9-4E79-9AB1-482932BED8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5D5C-4201-4EE7-AE05-4D0B9544924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Mijn opleidingsbeel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student"/>
          <p:cNvPicPr/>
          <p:nvPr/>
        </p:nvPicPr>
        <p:blipFill>
          <a:blip r:embed="rId1"/>
          <a:stretch/>
        </p:blipFill>
        <p:spPr>
          <a:xfrm>
            <a:off x="2411280" y="1989000"/>
            <a:ext cx="4191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Algemene vakken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eke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ederl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ngels (alleen niveau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urgersch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gitaal geletterd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Hoe pak je het aa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en uitdelen verschillende benodigdheden per v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werken met Wiki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ZW u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roo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ocenten hier zij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udieloopbaanbegeleider = SL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kdoc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, ziektekunde, communicatievaardigheden, taal, rekenen, stagedoc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pbouw van de oplei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3 fa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nerieke f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pecifieke fase (I en voor niveau 4 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stroomf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School en stage</a:t>
            </a: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in generieke fas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Object 82"/>
          <p:cNvGraphicFramePr/>
          <p:nvPr/>
        </p:nvGraphicFramePr>
        <p:xfrm>
          <a:off x="7192800" y="1628640"/>
          <a:ext cx="1951200" cy="21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0" y="1628640"/>
                    <a:ext cx="195120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Line 5"/>
          <p:cNvSpPr/>
          <p:nvPr/>
        </p:nvSpPr>
        <p:spPr>
          <a:xfrm>
            <a:off x="611280" y="2349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133360"/>
            <a:ext cx="799128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opbouw schooljaar met de st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veelheid stage en afwisseling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soort stageplekk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bereid je nu voor, voor op de eerste lesd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42960" y="1928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9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en competentie is een combinatie 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enn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aardig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u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e je in een bepaalde context laat zi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ls verpleegkundige/verzorgende weet je … kun je … ben je … in het contact met de zorgvra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Waarom competentiegericht onderwij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landelijke ontwikkeling binnen onderwijs, is verplicht door overheid per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ok binnen verpleegkundig/verzorgend beroep: kwalificatiedossier MBO verpleegkundige/verzorgende is op basis van kerntaken werkprocessen en competen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alles zelf moeten uitzoe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hetzelfde als geen 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zelfstandigheid als verpleegkundige/verzorge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een verpleegkundige/verzorgende die kennis heeft, vaardig is, op een juiste wijze met mensen omgaat en zich blijft ontwikk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n 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jk je telkens na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straks kennen en kun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weet ik al, kan ik al, ben ik a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dus nog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e ga ik dat aanto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ga ik er voor doen om dat te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ierin wordt je begeleid door je studieloopbaanbegeleid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 Kerntaken, werkprocessen en competen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 kwalificatiedossier is opgebouwd ui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Kerntaken (bv 1. bieden van verpleegkundige zorg en ondersteuning op basis van verpleegpl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Werkprocessen (bv 1.1 stelt verpleegkundige diagnose en stelt verpleegplan o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Competenties (bv presenteren of begeleiden (25 competenties)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ertaling naar de beroepspresaties (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kerntaken en werkprocessen zijn vertaalt naar beroepsprestaties. Dat wat je uiteindelijk in de praktijk moet behal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Uitgevoerd aan de hand van het werkboek voor de stage: ‘Beroepsprestaties Generieke opleidingsfase’ met allerlei opdracht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lessen op school zijn ondersteunend in het behalen van de beroepsprestaties op je st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akinhoudelijk onderwijs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988640"/>
            <a:ext cx="785988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basi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plu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ster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aktijkonderwij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ommunicatievaar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ojec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F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 - 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nderwijs ter ondersteu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udieloopbaan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visie (ter ondersteuning van de stag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3:01:51Z</dcterms:created>
  <dc:creator>pouwerh</dc:creator>
  <dc:description/>
  <dc:language>en-US</dc:language>
  <cp:lastModifiedBy>Maaike de Bruin</cp:lastModifiedBy>
  <dcterms:modified xsi:type="dcterms:W3CDTF">2014-07-08T12:17:14Z</dcterms:modified>
  <cp:revision>33</cp:revision>
  <dc:subject/>
  <dc:title>COMPETENTIEGERICHTE OPLEIDING: Wat is dat ???</dc:title>
</cp:coreProperties>
</file>