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4AEC-306F-47C1-9844-2CFA7AEB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AE6-B9C3-4140-AF64-3A9ED626C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DDB4-C2B8-4D80-BB3A-FC53E1B1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9813-CAB9-45D4-9A9E-E2D870BD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9F17D-FAA1-41C5-BD26-306FC6BF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FEE5A-BAA5-4ED2-A801-719E2371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B7022-ED0B-4CEE-A020-78831671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DF852-E984-45BB-B95B-921B9148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C14A7-F504-4DEC-B293-8DEF13A5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26B44-3152-4B47-93ED-2855A841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7B9516-AEB2-4CB1-A9DD-090A1789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3140-401B-48E1-BF07-848FF6EC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33AF6-A7A6-4A0D-9E32-172C00B4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E96478-48B7-41D5-85A1-FB3B52DA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182D2A-8C1B-4AC7-AFFB-72F206E9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D3954-E52F-4456-AC0A-1F7131F5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1DB114-E7A3-4BD9-A2F0-1CDE8DDD8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1D23-8736-4C13-BD50-7FA5CDCB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AB25-7721-49F4-9F2A-B51BBCC6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F13E-71F3-406C-B724-A4FAA1F0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A1E4-1F73-4C20-8FC7-6FD0C114A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144F-82D6-4FD1-BFD0-EF1646D2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12C-BC00-4B2D-916B-7ADB4F38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C20-D590-4ADA-9C9B-AAFEBDBF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7060-C0E8-48DB-B669-49D94D23E82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2C77E-2408-44F5-A580-7E7AEEF81BE0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Mijn opleidingsbeeld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student"/>
          <p:cNvPicPr/>
          <p:nvPr/>
        </p:nvPicPr>
        <p:blipFill>
          <a:blip r:embed="rId1"/>
          <a:stretch/>
        </p:blipFill>
        <p:spPr>
          <a:xfrm>
            <a:off x="2411280" y="1989000"/>
            <a:ext cx="41911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Algemene vakken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Reken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Nederl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ngels (alleen niveau 4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Burgerscha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gitaal geletterd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Hoe pak je het aan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en uitdelen verschillende benodigdheden per va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werken met Wiki’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ZW u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roo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Docenten hier zij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Studieloopbaanbegeleider = SL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akdoc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, ziektekunde, communicatievaardigheden, taal, rekenen, stagedoce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pbouw van de opleid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3 fas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Generieke fa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pecifieke fase (I en voor niveau 4 II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stroomfa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School en stage</a:t>
            </a:r>
            <a:br>
              <a:rPr sz="4000"/>
            </a:b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in generieke fas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1" name="Object 82"/>
          <p:cNvGraphicFramePr/>
          <p:nvPr/>
        </p:nvGraphicFramePr>
        <p:xfrm>
          <a:off x="7192800" y="1628640"/>
          <a:ext cx="1951200" cy="21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0" y="1628640"/>
                    <a:ext cx="1951200" cy="21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Line 5"/>
          <p:cNvSpPr/>
          <p:nvPr/>
        </p:nvSpPr>
        <p:spPr>
          <a:xfrm>
            <a:off x="611280" y="2349360"/>
            <a:ext cx="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2133360"/>
            <a:ext cx="799128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opbouw schooljaar met de st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eveelheid stage en afwisseling schoo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Uitleg soort stageplekk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bereid je nu voor, voor op de eerste lesda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42960" y="19288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8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nl-NL" sz="96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Een competentie is een combinatie v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Kenn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Vaardighei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ou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die je in een bepaalde context laat zie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Als verpleegkundige/verzorgende weet je … kun je … ben je … in het contact met de zorgvrag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ahoma"/>
              </a:rPr>
              <a:t>Waarom competentiegericht onderwij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landelijke ontwikkeling binnen onderwijs, is verplicht door overheid per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Ook binnen verpleegkundig/verzorgend beroep: kwalificatiedossier MBO verpleegkundige/verzorgende is op basis van kerntaken werkprocessen en competen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alles zelf moeten uitzoe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NIET hetzelfde als geen 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zelfstandigheid als verpleegkundige/verzorgen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s WEL toewerken naar een verpleegkundige/verzorgende die kennis heeft, vaardig is, op een juiste wijze met mensen omgaat en zich blijft ontwikkel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n competentiegericht onderwij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Kijk je telkens naa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straks kennen en kun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weet ik al, kan ik al, ben ik 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moet ik dus nog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oe ga ik dat aanton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Wat ga ik er voor doen om dat te leren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Hierin wordt je begeleid door je studieloopbaanbegeleid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I Kerntaken, werkprocessen en competent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t kwalificatiedossier is opgebouwd ui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Kerntaken (bv 1. bieden van verpleegkundige zorg en ondersteuning op basis van verpleegpla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Werkprocessen (bv 1.1 stelt verpleegkundige diagnose en stelt verpleegplan op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-Competenties (bv presenteren of begeleiden (25 competenties)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ertaling naar de beroepspresaties (4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kerntaken en werkprocessen zijn vertaalt naar beroepsprestaties. Dat wat je uiteindelijk in de praktijk moet behal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Uitgevoerd aan de hand van het werkboek voor de stage: ‘Beroepsprestaties Generieke opleidingsfase’ met allerlei opdrachte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De lessen op school zijn ondersteunend in het behalen van de beroepsprestaties op je stag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Vakinhoudelijk onderwijs op de Utrechste Zorgacadem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40" y="1988640"/>
            <a:ext cx="785988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basi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Verpleegkunde/Verzorging plusprogra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Masterclas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aktijkonderwij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ommunicatievaardighed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Projec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AF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ZW - ur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Tahoma"/>
              </a:rPr>
              <a:t>Onderwijs ter ondersteun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Studieloopbaanbegelei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Intervisie (ter ondersteuning van de stag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3:01:51Z</dcterms:created>
  <dc:creator>pouwerh</dc:creator>
  <dc:description/>
  <dc:language>en-US</dc:language>
  <cp:lastModifiedBy>Maaike de Bruin</cp:lastModifiedBy>
  <dcterms:modified xsi:type="dcterms:W3CDTF">2014-07-08T12:17:14Z</dcterms:modified>
  <cp:revision>33</cp:revision>
  <dc:subject/>
  <dc:title>COMPETENTIEGERICHTE OPLEIDING: Wat is dat ???</dc:title>
</cp:coreProperties>
</file>