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AFA0-51F2-43BA-907D-CA7FAF57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E7C-6054-4FB5-B6E0-BEAD66CF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D9CF-F757-4510-83CC-BE502D59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6DB6-70AA-4869-8590-580EC281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38A-A1BF-46D0-BCFE-F82043D5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027-A993-4A42-B712-EECC37F6F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72A-BC42-4CD3-A6B7-5C9C3BF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8CAF-AFBA-4102-B999-E1628F1D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54FC-F0F5-4A7C-A748-F2DEF62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2EA-B43E-4C0C-BCF9-54202C4C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711-C8A7-4135-9F27-EC1D2D6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CFB-A055-48E6-8A98-C4F945B0D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FA20-32BE-400A-89CB-29380865F43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826920" y="633240"/>
            <a:ext cx="777744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856720" cy="66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642160" cy="6456600"/>
          </a:xfrm>
          <a:prstGeom prst="rect">
            <a:avLst/>
          </a:prstGeom>
          <a:ln w="0">
            <a:noFill/>
          </a:ln>
        </p:spPr>
      </p:pic>
      <p:sp>
        <p:nvSpPr>
          <p:cNvPr id="56" name="Tekstvak 2"/>
          <p:cNvSpPr/>
          <p:nvPr/>
        </p:nvSpPr>
        <p:spPr>
          <a:xfrm>
            <a:off x="971640" y="516420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tfSVtTSVP7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5616360" cy="4206960"/>
          </a:xfrm>
          <a:prstGeom prst="rect">
            <a:avLst/>
          </a:prstGeom>
          <a:ln w="0">
            <a:noFill/>
          </a:ln>
        </p:spPr>
      </p:pic>
      <p:sp>
        <p:nvSpPr>
          <p:cNvPr id="58" name="Tekstvak 1"/>
          <p:cNvSpPr/>
          <p:nvPr/>
        </p:nvSpPr>
        <p:spPr>
          <a:xfrm>
            <a:off x="1359360" y="6095880"/>
            <a:ext cx="22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lik op de afbee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kstvak 1"/>
          <p:cNvSpPr/>
          <p:nvPr/>
        </p:nvSpPr>
        <p:spPr>
          <a:xfrm>
            <a:off x="1211400" y="549360"/>
            <a:ext cx="47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Digitaal pest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hthoek 3"/>
          <p:cNvSpPr/>
          <p:nvPr/>
        </p:nvSpPr>
        <p:spPr>
          <a:xfrm>
            <a:off x="1042920" y="692280"/>
            <a:ext cx="72010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jij doen tege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logg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ster blokker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st-mailtjes negeren, er vooral niet op antwoorden en ook niet terug pest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print maken van het gesprek en jou dit laten zien. Je kunt dan samen kijken hoe je het oplos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beheerder van een website vragen de foto's of filmpjes onmiddellijk te verwijder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over praten met vertrouwde mensen: vrienden, de mentor, een leerkracht, bur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hthoek 3"/>
          <p:cNvSpPr/>
          <p:nvPr/>
        </p:nvSpPr>
        <p:spPr>
          <a:xfrm>
            <a:off x="1042920" y="692280"/>
            <a:ext cx="7201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Kun je aangifte doen van digitaal pest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dt je gestalkt, bedreigd, gechanteerd, afgeperst of op een andere manier onder druk gezet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 dan contact op met de politie en doe aangifte, samen met je ouders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bewijs voor nodig: print de tekst, de foto('s) of de website en laat die zien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olen hebben vaak een vertrouwenspersoon bij de politie. (Zorgteamkam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dader kan worden vervolgd volgens wetsartikel 285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509760" y="2421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s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kstvak 3"/>
          <p:cNvSpPr/>
          <p:nvPr/>
        </p:nvSpPr>
        <p:spPr>
          <a:xfrm>
            <a:off x="684360" y="98100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versta jij onder pest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kstvak 1"/>
          <p:cNvSpPr/>
          <p:nvPr/>
        </p:nvSpPr>
        <p:spPr>
          <a:xfrm>
            <a:off x="539640" y="386064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is het verschil tussen plagen en pes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kstvak 2"/>
          <p:cNvSpPr/>
          <p:nvPr/>
        </p:nvSpPr>
        <p:spPr>
          <a:xfrm>
            <a:off x="573120" y="48690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e spelen het spe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een nieuwe lln in de kla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324000" y="257040"/>
            <a:ext cx="8640720" cy="64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79280" y="149400"/>
            <a:ext cx="8785440" cy="65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95280" y="311040"/>
            <a:ext cx="8497800" cy="63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  <p:sp>
        <p:nvSpPr>
          <p:cNvPr id="50" name="Tekstvak 1"/>
          <p:cNvSpPr/>
          <p:nvPr/>
        </p:nvSpPr>
        <p:spPr>
          <a:xfrm>
            <a:off x="1258920" y="4632480"/>
            <a:ext cx="51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s://youtube.googleapis.com/v/ktnIXiEUQ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539640" y="417600"/>
            <a:ext cx="84250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5120"/>
            <a:ext cx="8713800" cy="652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50920" y="203040"/>
            <a:ext cx="8785080" cy="65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2:11:10Z</dcterms:created>
  <dc:creator>Almelo</dc:creator>
  <dc:description/>
  <dc:language>en-US</dc:language>
  <cp:lastModifiedBy>Frank Ruiter</cp:lastModifiedBy>
  <dcterms:modified xsi:type="dcterms:W3CDTF">2016-12-22T09:47:43Z</dcterms:modified>
  <cp:revision>38</cp:revision>
  <dc:subject/>
  <dc:title>SOVA</dc:title>
</cp:coreProperties>
</file>