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047-8F5C-40AE-B668-333D8A168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746-C25C-400C-89AC-8B829F5F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B0C9-CD39-4F52-925F-326AC8720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CAB-1E82-46B7-A041-822B4546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B31B-8FAA-434E-99E3-63EC257D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C393-651E-49A9-948E-1B5CA1EC9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FE2-40F2-40C2-9DF2-6D8118AFF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1FB8-C756-4F8A-804E-02E8C053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2A6B-D0E0-4BBE-9FBF-E1E692D4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511-C157-4851-BFEA-C1780B1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B40-ED71-4FD5-A07F-5D6E77F0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D816-3AA8-408E-884E-6DB978AE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4AFC-C48B-46FC-86C8-19B23FAAA983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ED83-04BA-4797-A381-DE11B56AB0D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ag.nl/wp-content/uploads/2009/03/koorts-geiten-overijssel.jpg&amp;imgrefurl=http://www.dag.nl/binnenland/koorts-duikt-overijssel-237444&amp;usg=__cfAwiKIsYoQxqUymG3AwFfyRMUs=&amp;h=293&amp;w=500&amp;sz=24&amp;hl=nl&amp;start=7&amp;um=1&amp;tbnid=ObXW8RoAPb3J-M:&amp;tbnh=76&amp;tbnw=130&amp;prev=/images%3Fq%3Dq%2Bkoorts%26hl%3Dnl%26sa%3DN%26um%3D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itenbedrijven worden via de tankmelk getest op Qkoo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kan getest worden op antigeen: de Qkoorts bacterie (Coxiella Burnet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kan getest worden op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ti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toffen tgv besmetting met C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ot slot kan de individuele geit getest worden met vaginaal swa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60B0-B523-44F1-BE10-EBD4B923E5E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Afbeelding 3" descr="q-koorts_748920b.jpg"/>
          <p:cNvPicPr/>
          <p:nvPr/>
        </p:nvPicPr>
        <p:blipFill>
          <a:blip r:embed="rId1"/>
          <a:stretch/>
        </p:blipFill>
        <p:spPr>
          <a:xfrm>
            <a:off x="6227640" y="3213000"/>
            <a:ext cx="243864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tank melk wordt getest op de q koorts bacterie met een PC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CR is een test die weinig DNA van de bacterie kan vermeerderen en zo ook enkele bacteriën kan aanton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PCR test noemen ze vaak de gouden standa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61FA-694F-4731-904D-EFA6C0D76D75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ijdelijke aanduiding voor inhoud 4" descr="qkoorts.jpg"/>
          <p:cNvPicPr/>
          <p:nvPr/>
        </p:nvPicPr>
        <p:blipFill>
          <a:blip r:embed="rId1"/>
          <a:stretch/>
        </p:blipFill>
        <p:spPr>
          <a:xfrm>
            <a:off x="5076720" y="4797360"/>
            <a:ext cx="32162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alle geiten geven me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arom wordt er ook bloed onderzoc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 het serum wordt met een ELISA antistoffen tegen CB aangeto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is een “afdruk” van de bacterie en kan makkelijk nog 2 jaar positief bl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ok kan een geit nog maar ne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 zijn met CB en nog g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tistoffen gemaakt heb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DA3E-23BD-4B17-8B79-E8D18F05787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koorts-geiten-overijsse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24280"/>
            <a:ext cx="23036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wab van de vagina wordt ook met PCR ge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eren besmet met CB schei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t steeds uit via de vag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elfs niet alle seropositieve dieren (met antistoffen =antilichamen tegen CB) scheiden CB via de vagina uit, maar vele juist w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tistoffen beschermen niet tegen uitscheiding CB wel tegen abor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EA06-6899-4CCB-9476-78AEDE5F251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verburg-bekritiseert-rivm-koorts"/>
          <p:cNvPicPr/>
          <p:nvPr/>
        </p:nvPicPr>
        <p:blipFill>
          <a:blip r:embed="rId1"/>
          <a:stretch/>
        </p:blipFill>
        <p:spPr>
          <a:xfrm>
            <a:off x="6443640" y="2205000"/>
            <a:ext cx="187164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Test kan vals positief (vals alarm) of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vals negatief zij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PCR (in melk) is meest betrouwbaar en wordt daarmee de gouden standaard genoem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Betrouwbaarheid van een tes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ordt uitgedrukt m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ensitiviteit: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gevoelighe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Specificiteit: 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hoe specifiek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uidt de test de bacterie a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9671-8A90-4DF6-841B-7A04C594D57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qkoorts_geiten_1024779b"/>
          <p:cNvPicPr/>
          <p:nvPr/>
        </p:nvPicPr>
        <p:blipFill>
          <a:blip r:embed="rId1"/>
          <a:stretch/>
        </p:blipFill>
        <p:spPr>
          <a:xfrm>
            <a:off x="5867280" y="3645000"/>
            <a:ext cx="3025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betrouwbare test heeft e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ge reproduceerbaarhei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test geeft hetzelfde resultaat als twee onafhankelijke testen die op hetzelfde monster gedaan wo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evalentie (voorkomen) van een ziekte kiem bepaalt of een bepaalde test in praktijksituaties gebruikt kan wor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E5F3E-D17F-4E0E-8292-6F78CABA153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Q-Koorts? Geiten? Gelukkig!"/>
          <p:cNvPicPr/>
          <p:nvPr/>
        </p:nvPicPr>
        <p:blipFill>
          <a:blip r:embed="rId1"/>
          <a:stretch/>
        </p:blipFill>
        <p:spPr>
          <a:xfrm>
            <a:off x="6372360" y="1125360"/>
            <a:ext cx="251460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edrijven zijn via de tankmelk gescre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is uitgezocht dat een positieve tankmelk een betrouwbare indicatie is voor de aanwezigheid van CB op het bedrij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B komt vrij bij het aflammeren van de (besmette gei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 grote bedrijven kunnen z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rote aantallen CB kiemen 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strooisel k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BC9F-ECF1-4D97-94A0-17B138DBC35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1917504963_1999999635_1_440x293"/>
          <p:cNvPicPr/>
          <p:nvPr/>
        </p:nvPicPr>
        <p:blipFill>
          <a:blip r:embed="rId1"/>
          <a:stretch/>
        </p:blipFill>
        <p:spPr>
          <a:xfrm>
            <a:off x="5219640" y="4005360"/>
            <a:ext cx="361476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Q koorts en laboratorium tes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ijd ontbreekt om alle dieren te testen op C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ren moeten ook meerdere keren getest worden om vals negatieven uit te slui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an is de bacterie al weer in het milieu terecht geko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m uitscheiding van de bacterie in het milieu te voorkomen moesten ook gezonde drachtige geiten op grote bedrijven geruimd wor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ijdelijke aanduiding voor dianumm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BBCB-449E-422E-973C-62387D7FC47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voettekst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DGW 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Qkoorts??"/>
          <p:cNvPicPr/>
          <p:nvPr/>
        </p:nvPicPr>
        <p:blipFill>
          <a:blip r:embed="rId1"/>
          <a:stretch/>
        </p:blipFill>
        <p:spPr>
          <a:xfrm>
            <a:off x="6084720" y="5013360"/>
            <a:ext cx="2843280" cy="15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20:13:34Z</dcterms:created>
  <dc:creator>Hessel</dc:creator>
  <dc:description/>
  <dc:language>en-US</dc:language>
  <cp:lastModifiedBy>Administrator</cp:lastModifiedBy>
  <dcterms:modified xsi:type="dcterms:W3CDTF">2014-03-24T11:43:56Z</dcterms:modified>
  <cp:revision>8</cp:revision>
  <dc:subject/>
  <dc:title>Q koorts en laboratorium testen</dc:title>
</cp:coreProperties>
</file>