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A8E7-7AEA-44BF-9929-B7F3221F05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2D35-7428-4518-B1D2-06B980AC5C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t is laboratorium we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hond met huidklachten onderzoek je tijdens het 1</a:t>
            </a:r>
            <a:r>
              <a:rPr b="0" lang="nl-NL" sz="1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ziet wat zwarte kor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witte schilfers, heel vaak op de achter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vlooienkam is gauw gepa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D62E-E36E-4354-9C96-EDEFF2577B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luorescentie mbv Woodsel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v licht doet de schimmel draden oplich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is een aanwijzing, geen zekerhe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gelmatig schimmel, zonder fluorescentie, maar ook wel eens fluorescentie zonder schimmel (bijvoorbeeld tgv het antibioticum OTC= oxytetracyc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1F2-9E18-48BC-94EA-9B07C39F2E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x haarschacht aangetast door schim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strakke belijning van de schacht m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l korrels, sporen van de schim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ynoniemen van schimmel: trichofytie, microsporie,  ringschurft, rijksdaalderschurft, ringvu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374-0EEA-462A-BEE0-8CD0508A4A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 onder een pincet weggetrokken: op een voorwerpglaasje, onder een druppel ol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je ziet soms nog wat bewe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t plakt er aan de haren? Neten met uitlaatkl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620-9ABB-4051-BE6E-1BF6CCD2E8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 scalpel(of scherpe lepel) maak je een afkrabs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 de microscoop tref je de haarzakmijt; demodex a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8 pootjes maakt een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47C-5C0F-487D-8388-87601DE582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ok een vorm van demo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erk gelokaliseerd ipv gegeneralisee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8 pootjes maakt een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C951-2A34-4463-97FD-EF8C1AD0C5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hond heeft veel jeuk; komt van een puppycent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 een plakbandje tref ik slechts 3 eitjes a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och motiveert dit om verder te zoe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te schurft; scabies. De mijt graaft vlak onder de opperh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ardoor moeilijk aan te tonen. Ook gering in aa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E741-0D16-4779-AEA1-18F18393EF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te huid biopt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 een soort appelboortje pons je een rondje uit de hu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t moet je vervolgens wel weer hechten, nieten, agr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88C2-D819-4F16-8FB2-045E629039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t met schurftmij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E6F-BEC4-402C-A6A8-D6E2BE7F18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ssale infestatie van een (tropische)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och geen oor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F4F-15E5-497E-A16C-CB6FE044ED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NAB dun naald aspiratie bi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steekt de naald in de bult die je wilt onderzoeke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or een beetje vacuüm op de naald te zetten, zuigt de naald zich v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inhoud van de naald smeer je uit op een voorwerpglaas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stal stuur je dit op, anders kleur je het zelf met diff qu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8FF-FF33-4317-920D-A80308C7C0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r blijft wat achter op de vlooienkam; doe er wat water bij, op een witt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ziet bloed waarvan de rode kleurstof als een vlek diffundee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bekijk dat korreltje dat wel een komma lijkt onder de microsc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croscoop bij de hand en bekijk wat meer debris: een 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elfs een larve is zichtbaar, maar meestal aardig doorzichti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gnose: v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2C7-5045-4C24-8319-6B27189484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e schilfers? Allemaal gelijk van groo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ige beweging is er wel; wat zou dit zij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kke luis met brede bek: bijtende l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1AF7-2113-4F40-8A35-51D26E7EAB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edipalpen gestr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rgaan van Haller op de voorpoten reageren op warmte of CO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de leerlingen op de geur van koff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,2,3,4,5 teken; tee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CF3-87DD-40ED-8FBA-0D36139892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 die witte schilfers; zeer gelijkmatige witte ovaaltj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izen ei ook wel n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izen, met brede kaken of spitssnui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29D-D8FF-4DF7-9136-897A874B49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ere soort schilfering; met of zonder jeu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dit geval onder de microscoo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achtmijt: te herkennen aan hakerige mondde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2AC-3ECB-471E-9EFF-3425AD6F44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 de microscoop, want klein: 6 poten; larve van een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ote oog: volwassen vrouwtje, klaar om eieren te gaan produc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nminste als er ook een mannetje is langsgewe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6E9-D7EA-4208-9DDC-F1D80FD8DC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s plak werk: plakband om de parasiet te oogst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ogstmijt; goede reden om flink jeuk te heb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4FF-E3F3-4349-AE48-68DD116CB2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er moment is de parasiet in grote getale aanwezi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ar je toont hem pas aan na kleuring van het plakbandje dat je op de huid geplakt heb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E39-364B-4D6D-8196-07115D4AB3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soort “open” wattenstaaf waarmee oorsmeer geoogs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t afwijkende cerumen wordt op een voorwerpglaasje gesmee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rst vallen de eieren op, dan blijkt zich ook nog een mijt verstopt te heb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5C3-A765-45CB-B4B5-28926073ED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bwerk vraagt soms om speciale apparatu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huid laesie bij een mens die een kat op schoot he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bruik een vergrootglas, met Woodse lamp met uv lich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verzamel haar van de aangetaste plaats en verhelder het met ko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ziet een haar die aangetast is door de schimmel: sporen om de schach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strak belijnde haarscha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395-1686-4F81-8D60-D875BB7E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639-6818-41D4-8259-8B08B92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6D6-88E9-401F-8862-513FCA31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866-030D-4509-8487-CC3EC31B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5C5-2CEB-462D-AED2-3B06B54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004-FA4E-45A8-95FE-DEA226D3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30C-B463-464F-BB2D-8BDECDE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C61-CCB8-4AAA-8106-60C7EBC4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F1F-09D5-4301-95A3-E0CA87C4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83B-2027-4298-B38B-EDFD670D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970-9F23-4489-A0A1-A55786F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D9D-02B3-4E16-BEC4-22DFDE20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FFBE-9E47-428A-8DCB-3BBCDCB00A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6D0-20DF-4497-A3DB-F6F489C97E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looienkamtest"/>
          <p:cNvPicPr/>
          <p:nvPr/>
        </p:nvPicPr>
        <p:blipFill>
          <a:blip r:embed="rId1"/>
          <a:stretch/>
        </p:blipFill>
        <p:spPr>
          <a:xfrm>
            <a:off x="250920" y="1341360"/>
            <a:ext cx="2923920" cy="483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vlo faeces in de vacht 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64000" y="189000"/>
            <a:ext cx="3003480" cy="248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luis in vacht hond 2"/>
          <p:cNvPicPr/>
          <p:nvPr/>
        </p:nvPicPr>
        <p:blipFill>
          <a:blip r:embed="rId3"/>
          <a:srcRect l="0" t="6372" r="0" b="0"/>
          <a:stretch/>
        </p:blipFill>
        <p:spPr>
          <a:xfrm>
            <a:off x="3564000" y="2924280"/>
            <a:ext cx="2305080" cy="186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heyl15"/>
          <p:cNvPicPr/>
          <p:nvPr/>
        </p:nvPicPr>
        <p:blipFill>
          <a:blip r:embed="rId4"/>
          <a:stretch/>
        </p:blipFill>
        <p:spPr>
          <a:xfrm>
            <a:off x="6149880" y="3716280"/>
            <a:ext cx="2994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6EF0-4456-4F15-8A5D-263E5CC632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woodselamp"/>
          <p:cNvPicPr/>
          <p:nvPr/>
        </p:nvPicPr>
        <p:blipFill>
          <a:blip r:embed="rId1"/>
          <a:srcRect l="0" t="0" r="62144" b="0"/>
          <a:stretch/>
        </p:blipFill>
        <p:spPr>
          <a:xfrm>
            <a:off x="684360" y="1341360"/>
            <a:ext cx="2928960" cy="460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luoriscentie 1"/>
          <p:cNvPicPr/>
          <p:nvPr/>
        </p:nvPicPr>
        <p:blipFill>
          <a:blip r:embed="rId2"/>
          <a:stretch/>
        </p:blipFill>
        <p:spPr>
          <a:xfrm>
            <a:off x="4211640" y="3471840"/>
            <a:ext cx="4608360" cy="305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luoriscentie 2"/>
          <p:cNvPicPr/>
          <p:nvPr/>
        </p:nvPicPr>
        <p:blipFill>
          <a:blip r:embed="rId3"/>
          <a:stretch/>
        </p:blipFill>
        <p:spPr>
          <a:xfrm>
            <a:off x="4427640" y="620640"/>
            <a:ext cx="3887640" cy="2617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30160" y="61657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dse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F011-E5E3-4FD1-8F20-312B308610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chimmel haar 7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4033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himmel haar 6"/>
          <p:cNvPicPr/>
          <p:nvPr/>
        </p:nvPicPr>
        <p:blipFill>
          <a:blip r:embed="rId2"/>
          <a:stretch/>
        </p:blipFill>
        <p:spPr>
          <a:xfrm>
            <a:off x="0" y="2631960"/>
            <a:ext cx="51847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898A-950D-4990-B98F-4DF42CB629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haaronderzoek"/>
          <p:cNvPicPr/>
          <p:nvPr/>
        </p:nvPicPr>
        <p:blipFill>
          <a:blip r:embed="rId1"/>
          <a:stretch/>
        </p:blipFill>
        <p:spPr>
          <a:xfrm>
            <a:off x="539640" y="1125360"/>
            <a:ext cx="3059280" cy="475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luis neten 3"/>
          <p:cNvPicPr/>
          <p:nvPr/>
        </p:nvPicPr>
        <p:blipFill>
          <a:blip r:embed="rId2"/>
          <a:stretch/>
        </p:blipFill>
        <p:spPr>
          <a:xfrm>
            <a:off x="4019400" y="0"/>
            <a:ext cx="5124600" cy="411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luis neten 1"/>
          <p:cNvPicPr/>
          <p:nvPr/>
        </p:nvPicPr>
        <p:blipFill>
          <a:blip r:embed="rId3"/>
          <a:srcRect l="0" t="7503" r="0" b="0"/>
          <a:stretch/>
        </p:blipFill>
        <p:spPr>
          <a:xfrm>
            <a:off x="3348000" y="3716280"/>
            <a:ext cx="36943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3297-8BF4-4121-80E8-621F4616E9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huidafkrabsel"/>
          <p:cNvPicPr/>
          <p:nvPr/>
        </p:nvPicPr>
        <p:blipFill>
          <a:blip r:embed="rId1"/>
          <a:stretch/>
        </p:blipFill>
        <p:spPr>
          <a:xfrm>
            <a:off x="250920" y="907920"/>
            <a:ext cx="3112920" cy="532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modex canis 7"/>
          <p:cNvPicPr/>
          <p:nvPr/>
        </p:nvPicPr>
        <p:blipFill>
          <a:blip r:embed="rId2"/>
          <a:stretch/>
        </p:blipFill>
        <p:spPr>
          <a:xfrm>
            <a:off x="5003640" y="189000"/>
            <a:ext cx="3527640" cy="330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modex canis 1"/>
          <p:cNvPicPr/>
          <p:nvPr/>
        </p:nvPicPr>
        <p:blipFill>
          <a:blip r:embed="rId3"/>
          <a:stretch/>
        </p:blipFill>
        <p:spPr>
          <a:xfrm>
            <a:off x="3635280" y="4005360"/>
            <a:ext cx="3522600" cy="2852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067440" y="35924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mo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4E39-0348-41B0-A9F8-C01CD17C5D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emodex canis 1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1052640"/>
            <a:ext cx="5153040" cy="4178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emodex canis 2"/>
          <p:cNvPicPr/>
          <p:nvPr/>
        </p:nvPicPr>
        <p:blipFill>
          <a:blip r:embed="rId2">
            <a:lum bright="12000"/>
          </a:blip>
          <a:srcRect l="0" t="6562" r="0" b="0"/>
          <a:stretch/>
        </p:blipFill>
        <p:spPr>
          <a:xfrm>
            <a:off x="4427640" y="3075120"/>
            <a:ext cx="4443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A7C-5CCF-43E9-942A-90A74877D1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churft hond uitw 1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293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schurft hond 4"/>
          <p:cNvPicPr/>
          <p:nvPr/>
        </p:nvPicPr>
        <p:blipFill>
          <a:blip r:embed="rId2"/>
          <a:stretch/>
        </p:blipFill>
        <p:spPr>
          <a:xfrm>
            <a:off x="4788000" y="189000"/>
            <a:ext cx="4236840" cy="338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hurft hond ei"/>
          <p:cNvPicPr/>
          <p:nvPr/>
        </p:nvPicPr>
        <p:blipFill>
          <a:blip r:embed="rId3"/>
          <a:stretch/>
        </p:blipFill>
        <p:spPr>
          <a:xfrm>
            <a:off x="1187280" y="3933720"/>
            <a:ext cx="354996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churft hond 6"/>
          <p:cNvPicPr/>
          <p:nvPr/>
        </p:nvPicPr>
        <p:blipFill>
          <a:blip r:embed="rId4"/>
          <a:stretch/>
        </p:blipFill>
        <p:spPr>
          <a:xfrm>
            <a:off x="5003640" y="3645000"/>
            <a:ext cx="38163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CBBD-B232-45F8-BA9B-463149D74B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huidbiopt"/>
          <p:cNvPicPr/>
          <p:nvPr/>
        </p:nvPicPr>
        <p:blipFill>
          <a:blip r:embed="rId1"/>
          <a:stretch/>
        </p:blipFill>
        <p:spPr>
          <a:xfrm>
            <a:off x="1352520" y="1486080"/>
            <a:ext cx="6438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A589-9226-4927-A835-5AD1A7AB1E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churft kat 5"/>
          <p:cNvPicPr/>
          <p:nvPr/>
        </p:nvPicPr>
        <p:blipFill>
          <a:blip r:embed="rId1"/>
          <a:stretch/>
        </p:blipFill>
        <p:spPr>
          <a:xfrm>
            <a:off x="539640" y="1341360"/>
            <a:ext cx="4343400" cy="411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schurft kat 2"/>
          <p:cNvPicPr/>
          <p:nvPr/>
        </p:nvPicPr>
        <p:blipFill>
          <a:blip r:embed="rId2"/>
          <a:stretch/>
        </p:blipFill>
        <p:spPr>
          <a:xfrm>
            <a:off x="5219640" y="189000"/>
            <a:ext cx="3710160" cy="303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churft kat 3"/>
          <p:cNvPicPr/>
          <p:nvPr/>
        </p:nvPicPr>
        <p:blipFill>
          <a:blip r:embed="rId3"/>
          <a:stretch/>
        </p:blipFill>
        <p:spPr>
          <a:xfrm>
            <a:off x="5219640" y="3573360"/>
            <a:ext cx="36702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9FC-4AC8-4194-88C1-2AEAFC79A7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teek massaal"/>
          <p:cNvPicPr/>
          <p:nvPr/>
        </p:nvPicPr>
        <p:blipFill>
          <a:blip r:embed="rId1"/>
          <a:stretch/>
        </p:blipFill>
        <p:spPr>
          <a:xfrm>
            <a:off x="1332000" y="1052640"/>
            <a:ext cx="6665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EB2-C358-4952-970C-A466B11AE2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dunnenaaldaspiratiebiopt"/>
          <p:cNvPicPr/>
          <p:nvPr/>
        </p:nvPicPr>
        <p:blipFill>
          <a:blip r:embed="rId1"/>
          <a:stretch/>
        </p:blipFill>
        <p:spPr>
          <a:xfrm>
            <a:off x="1328760" y="1481040"/>
            <a:ext cx="6486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B164-F3EA-4059-AD38-FBE619E636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vlo faeces onder de microscoop"/>
          <p:cNvPicPr/>
          <p:nvPr/>
        </p:nvPicPr>
        <p:blipFill>
          <a:blip r:embed="rId1"/>
          <a:stretch/>
        </p:blipFill>
        <p:spPr>
          <a:xfrm>
            <a:off x="4859280" y="1193760"/>
            <a:ext cx="3600360" cy="29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vlo faeces in druppel water"/>
          <p:cNvPicPr/>
          <p:nvPr/>
        </p:nvPicPr>
        <p:blipFill>
          <a:blip r:embed="rId2"/>
          <a:stretch/>
        </p:blipFill>
        <p:spPr>
          <a:xfrm>
            <a:off x="684360" y="1197000"/>
            <a:ext cx="37447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vlo ei"/>
          <p:cNvPicPr/>
          <p:nvPr/>
        </p:nvPicPr>
        <p:blipFill>
          <a:blip r:embed="rId3"/>
          <a:stretch/>
        </p:blipFill>
        <p:spPr>
          <a:xfrm>
            <a:off x="900000" y="4437000"/>
            <a:ext cx="2783160" cy="22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vlo larve"/>
          <p:cNvPicPr/>
          <p:nvPr/>
        </p:nvPicPr>
        <p:blipFill>
          <a:blip r:embed="rId4"/>
          <a:stretch/>
        </p:blipFill>
        <p:spPr>
          <a:xfrm>
            <a:off x="6227640" y="4437000"/>
            <a:ext cx="2702160" cy="21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vlo van kat 2"/>
          <p:cNvPicPr/>
          <p:nvPr/>
        </p:nvPicPr>
        <p:blipFill>
          <a:blip r:embed="rId5"/>
          <a:stretch/>
        </p:blipFill>
        <p:spPr>
          <a:xfrm rot="1878000">
            <a:off x="2050560" y="1484280"/>
            <a:ext cx="5106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4BD9-C7A0-4A48-A280-D0181D4579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luis in vacht hond 2"/>
          <p:cNvPicPr/>
          <p:nvPr/>
        </p:nvPicPr>
        <p:blipFill>
          <a:blip r:embed="rId1"/>
          <a:srcRect l="0" t="8011" r="0" b="0"/>
          <a:stretch/>
        </p:blipFill>
        <p:spPr>
          <a:xfrm>
            <a:off x="539640" y="1152360"/>
            <a:ext cx="6553440" cy="522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luis bijtend hond"/>
          <p:cNvPicPr/>
          <p:nvPr/>
        </p:nvPicPr>
        <p:blipFill>
          <a:blip r:embed="rId2"/>
          <a:stretch/>
        </p:blipFill>
        <p:spPr>
          <a:xfrm>
            <a:off x="5003640" y="3429000"/>
            <a:ext cx="3949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F0CC-C7A1-4894-A3A1-73FE5AB851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teek in omgeving"/>
          <p:cNvPicPr/>
          <p:nvPr/>
        </p:nvPicPr>
        <p:blipFill>
          <a:blip r:embed="rId1"/>
          <a:stretch/>
        </p:blipFill>
        <p:spPr>
          <a:xfrm>
            <a:off x="3059280" y="981000"/>
            <a:ext cx="5500440" cy="45212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684000" y="566100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ek five = pa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518F-13B6-473C-BCDF-8E918F20C0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luis neten 2"/>
          <p:cNvPicPr/>
          <p:nvPr/>
        </p:nvPicPr>
        <p:blipFill>
          <a:blip r:embed="rId1"/>
          <a:stretch/>
        </p:blipFill>
        <p:spPr>
          <a:xfrm>
            <a:off x="755640" y="2205000"/>
            <a:ext cx="3651120" cy="28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uis bijtend hond 2"/>
          <p:cNvPicPr/>
          <p:nvPr/>
        </p:nvPicPr>
        <p:blipFill>
          <a:blip r:embed="rId2"/>
          <a:stretch/>
        </p:blipFill>
        <p:spPr>
          <a:xfrm>
            <a:off x="5003640" y="0"/>
            <a:ext cx="3359160" cy="268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luis bijtend 2"/>
          <p:cNvPicPr/>
          <p:nvPr/>
        </p:nvPicPr>
        <p:blipFill>
          <a:blip r:embed="rId3"/>
          <a:stretch/>
        </p:blipFill>
        <p:spPr>
          <a:xfrm>
            <a:off x="4932360" y="2421000"/>
            <a:ext cx="3651120" cy="235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luis zuig hond 1"/>
          <p:cNvPicPr/>
          <p:nvPr/>
        </p:nvPicPr>
        <p:blipFill>
          <a:blip r:embed="rId4"/>
          <a:stretch/>
        </p:blipFill>
        <p:spPr>
          <a:xfrm>
            <a:off x="4932360" y="4451400"/>
            <a:ext cx="3598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ADA-65AA-4B67-A66B-7762E4D9BA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heyl14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32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heyl4"/>
          <p:cNvPicPr/>
          <p:nvPr/>
        </p:nvPicPr>
        <p:blipFill>
          <a:blip r:embed="rId2"/>
          <a:stretch/>
        </p:blipFill>
        <p:spPr>
          <a:xfrm>
            <a:off x="4716360" y="115920"/>
            <a:ext cx="4176720" cy="33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heyl5"/>
          <p:cNvPicPr/>
          <p:nvPr/>
        </p:nvPicPr>
        <p:blipFill>
          <a:blip r:embed="rId3"/>
          <a:stretch/>
        </p:blipFill>
        <p:spPr>
          <a:xfrm>
            <a:off x="4716360" y="3429000"/>
            <a:ext cx="4176720" cy="3295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902880" y="5445000"/>
            <a:ext cx="20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eyleti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achtmij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150-0FE6-4BB3-B334-550EEFAD40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eek larve 1"/>
          <p:cNvPicPr/>
          <p:nvPr/>
        </p:nvPicPr>
        <p:blipFill>
          <a:blip r:embed="rId1"/>
          <a:stretch/>
        </p:blipFill>
        <p:spPr>
          <a:xfrm>
            <a:off x="1116000" y="1052640"/>
            <a:ext cx="32288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teek volgezogen vrouwtje"/>
          <p:cNvPicPr/>
          <p:nvPr/>
        </p:nvPicPr>
        <p:blipFill>
          <a:blip r:embed="rId2"/>
          <a:stretch/>
        </p:blipFill>
        <p:spPr>
          <a:xfrm>
            <a:off x="4859280" y="549360"/>
            <a:ext cx="3333960" cy="266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teek paring"/>
          <p:cNvPicPr/>
          <p:nvPr/>
        </p:nvPicPr>
        <p:blipFill>
          <a:blip r:embed="rId3"/>
          <a:stretch/>
        </p:blipFill>
        <p:spPr>
          <a:xfrm>
            <a:off x="3059280" y="3716280"/>
            <a:ext cx="32414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5339-AF87-4A4C-9E14-A2A94A5CC5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plakbandtest"/>
          <p:cNvPicPr/>
          <p:nvPr/>
        </p:nvPicPr>
        <p:blipFill>
          <a:blip r:embed="rId1"/>
          <a:stretch/>
        </p:blipFill>
        <p:spPr>
          <a:xfrm>
            <a:off x="755640" y="1197000"/>
            <a:ext cx="2498760" cy="406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oogstmijt 3"/>
          <p:cNvPicPr/>
          <p:nvPr/>
        </p:nvPicPr>
        <p:blipFill>
          <a:blip r:embed="rId2"/>
          <a:stretch/>
        </p:blipFill>
        <p:spPr>
          <a:xfrm>
            <a:off x="4140360" y="404640"/>
            <a:ext cx="3779640" cy="30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ogstmijt 1"/>
          <p:cNvPicPr/>
          <p:nvPr/>
        </p:nvPicPr>
        <p:blipFill>
          <a:blip r:embed="rId3"/>
          <a:stretch/>
        </p:blipFill>
        <p:spPr>
          <a:xfrm>
            <a:off x="6191280" y="4292640"/>
            <a:ext cx="2952720" cy="240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oogstmijt 2"/>
          <p:cNvPicPr/>
          <p:nvPr/>
        </p:nvPicPr>
        <p:blipFill>
          <a:blip r:embed="rId4"/>
          <a:stretch/>
        </p:blipFill>
        <p:spPr>
          <a:xfrm>
            <a:off x="2987640" y="3716280"/>
            <a:ext cx="3124080" cy="2519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829080" y="5734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stmij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E445-212E-4C85-9459-2893CDDE98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alassezia extern"/>
          <p:cNvPicPr/>
          <p:nvPr/>
        </p:nvPicPr>
        <p:blipFill>
          <a:blip r:embed="rId1"/>
          <a:stretch/>
        </p:blipFill>
        <p:spPr>
          <a:xfrm>
            <a:off x="4572000" y="189000"/>
            <a:ext cx="4137120" cy="332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alassezia 4"/>
          <p:cNvPicPr/>
          <p:nvPr/>
        </p:nvPicPr>
        <p:blipFill>
          <a:blip r:embed="rId2"/>
          <a:stretch/>
        </p:blipFill>
        <p:spPr>
          <a:xfrm>
            <a:off x="179280" y="2565360"/>
            <a:ext cx="5143680" cy="4110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704200" y="4140360"/>
            <a:ext cx="221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laze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9EB9-06D7-44DE-8AC9-CE33EA2825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oorswab"/>
          <p:cNvPicPr/>
          <p:nvPr/>
        </p:nvPicPr>
        <p:blipFill>
          <a:blip r:embed="rId1"/>
          <a:stretch/>
        </p:blipFill>
        <p:spPr>
          <a:xfrm>
            <a:off x="324000" y="981000"/>
            <a:ext cx="2398680" cy="389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oormijt extern"/>
          <p:cNvPicPr/>
          <p:nvPr/>
        </p:nvPicPr>
        <p:blipFill>
          <a:blip r:embed="rId2"/>
          <a:stretch/>
        </p:blipFill>
        <p:spPr>
          <a:xfrm>
            <a:off x="3780000" y="404640"/>
            <a:ext cx="4248000" cy="336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oormijt 3"/>
          <p:cNvPicPr/>
          <p:nvPr/>
        </p:nvPicPr>
        <p:blipFill>
          <a:blip r:embed="rId3"/>
          <a:stretch/>
        </p:blipFill>
        <p:spPr>
          <a:xfrm>
            <a:off x="2627280" y="3933720"/>
            <a:ext cx="3311640" cy="2706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oormijt krabreflex"/>
          <p:cNvPicPr/>
          <p:nvPr/>
        </p:nvPicPr>
        <p:blipFill>
          <a:blip r:embed="rId4"/>
          <a:stretch/>
        </p:blipFill>
        <p:spPr>
          <a:xfrm>
            <a:off x="6084720" y="4005360"/>
            <a:ext cx="29084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9A5D-CBB2-4401-AFF5-8CD9A75887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woodselamp"/>
          <p:cNvPicPr/>
          <p:nvPr/>
        </p:nvPicPr>
        <p:blipFill>
          <a:blip r:embed="rId1"/>
          <a:srcRect l="0" t="0" r="62144" b="0"/>
          <a:stretch/>
        </p:blipFill>
        <p:spPr>
          <a:xfrm>
            <a:off x="611280" y="1052640"/>
            <a:ext cx="3157560" cy="496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chimmel mens"/>
          <p:cNvPicPr/>
          <p:nvPr/>
        </p:nvPicPr>
        <p:blipFill>
          <a:blip r:embed="rId2"/>
          <a:stretch/>
        </p:blipFill>
        <p:spPr>
          <a:xfrm>
            <a:off x="4427640" y="260280"/>
            <a:ext cx="3930480" cy="321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chimmel haar 5"/>
          <p:cNvPicPr/>
          <p:nvPr/>
        </p:nvPicPr>
        <p:blipFill>
          <a:blip r:embed="rId3"/>
          <a:stretch/>
        </p:blipFill>
        <p:spPr>
          <a:xfrm>
            <a:off x="4427640" y="3529080"/>
            <a:ext cx="3863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8:09:14Z</dcterms:created>
  <dc:creator>H W Hessel</dc:creator>
  <dc:description/>
  <dc:language>en-US</dc:language>
  <cp:lastModifiedBy>Administrator</cp:lastModifiedBy>
  <dcterms:modified xsi:type="dcterms:W3CDTF">2013-11-08T10:14:20Z</dcterms:modified>
  <cp:revision>7</cp:revision>
  <dc:subject/>
  <dc:title>huidparasieten</dc:title>
</cp:coreProperties>
</file>