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A7A5B-37EE-4985-A10C-FB3A8CD1DE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9430B-992C-4550-B5B0-21793BEFF1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77514-24BC-4051-A109-0BDA6E601E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us ook bij teven waarbij een eigenaar nooit wormen ziet, is ontwormen heel erg belangrijk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PV de bek van het varken/ hond/ kat kun je ook de mond van een mens zetten: idem trektocht door mensenlichaam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1C532-6A48-4195-836C-F8C25A6534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4948A-CFF6-4084-BFC9-8966FB7117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ntwormbesmetting hond: ook altijd een vlooienmiddel meegeven naast een wormkuur, anders zijn ze een dag later al weer besme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achtdieren kunnen ook tussengastheer zijn van bepaalde lintwormsoorten: daaarom geen slachtafval voeren aan hond/ k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chinococcus granulosus, komt veel voor in NL. Tussengastheer muis, rat, m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Echinococcus multilocularis = vossenlintworm: tussengastheer o.a. de mens!!!!! Grote blazen in lever, kan verward worden met leverkanker. Als inhoud van blazen vrijkomt in lichaam mens: dodelijke sh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ndere soorten lintworm: op de plek van de vlo vul je koe/ schaap/ varken/ muis/ rat/ me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F7CB5E-BC51-4B78-A139-CAAEFA06F1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ektocht door lever duurt wel 7 weken, daarna nog een aantal weken voor volwassen worden. Dus pas ei uitscheiding na ongeveer 11 weke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ijdelijke aanduiding voor dianummer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B71E54-D288-421D-9FD6-B548F73AB00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B5A9A-0FBB-4557-9FBD-1BBBD82245F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B: als er macroscopisch al een wormbesmetting te zien is, zitten de patientjes overvol met wormen!!!!!!! Bij een lichte besmetting heb je echt faeces onderzoek nodig om de diagnose te stel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el veel eigenaren redeneren: ik kijk altijd de ontlasting na, ik zie nooit wormen, DUS mijn hond heeft geen wormen. Dit is niet terec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14782-503E-434E-9A82-299BC53D60C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leen volwassen wormen leggen eitjes. Dus als er alleen nog larvale stadia in het dier zitten, zul je ondanks een zware besmetting geen eieren aan kunnen to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s leggen heel weinig wormen heel veel eitj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oms leggen heel veel wormen maar heel weinig eitjes, zodat het ontlastingsonderzoek negatief verloop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6165A9-B968-43F6-A608-1E981D1C488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meeste wormen zijn niet parasitair. In “het wild” zijn er heel veel vrijlevende soorten. Als ontlasting van de grond opgeraapt is, kun je dan eieren van deze vrijlevende soorten vin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aarom moet ontlasting voor onderzoek op parasieten altijd plaatsvinden op zeer verse, liefst rectaal genomen poepmonsters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ECFA-17FB-45AC-ACF4-66B4A089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270-BF79-4ADF-8FB6-943F7506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3E9-440B-4052-817A-164EC48E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0B8-E061-46F3-A5F6-FFA71A08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4D17-43EE-46E9-9814-BCF5CCFF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734C-B575-4FFE-A176-B1DF7198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07C3-1524-47F7-9F4B-49A0E252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EF9F-4D06-4F09-B7EF-09302613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B9EC-1FF8-46FF-869A-E9296D9F8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82D4-609D-4D3F-9441-C547DFDD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A048-0996-4206-9202-C88A285C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3B18-EA3B-4FE8-BAD4-893754BC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DF94-22F4-47ED-B5CB-9FCE0EBD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E706-0924-493F-8803-28909ACC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D6EA-3F1B-43B8-AC61-5DA2EAD3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11C1-4913-4CC1-97D5-4AF89F52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5FD3-EC64-4EBD-B787-61CBBD57C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C3A0-89CE-4B68-BDB8-F9012524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ACEB-88FC-4B90-8AE0-5CAD5BF0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F3EEE-2D8F-4BB0-8B0F-F65F94FA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C7BDF-3247-4D55-95A5-B21E8649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D7256-5F5F-4E82-BF64-34EE50D7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BCCD-DFC8-41AD-BEC5-CE3200A8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BF15-47F5-4742-9E16-67CF120E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5B97-3E6B-4219-8668-D85409A5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7EB8-7860-4C61-BBBB-2A899636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F8B7-3F53-4456-B469-82F2C920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23D03-B67E-4C61-ABCD-EA38CBBB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0A628-41D3-4CD7-84B4-D623321D1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89166-133E-4ED9-9DB8-3191087C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DE8E0-5C05-4F8C-93F1-BF72B2BC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4CD3E-612A-41F5-94C8-0334C8F3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26F63-FCD8-4E69-8B3B-48753D680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DBDE-5E0F-4FAF-BE0E-FEF5D2E6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D0C75-B8E7-4D15-BEC0-6B77E439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582C5-7CD1-4DBD-AE02-EBAB272AA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D769D-8448-4CBA-BD6C-75F1A238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22AC0-BFB8-4F7D-AC68-5612D2CB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BC3E8-3CDA-46CC-B9E8-767373A5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1A5D4-9103-49BA-A089-A7398BC0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14039-1769-49AF-897E-82358A4F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6AE3E-75B8-4375-A65E-C0210C213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192E9-53D8-4386-A31D-467B37CD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21DA-F054-4DAB-B6E1-60AD0D97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EFBA-2D5F-4D32-8E33-B44484D2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8E9-EB6D-4E07-89C1-B46A7A7F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74BA-47C6-43A3-8E2D-707AF1F1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1858-B05D-4F5B-856A-0AA99CB67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CB165-5DA3-46C9-A6A8-75FFC25F1784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7FBDEC-2FE7-476D-BB97-42D0ADC7C646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F06A41-E611-4AC0-A813-3A5CCE24E289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6DD02-38D4-4A8B-9D45-E0001C7DA20D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youtube.com/watch?v=6FsiZJjSRuA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gddiergezondheid.nl/diergezondheid/dierziekten/diagnose-van-leverbot-schapen-en-geiten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71280" y="1449000"/>
            <a:ext cx="58258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Wor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  <a:ea typeface="ＭＳ Ｐゴシック"/>
            </a:endParaRPr>
          </a:p>
        </p:txBody>
      </p:sp>
      <p:pic>
        <p:nvPicPr>
          <p:cNvPr id="221" name="Afbeelding 5" descr="images.jpg"/>
          <p:cNvPicPr/>
          <p:nvPr/>
        </p:nvPicPr>
        <p:blipFill>
          <a:blip r:embed="rId1"/>
          <a:stretch/>
        </p:blipFill>
        <p:spPr>
          <a:xfrm>
            <a:off x="2700360" y="3645000"/>
            <a:ext cx="3376440" cy="22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 moederdi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dem volwassen h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Bronst/ dracht: deel ingekapselde larven wordt “wakker”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igratie naar darm: volwassen: ei uitschei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igratie naar baarmoeder en melkklieren: besmetting pup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: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ens (kind) neemt eitje op uit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n darm: larfje komt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Via darmwand ook trektocht door lichaa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Astmaklachten/ oogklacht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Toxocara = toxisch voor lucht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: in bee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3" name="Tijdelijke aanduiding voor inhoud 3" descr="cyclus_spoelworm.jpg"/>
          <p:cNvPicPr/>
          <p:nvPr/>
        </p:nvPicPr>
        <p:blipFill>
          <a:blip r:embed="rId1"/>
          <a:stretch/>
        </p:blipFill>
        <p:spPr>
          <a:xfrm>
            <a:off x="609480" y="2908440"/>
            <a:ext cx="3087720" cy="2385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868560" y="2160360"/>
            <a:ext cx="3089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ea typeface="ＭＳ Ｐゴシック"/>
                <a:hlinkClick r:id="rId2"/>
              </a:rPr>
              <a:t>wormen bij hond en k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lintwormen: Dipylidium (1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 i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tje wordt opgegeten door tussengasth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Tussengasth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ipylidium caninum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: </a:t>
            </a:r>
            <a:r>
              <a:rPr b="0" lang="nl-NL" sz="1800" spc="-1" strike="noStrike" u="sng">
                <a:solidFill>
                  <a:srgbClr val="ff0000"/>
                </a:solidFill>
                <a:uFillTx/>
                <a:latin typeface="Trebuchet MS"/>
                <a:ea typeface="ＭＳ Ｐゴシック"/>
              </a:rPr>
              <a:t>vl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Taenia (div. soorten):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herkauwers, ongedier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chinococcus: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 slachtdieren, ongedierte, </a:t>
            </a:r>
            <a:r>
              <a:rPr b="0" lang="nl-NL" sz="1800" spc="-1" strike="noStrike" u="sng">
                <a:solidFill>
                  <a:srgbClr val="ff0000"/>
                </a:solidFill>
                <a:uFillTx/>
                <a:latin typeface="Trebuchet MS"/>
                <a:ea typeface="ＭＳ Ｐゴシック"/>
              </a:rPr>
              <a:t>men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intwormen paard, rund, schaap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: grasmijtje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lintwormen  (2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n tussengastheer: blaaswormvormin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ndgastheer eet tussengastheer (incl blaasworm) o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arm eindgastheer: blaasworm wordt volwassen lintwo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Kop lintworm zit vast, rest is rijpende eierdoosj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aatste stukjes met rijpe eitjes breken af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n ontlasting: lintwormstukjes barstensvol eitje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716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lintwormen (Dipylidium): in beel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53" name="Tijdelijke aanduiding voor inhoud 3" descr="worm_hond2.png"/>
          <p:cNvPicPr/>
          <p:nvPr/>
        </p:nvPicPr>
        <p:blipFill>
          <a:blip r:embed="rId1"/>
          <a:stretch/>
        </p:blipFill>
        <p:spPr>
          <a:xfrm>
            <a:off x="609480" y="2355840"/>
            <a:ext cx="634860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leverbo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Opname besmette s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oor darmwand, via peritone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aar 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wars door lever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aar galgangen, worden daar volwas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tjes via gal naar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aar ont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Uitspoeling uit faeces en binnendringen in slakj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600" spc="-1" strike="noStrike">
              <a:solidFill>
                <a:srgbClr val="90c226"/>
              </a:solidFill>
              <a:latin typeface="Trebuchet MS"/>
              <a:ea typeface="ＭＳ Ｐゴシック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Afbeelding 5" descr="afb1.gif"/>
          <p:cNvPicPr/>
          <p:nvPr/>
        </p:nvPicPr>
        <p:blipFill>
          <a:blip r:embed="rId1"/>
          <a:stretch/>
        </p:blipFill>
        <p:spPr>
          <a:xfrm>
            <a:off x="1643040" y="0"/>
            <a:ext cx="576252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Leverbo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Trebuchet MS"/>
                <a:ea typeface="ＭＳ Ｐゴシック"/>
                <a:hlinkClick r:id="rId1"/>
              </a:rPr>
              <a:t>http://www.gddiergezondheid.nl/diergezondheid/dierziekten/diagnose-van-leverbot-schapen-en-geiten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1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oem de drie hoofdsoorten wor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Rondwormen (nematoden) bv spoelworm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Platwormen/ Lintwormen (cestoden) bv lintworm hond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Zuigwormen (trematoden) bv leverbot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kstvak 1"/>
          <p:cNvSpPr/>
          <p:nvPr/>
        </p:nvSpPr>
        <p:spPr>
          <a:xfrm>
            <a:off x="324000" y="1773360"/>
            <a:ext cx="714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site met informatie over paarden ontwormen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s://www.paardenarts.nl/kennisbank/wormen-en-ontworming-bij-paarden/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Titel 1"/>
          <p:cNvSpPr/>
          <p:nvPr/>
        </p:nvSpPr>
        <p:spPr>
          <a:xfrm>
            <a:off x="609480" y="609480"/>
            <a:ext cx="63486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Paard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2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Welke schade veroorzaken wormen? Noem 3 verschijns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roeivertraging/ vermager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iarre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Bloedarmoede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orre vacht/ woluitva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Brak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Hoesten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Jeuk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Verstopp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3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Diagnose van worm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acroscopie: (delen) van wormen zichtbaar in braaksel en/ of ontlasting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icroscopie: wormeieren of wormlarven zichtbaar in excreta (meestal ontlasting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Bloedonderzoek (paard)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4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Stelling: bij een worminfectie vind je eieren in de ontlasting. Deze stelling i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iet 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Soms 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oede antwoord: c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5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Als een dier geen wormbesmetting heeft, vind je wormeieren in de ontlasting. Deze stelling is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Niet 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Soms waa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lphaL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oede antwoord: c: </a:t>
            </a:r>
            <a:r>
              <a:rPr b="1" lang="nl-NL" sz="1800" spc="-1" strike="noStrike" u="sng">
                <a:solidFill>
                  <a:srgbClr val="ff0000"/>
                </a:solidFill>
                <a:uFillTx/>
                <a:latin typeface="Trebuchet MS"/>
                <a:ea typeface="ＭＳ Ｐゴシック"/>
              </a:rPr>
              <a:t>Belang monsternametechniek!!!!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Quiz 6: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roep anisakis: beschrijf de cyclus van de spoelwo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roep ascaris: beschrijf de cyclus van de lintwo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Groep enterobius: beschrijf de cyclus van de leverbo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ax. 10 minuten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: pup/ kit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 uit omgeving in mon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tje komt uit in darm pup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arve gaat door darmwand naar lever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ever-bloed-longen (HOESTEN!!)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ongen-luchtpijp-hoest-mond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Mond-keel-slokdarm-MDK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arve wordt volwassen in MDK en gaat eitjes leggen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6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Eitjes via ontlasting weer in omgeving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000" spc="-1" strike="noStrike">
                <a:solidFill>
                  <a:srgbClr val="90c226"/>
                </a:solidFill>
                <a:latin typeface="Trebuchet MS"/>
                <a:ea typeface="ＭＳ Ｐゴシック"/>
              </a:rPr>
              <a:t>Cyclus spoelworm volwassen dieren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Tot longen: idem pu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Longaders- linkerkant hart- orga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  <a:ea typeface="ＭＳ Ｐゴシック"/>
              </a:rPr>
              <a:t>Inkapseling in organen: larven in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8:41:46Z</dcterms:created>
  <dc:creator>default</dc:creator>
  <dc:description/>
  <dc:language>en-US</dc:language>
  <cp:lastModifiedBy>Stefanie van Hoogdalem</cp:lastModifiedBy>
  <dcterms:modified xsi:type="dcterms:W3CDTF">2018-10-17T13:22:22Z</dcterms:modified>
  <cp:revision>42</cp:revision>
  <dc:subject/>
  <dc:title>Dia 1</dc:title>
</cp:coreProperties>
</file>