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wmf" ContentType="image/x-wmf"/>
  <Override PartName="/ppt/media/image19.jpeg" ContentType="image/jpeg"/>
  <Override PartName="/ppt/media/image24.jpeg" ContentType="image/jpe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9305-74C2-46E5-B68C-B866ECF237B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e starten met het onderwerp laboratoriumdiagnosti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Resten van kernen kan je wel vinden, naast witte bloedcellen de leukocy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aarom heten ze witte bloedcellen? Hier zijn ze gekleurd: eosine is rood, basofiel is blauw. Korrels zijn granulocy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erken de artefacten: kunstfout: luchtbell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it is een echt wormei: een ei van het trichostrongylus type, veel voorkomend bij schapen, geiten, kalveren, paard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aast de endoparasieten hier ectoparasieten: l stekende luis, r bijt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en mijt met zuignapjes aan de poten, gevonden in een huid afkrabs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KZ Virussen, moeilijk te onderzoeken: electronen microscopie voor nodig; insturen, verzenden als monster, hoe doe je d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o kweek: onder welke temperatuur in de broedsto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a een reinkweek: een soort bacteriën op de plaat. kan je ook uitzoeken waar de bacterie gevoelig voor is. Of waar ze ongevoelig of zelfs resistent voor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e gaan regelmatig met de microscoop werken: ken of oefen de onderdelen nog een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ok dit apparaat, de refractometer gaan we gebruiken om het soortelijk gewicht, een belangrijk gegeven van de urine, te kunnen bepal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al een maat of de nieren kunnen concentreren: een sg&gt; 1020 geeft aan dat de nieren kunnen concentrer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ok leren we sticks gebrui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Werken met de centrifuge, leer het verschil tussen serum en plas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Urine afgedraaid met centrifuge kan je beoordelen op kristallen: voorbode van blaasgru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loed doe je afdraaien maar ook wel uitstrijkjes van maken: gaan we oefenen, hier zie je kippenblo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Zeer dun uitgesmeerd bloed verliest makkelijk zijn rode kleu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aar heeft hier ook geen ker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E0B0-B33E-4BD2-A381-410CF1905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4B74-CCE0-4475-A3AC-819E1B47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CB4A-163E-4261-A064-0846E283B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0B92-ECF7-4C80-891A-878CF1866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C7ED-EBA8-4744-9271-47EAD7B0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0D72-3E53-4D99-B98A-1438A7EB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D3DC-7F7F-424C-A231-9D6BA845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B7AA-31B0-4A0C-A767-A155C5C1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B522-AB2C-43FB-9A4F-A75DBD52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A768-6F82-4384-9254-1CE2FDBE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9083-7398-4B62-8011-B9B922DA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6B70-F78D-4285-9314-CFDC8C94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GW-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49CB-5865-47F6-AAE2-C06449C2FEE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members.rott.chello.nl/c.renirie/images/Nieuw/Luis.jpg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431784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boratorium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bacterie"/>
          <p:cNvPicPr/>
          <p:nvPr/>
        </p:nvPicPr>
        <p:blipFill>
          <a:blip r:embed="rId1"/>
          <a:stretch/>
        </p:blipFill>
        <p:spPr>
          <a:xfrm>
            <a:off x="2124000" y="1989000"/>
            <a:ext cx="4165560" cy="3818160"/>
          </a:xfrm>
          <a:prstGeom prst="rect">
            <a:avLst/>
          </a:prstGeom>
          <a:ln w="0">
            <a:noFill/>
          </a:ln>
        </p:spPr>
      </p:pic>
      <p:sp>
        <p:nvSpPr>
          <p:cNvPr id="50" name="Tijdelijke aanduiding voor voettekst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GW-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ijdelijke aanduiding voor dianumm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2C13-2157-4FDF-96F4-B1274138E4A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431784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boratorium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eosinofiele%20gran"/>
          <p:cNvPicPr/>
          <p:nvPr/>
        </p:nvPicPr>
        <p:blipFill>
          <a:blip r:embed="rId1"/>
          <a:stretch/>
        </p:blipFill>
        <p:spPr>
          <a:xfrm>
            <a:off x="468360" y="1125360"/>
            <a:ext cx="3960720" cy="2784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mso6C392"/>
          <p:cNvPicPr/>
          <p:nvPr/>
        </p:nvPicPr>
        <p:blipFill>
          <a:blip r:embed="rId2"/>
          <a:stretch/>
        </p:blipFill>
        <p:spPr>
          <a:xfrm>
            <a:off x="3708360" y="3833640"/>
            <a:ext cx="4176720" cy="2597400"/>
          </a:xfrm>
          <a:prstGeom prst="rect">
            <a:avLst/>
          </a:prstGeom>
          <a:ln w="0">
            <a:noFill/>
          </a:ln>
        </p:spPr>
      </p:pic>
      <p:sp>
        <p:nvSpPr>
          <p:cNvPr id="102" name="Rechthoek 6"/>
          <p:cNvSpPr/>
          <p:nvPr/>
        </p:nvSpPr>
        <p:spPr>
          <a:xfrm>
            <a:off x="730440" y="585792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croscopiseren/ blo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ijdelijke aanduiding voor voettekst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GW-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ijdelijke aanduiding voor dianumm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15D1-B6BE-46B0-8D42-321422C8098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431784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boratorium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luchtbellen%20a"/>
          <p:cNvPicPr/>
          <p:nvPr/>
        </p:nvPicPr>
        <p:blipFill>
          <a:blip r:embed="rId1"/>
          <a:stretch/>
        </p:blipFill>
        <p:spPr>
          <a:xfrm>
            <a:off x="1187280" y="2133720"/>
            <a:ext cx="6624720" cy="3697200"/>
          </a:xfrm>
          <a:prstGeom prst="rect">
            <a:avLst/>
          </a:prstGeom>
          <a:ln w="0">
            <a:noFill/>
          </a:ln>
        </p:spPr>
      </p:pic>
      <p:sp>
        <p:nvSpPr>
          <p:cNvPr id="107" name="Tekstvak 5"/>
          <p:cNvSpPr/>
          <p:nvPr/>
        </p:nvSpPr>
        <p:spPr>
          <a:xfrm>
            <a:off x="5929200" y="607212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croscopis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ijdelijke aanduiding voor voettekst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GW-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ijdelijke aanduiding voor dianumm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A20CB-4F80-4432-A148-7ECB5039707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431784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boratorium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1042920" y="1257480"/>
            <a:ext cx="7129440" cy="4806720"/>
          </a:xfrm>
          <a:prstGeom prst="rect">
            <a:avLst/>
          </a:prstGeom>
          <a:ln w="0">
            <a:noFill/>
          </a:ln>
        </p:spPr>
      </p:pic>
      <p:sp>
        <p:nvSpPr>
          <p:cNvPr id="112" name="Tekstvak 5"/>
          <p:cNvSpPr/>
          <p:nvPr/>
        </p:nvSpPr>
        <p:spPr>
          <a:xfrm>
            <a:off x="5500800" y="628668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Faeces onderzo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ijdelijke aanduiding voor voettekst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GW-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ijdelijke aanduiding voor dianumm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B2FA-891F-40E4-82E5-054896318ED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431784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boratorium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luis%20klein"/>
          <p:cNvPicPr/>
          <p:nvPr/>
        </p:nvPicPr>
        <p:blipFill>
          <a:blip r:embed="rId1"/>
          <a:stretch/>
        </p:blipFill>
        <p:spPr>
          <a:xfrm>
            <a:off x="1332000" y="1844640"/>
            <a:ext cx="2266920" cy="3144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Lui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2276640"/>
            <a:ext cx="2346480" cy="2663640"/>
          </a:xfrm>
          <a:prstGeom prst="rect">
            <a:avLst/>
          </a:prstGeom>
          <a:ln w="0">
            <a:noFill/>
          </a:ln>
        </p:spPr>
      </p:pic>
      <p:sp>
        <p:nvSpPr>
          <p:cNvPr id="118" name="Tekstvak 6"/>
          <p:cNvSpPr/>
          <p:nvPr/>
        </p:nvSpPr>
        <p:spPr>
          <a:xfrm>
            <a:off x="4071960" y="585792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uid (afkrabs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ijdelijke aanduiding voor voettekst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GW-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ijdelijke aanduiding voor dianumm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D533-72B1-4C3F-BF12-550731F1144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431784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boratorium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mijt"/>
          <p:cNvPicPr/>
          <p:nvPr/>
        </p:nvPicPr>
        <p:blipFill>
          <a:blip r:embed="rId1"/>
          <a:stretch/>
        </p:blipFill>
        <p:spPr>
          <a:xfrm>
            <a:off x="1476360" y="1054080"/>
            <a:ext cx="6120000" cy="5006880"/>
          </a:xfrm>
          <a:prstGeom prst="rect">
            <a:avLst/>
          </a:prstGeom>
          <a:ln w="0">
            <a:noFill/>
          </a:ln>
        </p:spPr>
      </p:pic>
      <p:sp>
        <p:nvSpPr>
          <p:cNvPr id="123" name="Rechthoek 5"/>
          <p:cNvSpPr/>
          <p:nvPr/>
        </p:nvSpPr>
        <p:spPr>
          <a:xfrm>
            <a:off x="6869520" y="628668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uid (afkrabs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ijdelijke aanduiding voor voettekst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GW-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ijdelijke aanduiding voor dianumm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2027-EC61-43E3-9302-ED1B18FCE2C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431784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boratorium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Vlo"/>
          <p:cNvPicPr/>
          <p:nvPr/>
        </p:nvPicPr>
        <p:blipFill>
          <a:blip r:embed="rId1"/>
          <a:stretch/>
        </p:blipFill>
        <p:spPr>
          <a:xfrm>
            <a:off x="3059280" y="1413000"/>
            <a:ext cx="3489120" cy="4581360"/>
          </a:xfrm>
          <a:prstGeom prst="rect">
            <a:avLst/>
          </a:prstGeom>
          <a:ln w="0">
            <a:noFill/>
          </a:ln>
        </p:spPr>
      </p:pic>
      <p:sp>
        <p:nvSpPr>
          <p:cNvPr id="128" name="Rechthoek 5"/>
          <p:cNvSpPr/>
          <p:nvPr/>
        </p:nvSpPr>
        <p:spPr>
          <a:xfrm>
            <a:off x="6726600" y="614376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uid (afkrabs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ijdelijke aanduiding voor voettekst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GW-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ijdelijke aanduiding voor dianumm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5EE8-60F6-4856-BD15-FAA851D6231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431784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boratorium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mkz-virus"/>
          <p:cNvPicPr/>
          <p:nvPr/>
        </p:nvPicPr>
        <p:blipFill>
          <a:blip r:embed="rId1"/>
          <a:stretch/>
        </p:blipFill>
        <p:spPr>
          <a:xfrm>
            <a:off x="1403280" y="2492280"/>
            <a:ext cx="2438640" cy="2371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mkzvirus"/>
          <p:cNvPicPr/>
          <p:nvPr/>
        </p:nvPicPr>
        <p:blipFill>
          <a:blip r:embed="rId2"/>
          <a:srcRect l="0" t="0" r="0" b="13259"/>
          <a:stretch/>
        </p:blipFill>
        <p:spPr>
          <a:xfrm>
            <a:off x="5292720" y="2637000"/>
            <a:ext cx="2000160" cy="2016000"/>
          </a:xfrm>
          <a:prstGeom prst="rect">
            <a:avLst/>
          </a:prstGeom>
          <a:ln w="0">
            <a:noFill/>
          </a:ln>
        </p:spPr>
      </p:pic>
      <p:sp>
        <p:nvSpPr>
          <p:cNvPr id="134" name="Tijdelijke aanduiding voor voettekst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GW-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ijdelijke aanduiding voor dianumm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7F43-74B5-4B2F-BC9C-34F2368D340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431784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boratorium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monster1"/>
          <p:cNvPicPr/>
          <p:nvPr/>
        </p:nvPicPr>
        <p:blipFill>
          <a:blip r:embed="rId1"/>
          <a:stretch/>
        </p:blipFill>
        <p:spPr>
          <a:xfrm>
            <a:off x="4356000" y="333360"/>
            <a:ext cx="4292640" cy="5886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valuepath ingevuld"/>
          <p:cNvPicPr/>
          <p:nvPr/>
        </p:nvPicPr>
        <p:blipFill>
          <a:blip r:embed="rId2"/>
          <a:stretch/>
        </p:blipFill>
        <p:spPr>
          <a:xfrm>
            <a:off x="179280" y="1052640"/>
            <a:ext cx="3978360" cy="5591160"/>
          </a:xfrm>
          <a:prstGeom prst="rect">
            <a:avLst/>
          </a:prstGeom>
          <a:ln w="0">
            <a:noFill/>
          </a:ln>
        </p:spPr>
      </p:pic>
      <p:sp>
        <p:nvSpPr>
          <p:cNvPr id="139" name="Tijdelijke aanduiding voor voettekst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GW-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ijdelijke aanduiding voor dianumm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3E44-970D-4AC0-AF98-F922B5814DF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431784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boratorium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kweek stafylokokken"/>
          <p:cNvPicPr/>
          <p:nvPr/>
        </p:nvPicPr>
        <p:blipFill>
          <a:blip r:embed="rId1"/>
          <a:stretch/>
        </p:blipFill>
        <p:spPr>
          <a:xfrm>
            <a:off x="2428920" y="1390680"/>
            <a:ext cx="4286160" cy="4076640"/>
          </a:xfrm>
          <a:prstGeom prst="rect">
            <a:avLst/>
          </a:prstGeom>
          <a:ln w="0">
            <a:noFill/>
          </a:ln>
        </p:spPr>
      </p:pic>
      <p:sp>
        <p:nvSpPr>
          <p:cNvPr id="143" name="Tekstvak 5"/>
          <p:cNvSpPr/>
          <p:nvPr/>
        </p:nvSpPr>
        <p:spPr>
          <a:xfrm>
            <a:off x="5214960" y="585792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acteriologisch onderzo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ijdelijke aanduiding voor voettekst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GW-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ijdelijke aanduiding voor dianumm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F4175-EF66-4272-AC53-4C6D30C94F0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431784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boratorium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Antibiogram"/>
          <p:cNvPicPr/>
          <p:nvPr/>
        </p:nvPicPr>
        <p:blipFill>
          <a:blip r:embed="rId1"/>
          <a:stretch/>
        </p:blipFill>
        <p:spPr>
          <a:xfrm>
            <a:off x="2428920" y="1414440"/>
            <a:ext cx="4286160" cy="4029120"/>
          </a:xfrm>
          <a:prstGeom prst="rect">
            <a:avLst/>
          </a:prstGeom>
          <a:ln w="0">
            <a:noFill/>
          </a:ln>
        </p:spPr>
      </p:pic>
      <p:sp>
        <p:nvSpPr>
          <p:cNvPr id="148" name="Rechthoek 5"/>
          <p:cNvSpPr/>
          <p:nvPr/>
        </p:nvSpPr>
        <p:spPr>
          <a:xfrm>
            <a:off x="5519160" y="5786280"/>
            <a:ext cx="285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acteriologisch onderzo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ijdelijke aanduiding voor voettekst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GW-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ijdelijke aanduiding voor dianumm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8491-CAB5-4CB4-8B42-A236B89F656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ventarisati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elk materiaal onderzoc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elke materialen nodi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4720" y="2174760"/>
            <a:ext cx="4041720" cy="3951360"/>
          </a:xfrm>
          <a:prstGeom prst="rect">
            <a:avLst/>
          </a:prstGeom>
          <a:ln w="0">
            <a:noFill/>
          </a:ln>
        </p:spPr>
      </p:pic>
      <p:sp>
        <p:nvSpPr>
          <p:cNvPr id="57" name="Tijdelijke aanduiding voor voettekst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GW-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jdelijke aanduiding voor dianumm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A722-199F-43BA-A6A6-710367A416B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derdeel van de eindproe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richt laboratorium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 voert diagnostische handelingen 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.1 Neemt monsters 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.2 Ontvangt en verzendt mon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.4 Voert laboratoriumonderzoek u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5.6 Rapporteert en registreert onderzoeksuits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ijdelijke aanduiding voor voettekst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GW-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ijdelijke aanduiding voor dianumm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79F7-1640-4146-BA4A-743F232A540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431784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boratorium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643040" y="1000080"/>
            <a:ext cx="4848120" cy="5381640"/>
          </a:xfrm>
          <a:prstGeom prst="rect">
            <a:avLst/>
          </a:prstGeom>
          <a:ln w="0">
            <a:noFill/>
          </a:ln>
        </p:spPr>
      </p:pic>
      <p:sp>
        <p:nvSpPr>
          <p:cNvPr id="61" name="Tekstvak 4"/>
          <p:cNvSpPr/>
          <p:nvPr/>
        </p:nvSpPr>
        <p:spPr>
          <a:xfrm>
            <a:off x="7152840" y="5715000"/>
            <a:ext cx="141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no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nderde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crosc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ijdelijke aanduiding voor voettekst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GW-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ijdelijke aanduiding voor dianumm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4BED-601B-498A-B8C6-67074EBF569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431784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boratorium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Refrakto-Doppel"/>
          <p:cNvPicPr/>
          <p:nvPr/>
        </p:nvPicPr>
        <p:blipFill>
          <a:blip r:embed="rId1"/>
          <a:stretch/>
        </p:blipFill>
        <p:spPr>
          <a:xfrm>
            <a:off x="755640" y="2060640"/>
            <a:ext cx="3505320" cy="3895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refractometer_skala"/>
          <p:cNvPicPr/>
          <p:nvPr/>
        </p:nvPicPr>
        <p:blipFill>
          <a:blip r:embed="rId2"/>
          <a:stretch/>
        </p:blipFill>
        <p:spPr>
          <a:xfrm>
            <a:off x="5292720" y="2276640"/>
            <a:ext cx="2933640" cy="2286000"/>
          </a:xfrm>
          <a:prstGeom prst="rect">
            <a:avLst/>
          </a:prstGeom>
          <a:ln w="0">
            <a:noFill/>
          </a:ln>
        </p:spPr>
      </p:pic>
      <p:sp>
        <p:nvSpPr>
          <p:cNvPr id="67" name="Tekstvak 6"/>
          <p:cNvSpPr/>
          <p:nvPr/>
        </p:nvSpPr>
        <p:spPr>
          <a:xfrm>
            <a:off x="5429160" y="564372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urineonderzo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ijdelijke aanduiding voor voettekst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GW-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ijdelijke aanduiding voor dianumm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4185-49FB-4D42-A852-B2D71F64C9D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431784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boratorium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3"/>
          <p:cNvGraphicFramePr/>
          <p:nvPr/>
        </p:nvGraphicFramePr>
        <p:xfrm>
          <a:off x="1619280" y="1827360"/>
          <a:ext cx="4897440" cy="41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827360"/>
                    <a:ext cx="4897440" cy="41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Rechthoek 6"/>
          <p:cNvSpPr/>
          <p:nvPr/>
        </p:nvSpPr>
        <p:spPr>
          <a:xfrm>
            <a:off x="7013160" y="557208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urineonderzo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ijdelijke aanduiding voor voettekst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GW-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ijdelijke aanduiding voor dianumm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8621-37FC-4945-B0F1-5608CF0AEEC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431784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boratorium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hemastix"/>
          <p:cNvPicPr/>
          <p:nvPr/>
        </p:nvPicPr>
        <p:blipFill>
          <a:blip r:embed="rId1"/>
          <a:stretch/>
        </p:blipFill>
        <p:spPr>
          <a:xfrm>
            <a:off x="1908000" y="1650960"/>
            <a:ext cx="4032360" cy="3535560"/>
          </a:xfrm>
          <a:prstGeom prst="rect">
            <a:avLst/>
          </a:prstGeom>
          <a:ln w="0">
            <a:noFill/>
          </a:ln>
        </p:spPr>
      </p:pic>
      <p:sp>
        <p:nvSpPr>
          <p:cNvPr id="79" name="Rechthoek 5"/>
          <p:cNvSpPr/>
          <p:nvPr/>
        </p:nvSpPr>
        <p:spPr>
          <a:xfrm>
            <a:off x="6370200" y="4786200"/>
            <a:ext cx="17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urineonderzo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ijdelijke aanduiding voor voettekst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GW-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ijdelijke aanduiding voor dianumm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975F-7D8C-4EB1-8B53-9585EA064EC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431784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boratorium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centrifuge"/>
          <p:cNvPicPr/>
          <p:nvPr/>
        </p:nvPicPr>
        <p:blipFill>
          <a:blip r:embed="rId1"/>
          <a:stretch/>
        </p:blipFill>
        <p:spPr>
          <a:xfrm>
            <a:off x="2050920" y="2205000"/>
            <a:ext cx="5496120" cy="3367080"/>
          </a:xfrm>
          <a:prstGeom prst="rect">
            <a:avLst/>
          </a:prstGeom>
          <a:ln w="0">
            <a:noFill/>
          </a:ln>
        </p:spPr>
      </p:pic>
      <p:sp>
        <p:nvSpPr>
          <p:cNvPr id="84" name="Tekstvak 5"/>
          <p:cNvSpPr/>
          <p:nvPr/>
        </p:nvSpPr>
        <p:spPr>
          <a:xfrm>
            <a:off x="5357880" y="585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ed onderzo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ijdelijke aanduiding voor voettekst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GW-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ijdelijke aanduiding voor dianumm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005F-2ADE-4DDF-ABA6-D14B46DD298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431784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boratorium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labstruviet"/>
          <p:cNvPicPr/>
          <p:nvPr/>
        </p:nvPicPr>
        <p:blipFill>
          <a:blip r:embed="rId1"/>
          <a:stretch/>
        </p:blipFill>
        <p:spPr>
          <a:xfrm>
            <a:off x="1258920" y="1954080"/>
            <a:ext cx="3384360" cy="2544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bloed"/>
          <p:cNvPicPr/>
          <p:nvPr/>
        </p:nvPicPr>
        <p:blipFill>
          <a:blip r:embed="rId2"/>
          <a:stretch/>
        </p:blipFill>
        <p:spPr>
          <a:xfrm>
            <a:off x="5508720" y="2581200"/>
            <a:ext cx="2950920" cy="2951280"/>
          </a:xfrm>
          <a:prstGeom prst="rect">
            <a:avLst/>
          </a:prstGeom>
          <a:ln w="0">
            <a:noFill/>
          </a:ln>
        </p:spPr>
      </p:pic>
      <p:sp>
        <p:nvSpPr>
          <p:cNvPr id="90" name="Rechthoek 6"/>
          <p:cNvSpPr/>
          <p:nvPr/>
        </p:nvSpPr>
        <p:spPr>
          <a:xfrm>
            <a:off x="5731200" y="614376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croscopiseren/ blo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kstvak 7"/>
          <p:cNvSpPr/>
          <p:nvPr/>
        </p:nvSpPr>
        <p:spPr>
          <a:xfrm>
            <a:off x="1714680" y="5072040"/>
            <a:ext cx="25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croscopiseren/ur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ijdelijke aanduiding voor voettekst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GW-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ijdelijke aanduiding voor dianumm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0D66-79CA-4162-B945-2B662F77C9F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431784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boratorium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staph_aureus_illustration"/>
          <p:cNvPicPr/>
          <p:nvPr/>
        </p:nvPicPr>
        <p:blipFill>
          <a:blip r:embed="rId1"/>
          <a:stretch/>
        </p:blipFill>
        <p:spPr>
          <a:xfrm>
            <a:off x="1619280" y="1844640"/>
            <a:ext cx="6283440" cy="3387600"/>
          </a:xfrm>
          <a:prstGeom prst="rect">
            <a:avLst/>
          </a:prstGeom>
          <a:ln w="0">
            <a:noFill/>
          </a:ln>
        </p:spPr>
      </p:pic>
      <p:sp>
        <p:nvSpPr>
          <p:cNvPr id="96" name="Rechthoek 5"/>
          <p:cNvSpPr/>
          <p:nvPr/>
        </p:nvSpPr>
        <p:spPr>
          <a:xfrm>
            <a:off x="5016960" y="600084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croscopiseren/ blo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jdelijke aanduiding voor voettekst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DGW-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ijdelijke aanduiding voor dianumm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C9B2-DD16-4A15-A8EA-EF6A23CBFD9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1:00:02Z</dcterms:created>
  <dc:creator>hessel</dc:creator>
  <dc:description/>
  <dc:language>en-US</dc:language>
  <cp:lastModifiedBy>Administrator</cp:lastModifiedBy>
  <dcterms:modified xsi:type="dcterms:W3CDTF">2015-08-19T07:19:08Z</dcterms:modified>
  <cp:revision>48</cp:revision>
  <dc:subject/>
  <dc:title>laboratoriumwerkzaamheden</dc:title>
</cp:coreProperties>
</file>