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9109-EAF1-486A-B7F3-97648426EA3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Prevalentie: hoe vaak komt de ziekte voor in een populati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In de plaatjes de “ziekte” zwart schaap. Links: 1 op de 15 schapen; rechts: 1 op de 2 schap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D031-FB6F-49C8-A7B8-6E991CEA6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F2B1-C6C1-4C5A-AEB0-D25D7456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2A04-AFBC-4771-B56C-9ED1790D7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48B5-08B4-473F-B3A3-B03CF75D5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0E4B-27FE-4130-8790-81399DE4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C8F0-2C61-482F-8986-DD0529FE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4FCF-9E76-4C9E-BA17-81F89AE8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A46A-F3B9-4E59-A169-5F26B3FA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A9D7-C749-4406-AAEC-AF92B6B9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F2E5-6C6D-4CA0-A0C5-C5545326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AA50-41B5-4AF2-AA63-CE1F0F50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00F9-1F19-492C-896F-B44C2AA3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B671-54CF-443A-8473-50064FF4FC3C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Een test blijft een test……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ensitivite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t aantal positieve dieren, die met de test ook ECHT positief uitpak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us: hoe goed pakt de test de positieve dieren eru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Specificite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t aantal negatieve dieren, die met de test ook ECHT negatief uitpak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us: hoe goed pakt de test de negatieve dieren eru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Positief voorspellende waar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 van de positieve uitslagen komen ook echt van een positief di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ftewel: hoe betrouwbaar is een positieve testuitsla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Negatief voorspellende waar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 van de negatieve uitslagen komen ook echt van een negatief di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ftewel: hoe betrouwbaar is een negatieve testuitsla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In schema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/ (a+b) * 100 % = sensitivite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/ (c+d) * 100 % = specificite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/ (a+c) * 100 % = pos. voorsp. Waar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/ (b+d) * 100 % = neg. Voorsp. waar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23880" y="1397160"/>
          <a:ext cx="6096240" cy="11127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 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er 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ht positief (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s negatief (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er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s positief (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cht negatief (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Gouden standaard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est met de volgende eigenschappe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Geen vals positiev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Geen vals negatiev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Prevalenti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Tijdelijke aanduiding voor inhoud 3" descr="images.jpg"/>
          <p:cNvPicPr/>
          <p:nvPr/>
        </p:nvPicPr>
        <p:blipFill>
          <a:blip r:embed="rId1"/>
          <a:stretch/>
        </p:blipFill>
        <p:spPr>
          <a:xfrm>
            <a:off x="1571760" y="2500200"/>
            <a:ext cx="2989080" cy="2000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images"/>
          <p:cNvPicPr/>
          <p:nvPr/>
        </p:nvPicPr>
        <p:blipFill>
          <a:blip r:embed="rId2"/>
          <a:stretch/>
        </p:blipFill>
        <p:spPr>
          <a:xfrm>
            <a:off x="4643280" y="2538360"/>
            <a:ext cx="244980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Onthoudt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u altijd rekening met mogelijk een vals positieve of vals negatieve uitsla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euze van test is afhankelijk v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est eigenschapp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revalen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Kosten/ bewerkelijkheid 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ogelijkheden eigen praktij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tc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Positief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Tijdelijke aanduiding voor inhoud 3" descr="images.jpg"/>
          <p:cNvPicPr/>
          <p:nvPr/>
        </p:nvPicPr>
        <p:blipFill>
          <a:blip r:embed="rId1"/>
          <a:stretch/>
        </p:blipFill>
        <p:spPr>
          <a:xfrm>
            <a:off x="3500280" y="2571840"/>
            <a:ext cx="2038680" cy="13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Positief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Tijdelijke aanduiding voor inhoud 3" descr="images.jpg"/>
          <p:cNvPicPr/>
          <p:nvPr/>
        </p:nvPicPr>
        <p:blipFill>
          <a:blip r:embed="rId1"/>
          <a:stretch/>
        </p:blipFill>
        <p:spPr>
          <a:xfrm>
            <a:off x="3357720" y="2092320"/>
            <a:ext cx="200016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Positief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Tijdelijke aanduiding voor inhoud 3" descr="images.jpg"/>
          <p:cNvPicPr/>
          <p:nvPr/>
        </p:nvPicPr>
        <p:blipFill>
          <a:blip r:embed="rId1"/>
          <a:stretch/>
        </p:blipFill>
        <p:spPr>
          <a:xfrm>
            <a:off x="3500280" y="2571840"/>
            <a:ext cx="2038680" cy="13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als positief = Negatief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Tijdelijke aanduiding voor inhoud 3" descr="images.jpg"/>
          <p:cNvPicPr/>
          <p:nvPr/>
        </p:nvPicPr>
        <p:blipFill>
          <a:blip r:embed="rId1"/>
          <a:stretch/>
        </p:blipFill>
        <p:spPr>
          <a:xfrm>
            <a:off x="3214800" y="1949400"/>
            <a:ext cx="23572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Negatief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 van passeren of pr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images"/>
          <p:cNvPicPr/>
          <p:nvPr/>
        </p:nvPicPr>
        <p:blipFill>
          <a:blip r:embed="rId1"/>
          <a:stretch/>
        </p:blipFill>
        <p:spPr>
          <a:xfrm>
            <a:off x="3132000" y="2614680"/>
            <a:ext cx="33847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Negatief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images"/>
          <p:cNvPicPr/>
          <p:nvPr/>
        </p:nvPicPr>
        <p:blipFill>
          <a:blip r:embed="rId1"/>
          <a:stretch/>
        </p:blipFill>
        <p:spPr>
          <a:xfrm>
            <a:off x="3633840" y="1916280"/>
            <a:ext cx="236700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Negatief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 van passeren of pri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images"/>
          <p:cNvPicPr/>
          <p:nvPr/>
        </p:nvPicPr>
        <p:blipFill>
          <a:blip r:embed="rId1"/>
          <a:stretch/>
        </p:blipFill>
        <p:spPr>
          <a:xfrm>
            <a:off x="3132000" y="2614680"/>
            <a:ext cx="33847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als negatief = positief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images"/>
          <p:cNvPicPr/>
          <p:nvPr/>
        </p:nvPicPr>
        <p:blipFill>
          <a:blip r:embed="rId1"/>
          <a:stretch/>
        </p:blipFill>
        <p:spPr>
          <a:xfrm>
            <a:off x="3203640" y="2344680"/>
            <a:ext cx="316872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8T09:38:47Z</dcterms:created>
  <dc:creator>A.Withaar</dc:creator>
  <dc:description/>
  <dc:language>en-US</dc:language>
  <cp:lastModifiedBy>Administrator</cp:lastModifiedBy>
  <dcterms:modified xsi:type="dcterms:W3CDTF">2014-03-24T11:43:01Z</dcterms:modified>
  <cp:revision>15</cp:revision>
  <dc:subject/>
  <dc:title>Dia 1</dc:title>
</cp:coreProperties>
</file>