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FECA-45F3-43D5-809F-4CB5A5F47CA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rytrhocyten kunnen er verschillend uitzien: doornappeltjes: deze zijn al wat vocht uit de cel verlo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ouleau: geldrollen, een stapeltje munten die omgevallen zijn. Dit is meestal paardeblo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3 d opname: ery betekend r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rys bevatten in aanleg dus een k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ie je veel restanten van deze kernen dan betekent dat er veel jong bloed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el jong bloed betekend dat er mogelijk bloedverlies plaatsgevonden heeft dat nu dus aangevuld wo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el jonge stadia noem je bij witte bloedcellen linksverschuiv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nemie is te zien aan de slijmvliez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is ook te horen aan de hartslag: dat moet sneller en krachtiger rondgepompt word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cellen heeft hematologisch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overige samenstelling heeft chemisch (bloed)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0BDB-37B5-4A20-8AE1-EA714517A124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ijkt door een druppel bloed met een standaard dikte en vergelijkt dat met een kleursch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o is het hb gehalte af te lez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lk gedeelte van het bloed wordt uitgemaakt door de er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Je kijkt niet alleen naar de verhouding, maar ook naar de kleur van het plasma erbov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inks kleur plasma normaal voor de ko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tweede een te dikke buffy coat: veel leuko’s: infecti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derde net gegeten, bij paard hyperlipaemie (shetlandpony bijv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4</a:t>
            </a:r>
            <a:r>
              <a:rPr b="0" lang="nl-NL" sz="12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 hemoly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 dat ht tussen 35 en 40% z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cellen heeft hematologisch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nderzoek naar overige samenstelling heeft chemisch (bloed) onderzo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696E-0D64-4DAF-82E4-E9000211A691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osine is de rode kleurst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asofielen zijn pa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t plaatje van Kim; met dan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e fibrinedraden houden de rode bloedcellen in een klont gevang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5EA2-BABC-4254-A4BE-2AA77C19128E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ij de kat kan je in de lies  bloed afne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bc’s zijn rode bloed ce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utogeen: de oorzaak ligt in het bloed zelf: infecties of vergiftiging of in zeldzame gevallen ook autoimmu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atrogeen: door de arts of de dierenartsassistent veroorzaak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lbloed bevat dus nog iets extras: middel om het onstolbaar te m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Fibrinogeen is een stof waaruit de stolling ontstaat: fib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E1A-2723-4810-904B-07F55F02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154D-3399-48A0-B4AC-A25E54A6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5048-DCC4-49D8-9D39-2936B691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3A9C-A375-4F9A-A9BF-8BBA1AD1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7BC-2F26-4F5D-B85E-E334D5F3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56C-AA1F-4C85-B104-DCDA981F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E06C-AF96-476F-96A6-36CADF7D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B061-9051-4629-B3E7-3380877A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C49-3438-4A04-96A1-88FB66EDE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82D-B64E-4F59-A8FC-599C50D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7B44-4610-4603-8D07-4899BE49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8B43-ADA4-4C90-9301-3E686AD3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8ed5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4C28-E2FB-465A-A9A2-96AE21D6B6AE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</a:rPr>
              <a:t>Bloedonderzoe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lasma of seru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plas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Tijdelijke aanduiding voor inhoud 9" descr=""/>
          <p:cNvPicPr/>
          <p:nvPr/>
        </p:nvPicPr>
        <p:blipFill>
          <a:blip r:embed="rId1"/>
          <a:stretch/>
        </p:blipFill>
        <p:spPr>
          <a:xfrm>
            <a:off x="457200" y="2657520"/>
            <a:ext cx="4040280" cy="298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er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Tijdelijke aanduiding voor inhoud 8" descr=""/>
          <p:cNvPicPr/>
          <p:nvPr/>
        </p:nvPicPr>
        <p:blipFill>
          <a:blip r:embed="rId2"/>
          <a:stretch/>
        </p:blipFill>
        <p:spPr>
          <a:xfrm>
            <a:off x="5307120" y="2174760"/>
            <a:ext cx="27176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Anticoagulant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ntistollingsmidde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itraa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ezinking, stol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xalaat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enzymbepa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atriumfluori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DTA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hematologisch bloedonderzoek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parine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bepaling electrolyten, hematocrie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king: reactie aangaan met calcium / trombine onwerkzaam mak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blokkeren stol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buiz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:\Users\Petra\Pictures\show_photo.jpg"/>
          <p:cNvPicPr/>
          <p:nvPr/>
        </p:nvPicPr>
        <p:blipFill>
          <a:blip r:embed="rId1"/>
          <a:stretch/>
        </p:blipFill>
        <p:spPr>
          <a:xfrm>
            <a:off x="5214960" y="3500280"/>
            <a:ext cx="3695760" cy="27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Users\Petra\Pictures\27.jpg"/>
          <p:cNvPicPr/>
          <p:nvPr/>
        </p:nvPicPr>
        <p:blipFill>
          <a:blip r:embed="rId2"/>
          <a:stretch/>
        </p:blipFill>
        <p:spPr>
          <a:xfrm>
            <a:off x="571680" y="1500120"/>
            <a:ext cx="52146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ze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 verpak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gevens dier + eigen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lledig ingevuld aanvraagformul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ko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o snel mogelij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atologisch bloed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Onderzoek naar de bloedcel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Petra\Pictures\fig4-1_xl.jpg"/>
          <p:cNvPicPr/>
          <p:nvPr/>
        </p:nvPicPr>
        <p:blipFill>
          <a:blip r:embed="rId1"/>
          <a:stretch/>
        </p:blipFill>
        <p:spPr>
          <a:xfrm>
            <a:off x="642960" y="1500120"/>
            <a:ext cx="3571920" cy="2370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Petra\Pictures\fig4-2_xl.jpg"/>
          <p:cNvPicPr/>
          <p:nvPr/>
        </p:nvPicPr>
        <p:blipFill>
          <a:blip r:embed="rId2"/>
          <a:stretch/>
        </p:blipFill>
        <p:spPr>
          <a:xfrm>
            <a:off x="4714920" y="1500120"/>
            <a:ext cx="3598920" cy="2357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Users\Petra\Pictures\red_cell_sm2.jpg"/>
          <p:cNvPicPr/>
          <p:nvPr/>
        </p:nvPicPr>
        <p:blipFill>
          <a:blip r:embed="rId3"/>
          <a:stretch/>
        </p:blipFill>
        <p:spPr>
          <a:xfrm>
            <a:off x="2857680" y="4071960"/>
            <a:ext cx="3357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ytrocyten bevatten hemoglo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oglobine is een ijzerhoudend eiwit dat zuurstof (O₂) en koolstofdioxide (CO₂) kan bi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ytrocyten zorgen voor het transport van O₂ vanuit de longen richting de weefsels en voor het afvoeren van CO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anm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nmaak erytrocyten in het beenmerg vanuit stamcel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verhoogde aanmaak zijn kernhoudende voorlopers (reticulocyten) in het bloed waar te n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C:\Users\Petra\Pictures\ery_aanmaak.gif"/>
          <p:cNvPicPr/>
          <p:nvPr/>
        </p:nvPicPr>
        <p:blipFill>
          <a:blip r:embed="rId1"/>
          <a:stretch/>
        </p:blipFill>
        <p:spPr>
          <a:xfrm>
            <a:off x="4572000" y="1714680"/>
            <a:ext cx="3643200" cy="18046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C:\Users\Petra\Pictures\fig4-5_xl.jpg"/>
          <p:cNvPicPr/>
          <p:nvPr/>
        </p:nvPicPr>
        <p:blipFill>
          <a:blip r:embed="rId2"/>
          <a:stretch/>
        </p:blipFill>
        <p:spPr>
          <a:xfrm>
            <a:off x="5072040" y="4071960"/>
            <a:ext cx="35006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rytr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braa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perkte levensduur: afhankelijk van de dier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braak in de milt en de lever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bilirub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apotgaan” van erytrocyten = hemoly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rmaal is de aanmaak en afbraak van erytrocyten in evenwicht, zoniet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armoede/anem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te laag gehalte aan hemoglobine of een tekort aan circulerende erytrocyten, of be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orzak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loedver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hoogde afbraak (hemolytische anem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rminderde aanma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edingsfouten: ijzer- en/of vitaminetek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namestoorniss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samenstelling van blo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plas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witten, zouten, voedingsstoffen, afbraakproducten, hormonen, stollingsfac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el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ytrocyten (rod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ukocyten (witt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bocyten (bloedplaatj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oglobine gehal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b gehal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ram per 100 ml (g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pencer hemo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tretch/>
        </p:blipFill>
        <p:spPr>
          <a:xfrm>
            <a:off x="4643280" y="1857240"/>
            <a:ext cx="403884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atocri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hematocrietwaarde (Ht) is de waarde die de verhouding aangeeft tussen het volume van de erytrocyten in het bloed en het totale bloed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paling 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5" descr="C:\Users\Petra\Pictures\fig3-7a_xl.jpg"/>
          <p:cNvPicPr/>
          <p:nvPr/>
        </p:nvPicPr>
        <p:blipFill>
          <a:blip r:embed="rId1"/>
          <a:stretch/>
        </p:blipFill>
        <p:spPr>
          <a:xfrm>
            <a:off x="714240" y="1357200"/>
            <a:ext cx="300204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Petra\Pictures\fig3-7b_xl.jpg"/>
          <p:cNvPicPr/>
          <p:nvPr/>
        </p:nvPicPr>
        <p:blipFill>
          <a:blip r:embed="rId2"/>
          <a:stretch/>
        </p:blipFill>
        <p:spPr>
          <a:xfrm>
            <a:off x="4000680" y="1928880"/>
            <a:ext cx="485748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epaling 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C:\Users\Petra\Pictures\fig3-8a_xl.jpg"/>
          <p:cNvPicPr/>
          <p:nvPr/>
        </p:nvPicPr>
        <p:blipFill>
          <a:blip r:embed="rId1"/>
          <a:stretch/>
        </p:blipFill>
        <p:spPr>
          <a:xfrm>
            <a:off x="571680" y="2000160"/>
            <a:ext cx="4182840" cy="3138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Petra\Pictures\fig3-8b_xl.jpg"/>
          <p:cNvPicPr/>
          <p:nvPr/>
        </p:nvPicPr>
        <p:blipFill>
          <a:blip r:embed="rId2"/>
          <a:stretch/>
        </p:blipFill>
        <p:spPr>
          <a:xfrm>
            <a:off x="5214960" y="1500120"/>
            <a:ext cx="33224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Referentiewaarden Hb en 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28760" y="2214720"/>
          <a:ext cx="8229600" cy="18540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moglobine-geha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matocri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 – 11,7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2 – 0,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 – 8,1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 – 0,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5 – 8,7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6 – 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2 – 7,5 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7 – 0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euk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ute infecti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erhoogde aanmaak van leukocyten in beenmerg en lymfeknopen (= leukocytose)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naar plaats van infectie (amoeboïde beweging)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fagocytose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p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C:\Users\Petra\Pictures\fagocytose1.bmp"/>
          <p:cNvPicPr/>
          <p:nvPr/>
        </p:nvPicPr>
        <p:blipFill>
          <a:blip r:embed="rId1"/>
          <a:stretch/>
        </p:blipFill>
        <p:spPr>
          <a:xfrm>
            <a:off x="571680" y="4071960"/>
            <a:ext cx="421956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Users\Petra\Pictures\fagocytose2.bmp"/>
          <p:cNvPicPr/>
          <p:nvPr/>
        </p:nvPicPr>
        <p:blipFill>
          <a:blip r:embed="rId2"/>
          <a:stretch/>
        </p:blipFill>
        <p:spPr>
          <a:xfrm>
            <a:off x="5143680" y="3929040"/>
            <a:ext cx="3214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eukocytente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verhoogd aantal witte bloedcellen (leukocytose) is dus een aanwijzing voor een acute 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lkam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C:\Users\Petra\Pictures\dier_labo_telkamer.jpg"/>
          <p:cNvPicPr/>
          <p:nvPr/>
        </p:nvPicPr>
        <p:blipFill>
          <a:blip r:embed="rId1"/>
          <a:stretch/>
        </p:blipFill>
        <p:spPr>
          <a:xfrm>
            <a:off x="3000240" y="3214800"/>
            <a:ext cx="2400480" cy="321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Users\Petra\Pictures\00001914_0.jpg"/>
          <p:cNvPicPr/>
          <p:nvPr/>
        </p:nvPicPr>
        <p:blipFill>
          <a:blip r:embed="rId2"/>
          <a:stretch/>
        </p:blipFill>
        <p:spPr>
          <a:xfrm>
            <a:off x="5786280" y="3429000"/>
            <a:ext cx="283392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euk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schillende soort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ranulocyt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osinofiele granulocy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asofiele granulocy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utrofiele granulocy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taafkerni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Segmentkern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ymfocy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nocyt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C:\Users\Petra\Pictures\180px-Red_White_Blood_cells.jpg"/>
          <p:cNvPicPr/>
          <p:nvPr/>
        </p:nvPicPr>
        <p:blipFill>
          <a:blip r:embed="rId1"/>
          <a:stretch/>
        </p:blipFill>
        <p:spPr>
          <a:xfrm>
            <a:off x="5219640" y="2428920"/>
            <a:ext cx="362448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uitstrijk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C:\Users\Petra\Pictures\Bloeduitstrijk-maken.jpg"/>
          <p:cNvPicPr/>
          <p:nvPr/>
        </p:nvPicPr>
        <p:blipFill>
          <a:blip r:embed="rId1"/>
          <a:stretch/>
        </p:blipFill>
        <p:spPr>
          <a:xfrm>
            <a:off x="928800" y="1500120"/>
            <a:ext cx="72468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Kleu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Petra\Pictures\stains.jpg"/>
          <p:cNvPicPr/>
          <p:nvPr/>
        </p:nvPicPr>
        <p:blipFill>
          <a:blip r:embed="rId1"/>
          <a:stretch/>
        </p:blipFill>
        <p:spPr>
          <a:xfrm>
            <a:off x="1285920" y="142884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nderzoek van blo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Chemisch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Bloedplasm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witten, zouten, voedingsstoffen, afbraakproducten, hormonen, stollingsfacto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Hematologisch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: Cell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ytrocyten (rod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Leukocyten (witte bloedcell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rombocyten (bloedplaatj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osinofiele granul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4" descr="C:\Users\Petra\Pictures\fig6-1a_xl.jpg"/>
          <p:cNvPicPr/>
          <p:nvPr/>
        </p:nvPicPr>
        <p:blipFill>
          <a:blip r:embed="rId1"/>
          <a:stretch/>
        </p:blipFill>
        <p:spPr>
          <a:xfrm>
            <a:off x="357120" y="1643040"/>
            <a:ext cx="4092480" cy="271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Users\Petra\Pictures\fig6-1b_xl.jpg"/>
          <p:cNvPicPr/>
          <p:nvPr/>
        </p:nvPicPr>
        <p:blipFill>
          <a:blip r:embed="rId2"/>
          <a:stretch/>
        </p:blipFill>
        <p:spPr>
          <a:xfrm>
            <a:off x="4714920" y="3786120"/>
            <a:ext cx="4113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asofiele granul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C:\Users\Petra\Pictures\fig7-1b_xl.jpg"/>
          <p:cNvPicPr/>
          <p:nvPr/>
        </p:nvPicPr>
        <p:blipFill>
          <a:blip r:embed="rId1"/>
          <a:stretch/>
        </p:blipFill>
        <p:spPr>
          <a:xfrm>
            <a:off x="500040" y="1643040"/>
            <a:ext cx="4056120" cy="2643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Petra\Pictures\fig7-2a_xl.jpg"/>
          <p:cNvPicPr/>
          <p:nvPr/>
        </p:nvPicPr>
        <p:blipFill>
          <a:blip r:embed="rId2"/>
          <a:stretch/>
        </p:blipFill>
        <p:spPr>
          <a:xfrm>
            <a:off x="4786200" y="3429000"/>
            <a:ext cx="40244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utrofiele granul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aafkernig / Segmentkern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4" descr="C:\Users\Petra\Pictures\fig5-6_xl.jpg"/>
          <p:cNvPicPr/>
          <p:nvPr/>
        </p:nvPicPr>
        <p:blipFill>
          <a:blip r:embed="rId1"/>
          <a:stretch/>
        </p:blipFill>
        <p:spPr>
          <a:xfrm>
            <a:off x="857160" y="1928880"/>
            <a:ext cx="3500640" cy="2281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C:\Users\Petra\Pictures\fig5-7_xl.jpg"/>
          <p:cNvPicPr/>
          <p:nvPr/>
        </p:nvPicPr>
        <p:blipFill>
          <a:blip r:embed="rId2"/>
          <a:stretch/>
        </p:blipFill>
        <p:spPr>
          <a:xfrm>
            <a:off x="4714920" y="1928880"/>
            <a:ext cx="3571920" cy="227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C:\Users\Petra\Pictures\fig5-8_xl.jpg"/>
          <p:cNvPicPr/>
          <p:nvPr/>
        </p:nvPicPr>
        <p:blipFill>
          <a:blip r:embed="rId3"/>
          <a:stretch/>
        </p:blipFill>
        <p:spPr>
          <a:xfrm>
            <a:off x="2928960" y="4286160"/>
            <a:ext cx="3571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Lymf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:\Users\Petra\Pictures\fig9-1b_xl.jpg"/>
          <p:cNvPicPr/>
          <p:nvPr/>
        </p:nvPicPr>
        <p:blipFill>
          <a:blip r:embed="rId1"/>
          <a:stretch/>
        </p:blipFill>
        <p:spPr>
          <a:xfrm>
            <a:off x="357120" y="1500120"/>
            <a:ext cx="4133880" cy="2714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Petra\Pictures\fig9-1c_xl.jpg"/>
          <p:cNvPicPr/>
          <p:nvPr/>
        </p:nvPicPr>
        <p:blipFill>
          <a:blip r:embed="rId2"/>
          <a:stretch/>
        </p:blipFill>
        <p:spPr>
          <a:xfrm>
            <a:off x="4643280" y="3571920"/>
            <a:ext cx="4102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Mon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C:\Users\Petra\Pictures\fig8-1a_xl.jpg"/>
          <p:cNvPicPr/>
          <p:nvPr/>
        </p:nvPicPr>
        <p:blipFill>
          <a:blip r:embed="rId1"/>
          <a:stretch/>
        </p:blipFill>
        <p:spPr>
          <a:xfrm>
            <a:off x="928800" y="1428840"/>
            <a:ext cx="7286400" cy="47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ombocyt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C:\Users\Petra\Pictures\fig10-1_xl.jpg"/>
          <p:cNvPicPr/>
          <p:nvPr/>
        </p:nvPicPr>
        <p:blipFill>
          <a:blip r:embed="rId1"/>
          <a:stretch/>
        </p:blipFill>
        <p:spPr>
          <a:xfrm>
            <a:off x="1071720" y="1428840"/>
            <a:ext cx="68580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ombocyten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unct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pelen een belangrijke rol bij de bloedsto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chten zich aan de beschadigde bloedvatw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ctiveren (samen met o.a. calcium) de omzetting van fibrinogeen in fibr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3635280" y="4437000"/>
            <a:ext cx="2665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misch bloed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misch bloedonderzoek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ppara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5" descr="C:\Users\Petra\Pictures\Reflotron_System.jpg"/>
          <p:cNvPicPr/>
          <p:nvPr/>
        </p:nvPicPr>
        <p:blipFill>
          <a:blip r:embed="rId1"/>
          <a:stretch/>
        </p:blipFill>
        <p:spPr>
          <a:xfrm>
            <a:off x="500040" y="2571840"/>
            <a:ext cx="3929040" cy="2946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Petra\Pictures\6.jpg"/>
          <p:cNvPicPr/>
          <p:nvPr/>
        </p:nvPicPr>
        <p:blipFill>
          <a:blip r:embed="rId2"/>
          <a:stretch/>
        </p:blipFill>
        <p:spPr>
          <a:xfrm>
            <a:off x="5000760" y="2500200"/>
            <a:ext cx="368928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Chemisch bloedonderzoek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Ureum/creatinine: nieraandoening, uitdro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/ALT/bilirubine/galzuren: leveraandoe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bumine: lever-/nieraandoening, ondervoe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oedglucose: diabe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lektrolyten (Na, K, Ca, Mg, C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onderzoek</a:t>
            </a:r>
            <a:br>
              <a:rPr sz="4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lichaam probeert de samenstelling van het bloed zo constant mogelijk te houden (binnen normaal- / referentiewaard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loedsuikerspieg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ochtgehal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tal erytrocy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oeveelheid afvalproduct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nz , en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aststellen van hematologische en chemische veranderingen van het bloed is van belang voor het opsporen en diagnostiseren van ziek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vucheck Prem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C:\Users\Petra\Pictures\k9_bre2.jpg"/>
          <p:cNvPicPr/>
          <p:nvPr/>
        </p:nvPicPr>
        <p:blipFill>
          <a:blip r:embed="rId1"/>
          <a:stretch/>
        </p:blipFill>
        <p:spPr>
          <a:xfrm>
            <a:off x="785880" y="1571760"/>
            <a:ext cx="3682800" cy="452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Petra\Pictures\k9_bre12.jpg"/>
          <p:cNvPicPr/>
          <p:nvPr/>
        </p:nvPicPr>
        <p:blipFill>
          <a:blip r:embed="rId2"/>
          <a:stretch/>
        </p:blipFill>
        <p:spPr>
          <a:xfrm>
            <a:off x="4786200" y="2428920"/>
            <a:ext cx="3714840" cy="24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nap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C:\Users\Petra\Pictures\Kit2555.jpg"/>
          <p:cNvPicPr/>
          <p:nvPr/>
        </p:nvPicPr>
        <p:blipFill>
          <a:blip r:embed="rId1"/>
          <a:stretch/>
        </p:blipFill>
        <p:spPr>
          <a:xfrm>
            <a:off x="500040" y="1571760"/>
            <a:ext cx="3357720" cy="282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C:\Users\Petra\Pictures\Blood2556.jpg"/>
          <p:cNvPicPr/>
          <p:nvPr/>
        </p:nvPicPr>
        <p:blipFill>
          <a:blip r:embed="rId2"/>
          <a:stretch/>
        </p:blipFill>
        <p:spPr>
          <a:xfrm>
            <a:off x="4572000" y="1571760"/>
            <a:ext cx="3648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3"/>
          <p:cNvSpPr/>
          <p:nvPr/>
        </p:nvSpPr>
        <p:spPr>
          <a:xfrm>
            <a:off x="520200" y="4429080"/>
            <a:ext cx="327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en conjugaat pipett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 cuvet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4598280" y="442908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engsel aanbrengen in “Snapp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nap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7" descr="C:\Users\Petra\Pictures\Flow2557.jpg"/>
          <p:cNvPicPr/>
          <p:nvPr/>
        </p:nvPicPr>
        <p:blipFill>
          <a:blip r:embed="rId1"/>
          <a:stretch/>
        </p:blipFill>
        <p:spPr>
          <a:xfrm>
            <a:off x="500040" y="2000160"/>
            <a:ext cx="4362480" cy="29289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C:\Users\Petra\Pictures\Snap2559.jpg"/>
          <p:cNvPicPr/>
          <p:nvPr/>
        </p:nvPicPr>
        <p:blipFill>
          <a:blip r:embed="rId2"/>
          <a:stretch/>
        </p:blipFill>
        <p:spPr>
          <a:xfrm>
            <a:off x="5214960" y="2428920"/>
            <a:ext cx="3697200" cy="1643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3"/>
          <p:cNvSpPr/>
          <p:nvPr/>
        </p:nvSpPr>
        <p:spPr>
          <a:xfrm>
            <a:off x="595800" y="492912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nster stroomt richting werkingscirk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4"/>
          <p:cNvSpPr/>
          <p:nvPr/>
        </p:nvSpPr>
        <p:spPr>
          <a:xfrm>
            <a:off x="5166360" y="4071960"/>
            <a:ext cx="38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napper “ indrukken zodra mon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 werkingscirkel verschij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nap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10" descr="C:\Users\Petra\Pictures\Neg2564.jpg"/>
          <p:cNvPicPr/>
          <p:nvPr/>
        </p:nvPicPr>
        <p:blipFill>
          <a:blip r:embed="rId1"/>
          <a:stretch/>
        </p:blipFill>
        <p:spPr>
          <a:xfrm>
            <a:off x="214200" y="3143160"/>
            <a:ext cx="3324240" cy="2000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C:\Users\Petra\Pictures\FeLV1.jpg"/>
          <p:cNvPicPr/>
          <p:nvPr/>
        </p:nvPicPr>
        <p:blipFill>
          <a:blip r:embed="rId2"/>
          <a:stretch/>
        </p:blipFill>
        <p:spPr>
          <a:xfrm>
            <a:off x="3786120" y="3143160"/>
            <a:ext cx="1500120" cy="2036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C:\Users\Petra\Pictures\FeLV2.jpg"/>
          <p:cNvPicPr/>
          <p:nvPr/>
        </p:nvPicPr>
        <p:blipFill>
          <a:blip r:embed="rId3"/>
          <a:stretch/>
        </p:blipFill>
        <p:spPr>
          <a:xfrm>
            <a:off x="5572080" y="3143160"/>
            <a:ext cx="1371600" cy="2032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C:\Users\Petra\Pictures\FeLV3.jpg"/>
          <p:cNvPicPr/>
          <p:nvPr/>
        </p:nvPicPr>
        <p:blipFill>
          <a:blip r:embed="rId4"/>
          <a:stretch/>
        </p:blipFill>
        <p:spPr>
          <a:xfrm>
            <a:off x="7215120" y="3143160"/>
            <a:ext cx="1447920" cy="2044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3"/>
          <p:cNvSpPr/>
          <p:nvPr/>
        </p:nvSpPr>
        <p:spPr>
          <a:xfrm>
            <a:off x="812880" y="1928880"/>
            <a:ext cx="52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Na 10 minuten resultaat afle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718920" y="514368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eLV en FIV nega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5"/>
          <p:cNvSpPr/>
          <p:nvPr/>
        </p:nvSpPr>
        <p:spPr>
          <a:xfrm>
            <a:off x="3786840" y="51436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eLV posi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6"/>
          <p:cNvSpPr/>
          <p:nvPr/>
        </p:nvSpPr>
        <p:spPr>
          <a:xfrm>
            <a:off x="5500080" y="5143680"/>
            <a:ext cx="146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eLV en F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posi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7"/>
          <p:cNvSpPr/>
          <p:nvPr/>
        </p:nvSpPr>
        <p:spPr>
          <a:xfrm>
            <a:off x="7293960" y="514368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FIV posit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af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na jugular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Users\Petra\Pictures\behindscenes-harry-pre-ga.jpg"/>
          <p:cNvPicPr/>
          <p:nvPr/>
        </p:nvPicPr>
        <p:blipFill>
          <a:blip r:embed="rId1"/>
          <a:stretch/>
        </p:blipFill>
        <p:spPr>
          <a:xfrm>
            <a:off x="826920" y="2276640"/>
            <a:ext cx="2665440" cy="3552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ena cephal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ttp://provisioning.ontwikkelcentrum.nl/objects//OC-33071-2-24d/OC-33071-2-24d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C:\Users\Petra\Pictures\2046925974_c342b797ae.jpg"/>
          <p:cNvPicPr/>
          <p:nvPr/>
        </p:nvPicPr>
        <p:blipFill>
          <a:blip r:embed="rId2"/>
          <a:stretch/>
        </p:blipFill>
        <p:spPr>
          <a:xfrm>
            <a:off x="4427640" y="2421000"/>
            <a:ext cx="3741480" cy="2805120"/>
          </a:xfrm>
          <a:prstGeom prst="rect">
            <a:avLst/>
          </a:prstGeom>
          <a:ln w="0">
            <a:noFill/>
          </a:ln>
        </p:spPr>
      </p:pic>
      <p:sp>
        <p:nvSpPr>
          <p:cNvPr id="62" name="Rechthoek 4"/>
          <p:cNvSpPr/>
          <p:nvPr/>
        </p:nvSpPr>
        <p:spPr>
          <a:xfrm>
            <a:off x="0" y="5805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://provisioning.ontwikkelcentrum.nl/objects//OC-33071-2-23d/OC-33071-2-23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af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C:\Users\Petra\Pictures\cat_med_saph.jpg"/>
          <p:cNvPicPr/>
          <p:nvPr/>
        </p:nvPicPr>
        <p:blipFill>
          <a:blip r:embed="rId1"/>
          <a:stretch/>
        </p:blipFill>
        <p:spPr>
          <a:xfrm>
            <a:off x="285840" y="2185920"/>
            <a:ext cx="4408560" cy="3000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Petra\Pictures\g02140art02.jpg"/>
          <p:cNvPicPr/>
          <p:nvPr/>
        </p:nvPicPr>
        <p:blipFill>
          <a:blip r:embed="rId2"/>
          <a:stretch/>
        </p:blipFill>
        <p:spPr>
          <a:xfrm>
            <a:off x="4929120" y="1785960"/>
            <a:ext cx="3929040" cy="392904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1"/>
          <p:cNvSpPr/>
          <p:nvPr/>
        </p:nvSpPr>
        <p:spPr>
          <a:xfrm>
            <a:off x="4286160" y="5950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youtube.com/watch?v=ZEsHMwKFb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emo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ysis = oploss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olyse = rbc’s gaan st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g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atrog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ventie hemoly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hone eenmalig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j voorkeur vacuümsyste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t te dunne naal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t schudden maar zwen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doende bloed in verhouding t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st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iet overdreven lang stuw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en verontrein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plasma hemolytisch"/>
          <p:cNvPicPr/>
          <p:nvPr/>
        </p:nvPicPr>
        <p:blipFill>
          <a:blip r:embed="rId1"/>
          <a:stretch/>
        </p:blipFill>
        <p:spPr>
          <a:xfrm>
            <a:off x="6792840" y="0"/>
            <a:ext cx="266076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donderzoe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fhankelijk van het gevraagde onderzoek en de gebruikte onderzoeksmetho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olbloed: onstolbaar gemaakt blo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lasma: vloeistof na centrifugeren van onstolbaar gemaakt bloed (bevat wel fibrinoge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erum: vloeistof na centrifugeren van gestold bloed (bevat geen fibrinoge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6T09:16:15Z</dcterms:created>
  <dc:creator>Petra</dc:creator>
  <dc:description/>
  <dc:language>en-US</dc:language>
  <cp:lastModifiedBy>A.Withaar</cp:lastModifiedBy>
  <dcterms:modified xsi:type="dcterms:W3CDTF">2013-10-09T11:42:55Z</dcterms:modified>
  <cp:revision>115</cp:revision>
  <dc:subject/>
  <dc:title>Slide 1</dc:title>
</cp:coreProperties>
</file>