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225-63D5-4511-8A9F-A5C02B7A87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evalentie: hoe vaak komt de ziekte voor in een populati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de plaatjes de “ziekte” zwart schaap. Links: 1 op de 15 schapen; rechts: 1 op de 2 scha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8AC-0F54-4348-9A23-81CF7116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6D9-DE7F-4149-98DC-3970CE80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DEA-B5C9-4253-B5DB-61D9552F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688-3A32-4531-B46C-6FAAFA9C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DA5-5972-4203-A641-447785F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382-096A-4037-979A-DE7ADF22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EEB-4384-461E-9AC2-4CEB6F5C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DF9-E1EA-4AE3-9F11-CFAD6AD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316-E601-4840-9196-B3D475BD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367-068B-43A1-989F-F3DA9E6E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D9E-C565-4109-A024-309D70A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7EB-3498-4B87-B585-61A1966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756C-7E50-4FA5-99D0-96DBE3396E8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en test blijft een test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ensitivit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aantal positieve dieren, die met de test ook ECHT positief uitp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us: hoe goed pakt de test de positieve dieren eru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ecificit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aantal negatieve dieren, die met de test ook ECHT negatief uitp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us: hoe goed pakt de test de negatieve dieren eru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sitief voorspellende waa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van de positieve uitslagen komen ook echt van een positief di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tewel: hoe betrouwbaar is een positieve testuitsl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gatief voorspellende waa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van de negatieve uitslagen komen ook echt van een negatief di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tewel: hoe betrouwbaar is een negatieve testuitsl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 schem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/ (a+b) * 100 % = sensitivit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/ (c+d) * 100 % = specificit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/ (a+c) * 100 % = pos. voorsp. Waar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/ (b+d) * 100 % = neg. Voorsp. waar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1112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r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t positief 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s negatief 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r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s positief 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t negatief 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ouden standaa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st met de volgende eigenschapp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en vals positi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en vals negati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revalenti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1571760" y="2500200"/>
            <a:ext cx="2989080" cy="2000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images"/>
          <p:cNvPicPr/>
          <p:nvPr/>
        </p:nvPicPr>
        <p:blipFill>
          <a:blip r:embed="rId2"/>
          <a:stretch/>
        </p:blipFill>
        <p:spPr>
          <a:xfrm>
            <a:off x="4643280" y="2538360"/>
            <a:ext cx="24498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Onthoudt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 altijd rekening met mogelijk een vals positieve of vals negatieve uitsl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van test is 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st eigenschap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eval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sten/ bewerkelijkheid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gelijkheden eigen prakt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c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sitie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3500280" y="2571840"/>
            <a:ext cx="2038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sitief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3357720" y="2092320"/>
            <a:ext cx="20001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sitie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3500280" y="2571840"/>
            <a:ext cx="2038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ls positief = Negatief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3214800" y="1949400"/>
            <a:ext cx="2357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gatie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 van passeren of p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images"/>
          <p:cNvPicPr/>
          <p:nvPr/>
        </p:nvPicPr>
        <p:blipFill>
          <a:blip r:embed="rId1"/>
          <a:stretch/>
        </p:blipFill>
        <p:spPr>
          <a:xfrm>
            <a:off x="3132000" y="2614680"/>
            <a:ext cx="338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gatief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images"/>
          <p:cNvPicPr/>
          <p:nvPr/>
        </p:nvPicPr>
        <p:blipFill>
          <a:blip r:embed="rId1"/>
          <a:stretch/>
        </p:blipFill>
        <p:spPr>
          <a:xfrm>
            <a:off x="3633840" y="1916280"/>
            <a:ext cx="23670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gatie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 van passeren of p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images"/>
          <p:cNvPicPr/>
          <p:nvPr/>
        </p:nvPicPr>
        <p:blipFill>
          <a:blip r:embed="rId1"/>
          <a:stretch/>
        </p:blipFill>
        <p:spPr>
          <a:xfrm>
            <a:off x="3132000" y="2614680"/>
            <a:ext cx="338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ls negatief = positief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images"/>
          <p:cNvPicPr/>
          <p:nvPr/>
        </p:nvPicPr>
        <p:blipFill>
          <a:blip r:embed="rId1"/>
          <a:stretch/>
        </p:blipFill>
        <p:spPr>
          <a:xfrm>
            <a:off x="3203640" y="2344680"/>
            <a:ext cx="3168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9:38:47Z</dcterms:created>
  <dc:creator>A.Withaar</dc:creator>
  <dc:description/>
  <dc:language>en-US</dc:language>
  <cp:lastModifiedBy>Administrator</cp:lastModifiedBy>
  <dcterms:modified xsi:type="dcterms:W3CDTF">2014-03-24T11:43:01Z</dcterms:modified>
  <cp:revision>15</cp:revision>
  <dc:subject/>
  <dc:title>Dia 1</dc:title>
</cp:coreProperties>
</file>