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3.jpeg" ContentType="image/jpeg"/>
  <Override PartName="/ppt/media/image55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5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896D-A677-4133-9BFA-AEC5979402C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201D-44FC-42AD-A6E3-0B1C719AB77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at is laboratorium we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en hond met huidklachten onderzoek je tijdens het 1</a:t>
            </a:r>
            <a:r>
              <a:rPr b="0" lang="nl-NL" sz="1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con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Je ziet wat zwarte korr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witte schilfers, heel vaak op de achter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en vlooienkam is gauw gepak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3B9B-9278-4786-A7F5-917D1877A96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luorescentie mbv Woodsel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Uv licht doet de schimmel draden oplich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et is een aanwijzing, geen zekerhe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gelmatig schimmel, zonder fluorescentie, maar ook wel eens fluorescentie zonder schimmel (bijvoorbeeld tgv het antibioticum OTC= oxytetracycli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28F9-98C0-42CF-B17E-F27F5908BA9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x haarschacht aangetast door schimm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een strakke belijning van de schacht m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el korrels, sporen van de schimm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ynoniemen van schimmel: trichofytie, microsporie,  ringschurft, rijksdaalderschurft, ringvu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192B-3E08-4DDE-A609-BBD68802AD3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 onder een pincet weggetrokken: op een voorwerpglaasje, onder een druppel ol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je ziet soms nog wat bewe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at plakt er aan de haren? Neten met uitlaatkl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F0F2-50BC-488B-8D6D-34D1D35F8E2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t scalpel(of scherpe lepel) maak je een afkrabsel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nder de microscoop tref je de haarzakmijt; demodex a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8 pootjes maakt een mij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4B0F-287F-4C72-83B7-F871451C646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ok een vorm van demo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erk gelokaliseerd ipv gegeneralisee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8 pootjes maakt een mij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3B43-D151-4265-8E4E-4A4D9768BAB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ze hond heeft veel jeuk; komt van een puppycentr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nder een plakbandje tref ik slechts 3 eitjes a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och motiveert dit om verder te zoek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chte schurft; scabies. De mijt graaft vlak onder de opperhui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aardoor moeilijk aan te tonen. Ook gering in aa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43E4-5CD4-464B-832A-03F0AE4693C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chte huid biopt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t een soort appelboortje pons je een rondje uit de hu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t moet je vervolgens wel weer hechten, nieten, agr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AD0A-B09F-47BC-8405-B3AC5FCF9CB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at met schurftmij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C3C7-062C-4D4A-B382-C54D415EF93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assale infestatie van een (tropische) mij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och geen oormij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AC98-45E2-485E-84AD-534A598C788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NAB dun naald aspiratie bio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Je steekt de naald in de bult die je wilt onderzoeken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oor een beetje vacuüm op de naald te zetten, zuigt de naald zich v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inhoud van de naald smeer je uit op een voorwerpglaas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estal stuur je dit op, anders kleur je het zelf met diff qui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3698-B10E-47EE-AF48-ED700B118E7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r blijft wat achter op de vlooienkam; doe er wat water bij, op een witt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Je ziet bloed waarvan de rode kleurstof als een vlek diffundee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bekijk dat korreltje dat wel een komma lijkt onder de microsco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croscoop bij de hand en bekijk wat meer debris: een e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elfs een larve is zichtbaar, maar meestal aardig doorzichti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agnose: vl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2B79-2A43-42A0-A6B8-23A3442F5E4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e schilfers? Allemaal gelijk van groot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nige beweging is er wel; wat zou dit zij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kke luis met brede bek: bijtende lu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C988C-C5D4-4BE4-94A6-6A335F16E54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edipalpen gestrek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rgaan van Haller op de voorpoten reageren op warmte of CO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t zoals de leerlingen op de geur van koff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1,2,3,4,5 teken; teek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1C2A-AC83-44CC-9963-F8D9A349923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n die witte schilfers; zeer gelijkmatige witte ovaaltj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izen ei ook wel n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izen, met brede kaken of spitssnui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0D07-6A3A-44D9-BAD9-D2E32AD6E20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dere soort schilfering; met of zonder jeu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n dit geval onder de microscoo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achtmijt: te herkennen aan hakerige mondde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ED7C-F018-4BF9-A1C1-4C338376085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nder de microscoop, want klein: 6 poten; larve van een mij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lote oog: volwassen vrouwtje, klaar om eieren te gaan produce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nminste als er ook een mannetje is langsgewe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4EA2-B29D-4979-ACA4-8D33A304B34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s plak werk: plakband om de parasiet te oogst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ogstmijt; goede reden om flink jeuk te heb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405F-0B0E-409B-AC5F-52578BAEB57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der moment is de parasiet in grote getale aanwezig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aar je toont hem pas aan na kleuring van het plakbandje dat je op de huid geplakt heb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4DE3-AA37-4535-9CD7-79E91971E87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en soort “open” wattenstaaf waarmee oorsmeer geoogst word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t afwijkende cerumen wordt op een voorwerpglaasje gesmee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erst vallen de eieren op, dan blijkt zich ook nog een mijt verstopt te heb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2741-424B-4702-ACDE-EE83F346BC9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abwerk vraagt soms om speciale apparatuu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en huid laesie bij een mens die een kat op schoot hee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ebruik een vergrootglas, met Woodse lamp met uv lich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verzamel haar van de aangetaste plaats en verhelder het met ko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Je ziet een haar die aangetast is door de schimmel: sporen om de schach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een strak belijnde haarscha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E482-25D8-47EA-9397-7ED1971F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740-B9F9-4B42-85D8-9319B9E0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BDF1-16F0-4226-88A8-24F003A3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F0D5-E197-4F7F-9996-992EA8982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4674-7EF1-4A9E-8258-FCE0AF11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89A-5325-4BBF-BF03-F8DAB42A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F43-788F-4550-A7A0-00AB3BCA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DE67-DF9B-4DC3-A290-D37AA6FA7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E66-0143-4BFD-9B2B-58C09DDA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DD0A-27E6-4A28-902B-8C061CFF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7821-6662-4A8E-8166-EB157325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665C-F586-410C-AFCF-64F0DF72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B32A-36DE-4FFE-8010-D366E97352F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060D-52B1-46AA-AF5C-5F736B258F7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vlooienkamtest"/>
          <p:cNvPicPr/>
          <p:nvPr/>
        </p:nvPicPr>
        <p:blipFill>
          <a:blip r:embed="rId1"/>
          <a:stretch/>
        </p:blipFill>
        <p:spPr>
          <a:xfrm>
            <a:off x="250920" y="1341360"/>
            <a:ext cx="2923920" cy="4838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vlo faeces in de vacht 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564000" y="189000"/>
            <a:ext cx="3003480" cy="2481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luis in vacht hond 2"/>
          <p:cNvPicPr/>
          <p:nvPr/>
        </p:nvPicPr>
        <p:blipFill>
          <a:blip r:embed="rId3"/>
          <a:srcRect l="0" t="6372" r="0" b="0"/>
          <a:stretch/>
        </p:blipFill>
        <p:spPr>
          <a:xfrm>
            <a:off x="3564000" y="2924280"/>
            <a:ext cx="2305080" cy="1869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heyl15"/>
          <p:cNvPicPr/>
          <p:nvPr/>
        </p:nvPicPr>
        <p:blipFill>
          <a:blip r:embed="rId4"/>
          <a:stretch/>
        </p:blipFill>
        <p:spPr>
          <a:xfrm>
            <a:off x="6149880" y="3716280"/>
            <a:ext cx="299412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DB60-EBE0-4634-8D6A-4B73CB0DCEF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woodselamp"/>
          <p:cNvPicPr/>
          <p:nvPr/>
        </p:nvPicPr>
        <p:blipFill>
          <a:blip r:embed="rId1"/>
          <a:srcRect l="0" t="0" r="62144" b="0"/>
          <a:stretch/>
        </p:blipFill>
        <p:spPr>
          <a:xfrm>
            <a:off x="684360" y="1341360"/>
            <a:ext cx="2928960" cy="4608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fluoriscentie 1"/>
          <p:cNvPicPr/>
          <p:nvPr/>
        </p:nvPicPr>
        <p:blipFill>
          <a:blip r:embed="rId2"/>
          <a:stretch/>
        </p:blipFill>
        <p:spPr>
          <a:xfrm>
            <a:off x="4211640" y="3471840"/>
            <a:ext cx="4608360" cy="305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fluoriscentie 2"/>
          <p:cNvPicPr/>
          <p:nvPr/>
        </p:nvPicPr>
        <p:blipFill>
          <a:blip r:embed="rId3"/>
          <a:stretch/>
        </p:blipFill>
        <p:spPr>
          <a:xfrm>
            <a:off x="4427640" y="620640"/>
            <a:ext cx="3887640" cy="26179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830160" y="61657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dse 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2CED-9D87-4B9D-8D15-6D55B2FEE90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schimmel haar 7"/>
          <p:cNvPicPr/>
          <p:nvPr/>
        </p:nvPicPr>
        <p:blipFill>
          <a:blip r:embed="rId1"/>
          <a:stretch/>
        </p:blipFill>
        <p:spPr>
          <a:xfrm>
            <a:off x="3981600" y="0"/>
            <a:ext cx="5162400" cy="4033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schimmel haar 6"/>
          <p:cNvPicPr/>
          <p:nvPr/>
        </p:nvPicPr>
        <p:blipFill>
          <a:blip r:embed="rId2"/>
          <a:stretch/>
        </p:blipFill>
        <p:spPr>
          <a:xfrm>
            <a:off x="0" y="2631960"/>
            <a:ext cx="518472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EAE1-9079-4A05-890A-8BE260C96EB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haaronderzoek"/>
          <p:cNvPicPr/>
          <p:nvPr/>
        </p:nvPicPr>
        <p:blipFill>
          <a:blip r:embed="rId1"/>
          <a:stretch/>
        </p:blipFill>
        <p:spPr>
          <a:xfrm>
            <a:off x="539640" y="1125360"/>
            <a:ext cx="3059280" cy="475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luis neten 3"/>
          <p:cNvPicPr/>
          <p:nvPr/>
        </p:nvPicPr>
        <p:blipFill>
          <a:blip r:embed="rId2"/>
          <a:stretch/>
        </p:blipFill>
        <p:spPr>
          <a:xfrm>
            <a:off x="4019400" y="0"/>
            <a:ext cx="5124600" cy="4110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luis neten 1"/>
          <p:cNvPicPr/>
          <p:nvPr/>
        </p:nvPicPr>
        <p:blipFill>
          <a:blip r:embed="rId3"/>
          <a:srcRect l="0" t="7503" r="0" b="0"/>
          <a:stretch/>
        </p:blipFill>
        <p:spPr>
          <a:xfrm>
            <a:off x="3348000" y="3716280"/>
            <a:ext cx="369432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F794-9F12-484A-A387-A9B632BDC6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huidafkrabsel"/>
          <p:cNvPicPr/>
          <p:nvPr/>
        </p:nvPicPr>
        <p:blipFill>
          <a:blip r:embed="rId1"/>
          <a:stretch/>
        </p:blipFill>
        <p:spPr>
          <a:xfrm>
            <a:off x="250920" y="907920"/>
            <a:ext cx="3112920" cy="5329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demodex canis 7"/>
          <p:cNvPicPr/>
          <p:nvPr/>
        </p:nvPicPr>
        <p:blipFill>
          <a:blip r:embed="rId2"/>
          <a:stretch/>
        </p:blipFill>
        <p:spPr>
          <a:xfrm>
            <a:off x="5003640" y="189000"/>
            <a:ext cx="3527640" cy="33051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emodex canis 1"/>
          <p:cNvPicPr/>
          <p:nvPr/>
        </p:nvPicPr>
        <p:blipFill>
          <a:blip r:embed="rId3"/>
          <a:stretch/>
        </p:blipFill>
        <p:spPr>
          <a:xfrm>
            <a:off x="3635280" y="4005360"/>
            <a:ext cx="3522600" cy="28526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6067440" y="359244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mo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ED20-633F-4917-9A38-2F949A7A95D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demodex canis 10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79280" y="1052640"/>
            <a:ext cx="5153040" cy="4178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demodex canis 2"/>
          <p:cNvPicPr/>
          <p:nvPr/>
        </p:nvPicPr>
        <p:blipFill>
          <a:blip r:embed="rId2">
            <a:lum bright="12000"/>
          </a:blip>
          <a:srcRect l="0" t="6562" r="0" b="0"/>
          <a:stretch/>
        </p:blipFill>
        <p:spPr>
          <a:xfrm>
            <a:off x="4427640" y="3075120"/>
            <a:ext cx="44434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5482-30D5-407D-B390-ADDFDC9B7C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schurft hond uitw 1"/>
          <p:cNvPicPr/>
          <p:nvPr/>
        </p:nvPicPr>
        <p:blipFill>
          <a:blip r:embed="rId1"/>
          <a:stretch/>
        </p:blipFill>
        <p:spPr>
          <a:xfrm>
            <a:off x="250920" y="907920"/>
            <a:ext cx="3600360" cy="2935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schurft hond 4"/>
          <p:cNvPicPr/>
          <p:nvPr/>
        </p:nvPicPr>
        <p:blipFill>
          <a:blip r:embed="rId2"/>
          <a:stretch/>
        </p:blipFill>
        <p:spPr>
          <a:xfrm>
            <a:off x="4788000" y="189000"/>
            <a:ext cx="4236840" cy="3381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schurft hond ei"/>
          <p:cNvPicPr/>
          <p:nvPr/>
        </p:nvPicPr>
        <p:blipFill>
          <a:blip r:embed="rId3"/>
          <a:stretch/>
        </p:blipFill>
        <p:spPr>
          <a:xfrm>
            <a:off x="1187280" y="3933720"/>
            <a:ext cx="3549960" cy="2838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schurft hond 6"/>
          <p:cNvPicPr/>
          <p:nvPr/>
        </p:nvPicPr>
        <p:blipFill>
          <a:blip r:embed="rId4"/>
          <a:stretch/>
        </p:blipFill>
        <p:spPr>
          <a:xfrm>
            <a:off x="5003640" y="3645000"/>
            <a:ext cx="381636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9CB1-3FEF-4653-8375-623F2763DE5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huidbiopt"/>
          <p:cNvPicPr/>
          <p:nvPr/>
        </p:nvPicPr>
        <p:blipFill>
          <a:blip r:embed="rId1"/>
          <a:stretch/>
        </p:blipFill>
        <p:spPr>
          <a:xfrm>
            <a:off x="1352520" y="1486080"/>
            <a:ext cx="64389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EC9A-9587-4E64-B65F-698DD62FEE8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schurft kat 5"/>
          <p:cNvPicPr/>
          <p:nvPr/>
        </p:nvPicPr>
        <p:blipFill>
          <a:blip r:embed="rId1"/>
          <a:stretch/>
        </p:blipFill>
        <p:spPr>
          <a:xfrm>
            <a:off x="539640" y="1341360"/>
            <a:ext cx="4343400" cy="4119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schurft kat 2"/>
          <p:cNvPicPr/>
          <p:nvPr/>
        </p:nvPicPr>
        <p:blipFill>
          <a:blip r:embed="rId2"/>
          <a:stretch/>
        </p:blipFill>
        <p:spPr>
          <a:xfrm>
            <a:off x="5219640" y="189000"/>
            <a:ext cx="3710160" cy="30369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schurft kat 3"/>
          <p:cNvPicPr/>
          <p:nvPr/>
        </p:nvPicPr>
        <p:blipFill>
          <a:blip r:embed="rId3"/>
          <a:stretch/>
        </p:blipFill>
        <p:spPr>
          <a:xfrm>
            <a:off x="5219640" y="3573360"/>
            <a:ext cx="36702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74B1-4A3F-4F2C-A5DB-5E4E968A7DC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teek massaal"/>
          <p:cNvPicPr/>
          <p:nvPr/>
        </p:nvPicPr>
        <p:blipFill>
          <a:blip r:embed="rId1"/>
          <a:stretch/>
        </p:blipFill>
        <p:spPr>
          <a:xfrm>
            <a:off x="1332000" y="1052640"/>
            <a:ext cx="66657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F661-ADD7-4664-BBE6-3D0C2BAE048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3" descr="dunnenaaldaspiratiebiopt"/>
          <p:cNvPicPr/>
          <p:nvPr/>
        </p:nvPicPr>
        <p:blipFill>
          <a:blip r:embed="rId1"/>
          <a:stretch/>
        </p:blipFill>
        <p:spPr>
          <a:xfrm>
            <a:off x="1328760" y="1481040"/>
            <a:ext cx="648648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9C16-D3B8-4A12-94B9-058133C7BC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vlo faeces onder de microscoop"/>
          <p:cNvPicPr/>
          <p:nvPr/>
        </p:nvPicPr>
        <p:blipFill>
          <a:blip r:embed="rId1"/>
          <a:stretch/>
        </p:blipFill>
        <p:spPr>
          <a:xfrm>
            <a:off x="4859280" y="1193760"/>
            <a:ext cx="3600360" cy="2905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vlo faeces in druppel water"/>
          <p:cNvPicPr/>
          <p:nvPr/>
        </p:nvPicPr>
        <p:blipFill>
          <a:blip r:embed="rId2"/>
          <a:stretch/>
        </p:blipFill>
        <p:spPr>
          <a:xfrm>
            <a:off x="684360" y="1197000"/>
            <a:ext cx="3744720" cy="2971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vlo ei"/>
          <p:cNvPicPr/>
          <p:nvPr/>
        </p:nvPicPr>
        <p:blipFill>
          <a:blip r:embed="rId3"/>
          <a:stretch/>
        </p:blipFill>
        <p:spPr>
          <a:xfrm>
            <a:off x="900000" y="4437000"/>
            <a:ext cx="2783160" cy="2222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vlo larve"/>
          <p:cNvPicPr/>
          <p:nvPr/>
        </p:nvPicPr>
        <p:blipFill>
          <a:blip r:embed="rId4"/>
          <a:stretch/>
        </p:blipFill>
        <p:spPr>
          <a:xfrm>
            <a:off x="6227640" y="4437000"/>
            <a:ext cx="2702160" cy="2129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vlo van kat 2"/>
          <p:cNvPicPr/>
          <p:nvPr/>
        </p:nvPicPr>
        <p:blipFill>
          <a:blip r:embed="rId5"/>
          <a:stretch/>
        </p:blipFill>
        <p:spPr>
          <a:xfrm rot="1878000">
            <a:off x="2050560" y="1484280"/>
            <a:ext cx="510696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57EA-1CE1-4582-BA0B-AFC022E5F6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luis in vacht hond 2"/>
          <p:cNvPicPr/>
          <p:nvPr/>
        </p:nvPicPr>
        <p:blipFill>
          <a:blip r:embed="rId1"/>
          <a:srcRect l="0" t="8011" r="0" b="0"/>
          <a:stretch/>
        </p:blipFill>
        <p:spPr>
          <a:xfrm>
            <a:off x="539640" y="1152360"/>
            <a:ext cx="6553440" cy="52246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luis bijtend hond"/>
          <p:cNvPicPr/>
          <p:nvPr/>
        </p:nvPicPr>
        <p:blipFill>
          <a:blip r:embed="rId2"/>
          <a:stretch/>
        </p:blipFill>
        <p:spPr>
          <a:xfrm>
            <a:off x="5003640" y="3429000"/>
            <a:ext cx="394992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731A-1579-439A-B00B-79B6EE9D5F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teek in omgeving"/>
          <p:cNvPicPr/>
          <p:nvPr/>
        </p:nvPicPr>
        <p:blipFill>
          <a:blip r:embed="rId1"/>
          <a:stretch/>
        </p:blipFill>
        <p:spPr>
          <a:xfrm>
            <a:off x="3059280" y="981000"/>
            <a:ext cx="5500440" cy="45212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684000" y="566100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ek five = pau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C3A6-BDB9-4BBB-9A24-7F38AD2D8A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luis neten 2"/>
          <p:cNvPicPr/>
          <p:nvPr/>
        </p:nvPicPr>
        <p:blipFill>
          <a:blip r:embed="rId1"/>
          <a:stretch/>
        </p:blipFill>
        <p:spPr>
          <a:xfrm>
            <a:off x="755640" y="2205000"/>
            <a:ext cx="3651120" cy="28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luis bijtend hond 2"/>
          <p:cNvPicPr/>
          <p:nvPr/>
        </p:nvPicPr>
        <p:blipFill>
          <a:blip r:embed="rId2"/>
          <a:stretch/>
        </p:blipFill>
        <p:spPr>
          <a:xfrm>
            <a:off x="5003640" y="0"/>
            <a:ext cx="3359160" cy="2682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luis bijtend 2"/>
          <p:cNvPicPr/>
          <p:nvPr/>
        </p:nvPicPr>
        <p:blipFill>
          <a:blip r:embed="rId3"/>
          <a:stretch/>
        </p:blipFill>
        <p:spPr>
          <a:xfrm>
            <a:off x="4932360" y="2421000"/>
            <a:ext cx="3651120" cy="2355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luis zuig hond 1"/>
          <p:cNvPicPr/>
          <p:nvPr/>
        </p:nvPicPr>
        <p:blipFill>
          <a:blip r:embed="rId4"/>
          <a:stretch/>
        </p:blipFill>
        <p:spPr>
          <a:xfrm>
            <a:off x="4932360" y="4451400"/>
            <a:ext cx="35989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97A9-0DAB-446A-8D4B-3F59C82C1B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heyl14"/>
          <p:cNvPicPr/>
          <p:nvPr/>
        </p:nvPicPr>
        <p:blipFill>
          <a:blip r:embed="rId1"/>
          <a:stretch/>
        </p:blipFill>
        <p:spPr>
          <a:xfrm>
            <a:off x="250920" y="1628640"/>
            <a:ext cx="4021200" cy="32623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heyl4"/>
          <p:cNvPicPr/>
          <p:nvPr/>
        </p:nvPicPr>
        <p:blipFill>
          <a:blip r:embed="rId2"/>
          <a:stretch/>
        </p:blipFill>
        <p:spPr>
          <a:xfrm>
            <a:off x="4716360" y="115920"/>
            <a:ext cx="4176720" cy="334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cheyl5"/>
          <p:cNvPicPr/>
          <p:nvPr/>
        </p:nvPicPr>
        <p:blipFill>
          <a:blip r:embed="rId3"/>
          <a:stretch/>
        </p:blipFill>
        <p:spPr>
          <a:xfrm>
            <a:off x="4716360" y="3429000"/>
            <a:ext cx="4176720" cy="3295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902880" y="5445000"/>
            <a:ext cx="2021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eyleti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vachtmij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2574-CC42-4BFE-9D49-24D8B15B9A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teek larve 1"/>
          <p:cNvPicPr/>
          <p:nvPr/>
        </p:nvPicPr>
        <p:blipFill>
          <a:blip r:embed="rId1"/>
          <a:stretch/>
        </p:blipFill>
        <p:spPr>
          <a:xfrm>
            <a:off x="1116000" y="1052640"/>
            <a:ext cx="3228840" cy="2565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teek volgezogen vrouwtje"/>
          <p:cNvPicPr/>
          <p:nvPr/>
        </p:nvPicPr>
        <p:blipFill>
          <a:blip r:embed="rId2"/>
          <a:stretch/>
        </p:blipFill>
        <p:spPr>
          <a:xfrm>
            <a:off x="4859280" y="549360"/>
            <a:ext cx="3333960" cy="2668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teek paring"/>
          <p:cNvPicPr/>
          <p:nvPr/>
        </p:nvPicPr>
        <p:blipFill>
          <a:blip r:embed="rId3"/>
          <a:stretch/>
        </p:blipFill>
        <p:spPr>
          <a:xfrm>
            <a:off x="3059280" y="3716280"/>
            <a:ext cx="324144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0723-8C20-4A1C-81A3-D7B7CCC45E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" descr="plakbandtest"/>
          <p:cNvPicPr/>
          <p:nvPr/>
        </p:nvPicPr>
        <p:blipFill>
          <a:blip r:embed="rId1"/>
          <a:stretch/>
        </p:blipFill>
        <p:spPr>
          <a:xfrm>
            <a:off x="755640" y="1197000"/>
            <a:ext cx="2498760" cy="406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oogstmijt 3"/>
          <p:cNvPicPr/>
          <p:nvPr/>
        </p:nvPicPr>
        <p:blipFill>
          <a:blip r:embed="rId2"/>
          <a:stretch/>
        </p:blipFill>
        <p:spPr>
          <a:xfrm>
            <a:off x="4140360" y="404640"/>
            <a:ext cx="3779640" cy="300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oogstmijt 1"/>
          <p:cNvPicPr/>
          <p:nvPr/>
        </p:nvPicPr>
        <p:blipFill>
          <a:blip r:embed="rId3"/>
          <a:stretch/>
        </p:blipFill>
        <p:spPr>
          <a:xfrm>
            <a:off x="6191280" y="4292640"/>
            <a:ext cx="2952720" cy="2408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oogstmijt 2"/>
          <p:cNvPicPr/>
          <p:nvPr/>
        </p:nvPicPr>
        <p:blipFill>
          <a:blip r:embed="rId4"/>
          <a:stretch/>
        </p:blipFill>
        <p:spPr>
          <a:xfrm>
            <a:off x="2987640" y="3716280"/>
            <a:ext cx="3124080" cy="2519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7"/>
          <p:cNvSpPr/>
          <p:nvPr/>
        </p:nvSpPr>
        <p:spPr>
          <a:xfrm>
            <a:off x="829080" y="573408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gstmij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A8F9-DF7C-40BD-91F4-A4BEFCDF25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malassezia extern"/>
          <p:cNvPicPr/>
          <p:nvPr/>
        </p:nvPicPr>
        <p:blipFill>
          <a:blip r:embed="rId1"/>
          <a:stretch/>
        </p:blipFill>
        <p:spPr>
          <a:xfrm>
            <a:off x="4572000" y="189000"/>
            <a:ext cx="4137120" cy="3322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malassezia 4"/>
          <p:cNvPicPr/>
          <p:nvPr/>
        </p:nvPicPr>
        <p:blipFill>
          <a:blip r:embed="rId2"/>
          <a:stretch/>
        </p:blipFill>
        <p:spPr>
          <a:xfrm>
            <a:off x="179280" y="2565360"/>
            <a:ext cx="5143680" cy="41101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704200" y="4140360"/>
            <a:ext cx="221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laze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g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2AC8-B44F-4E90-8078-AE81208BE7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oorswab"/>
          <p:cNvPicPr/>
          <p:nvPr/>
        </p:nvPicPr>
        <p:blipFill>
          <a:blip r:embed="rId1"/>
          <a:stretch/>
        </p:blipFill>
        <p:spPr>
          <a:xfrm>
            <a:off x="324000" y="981000"/>
            <a:ext cx="2398680" cy="389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oormijt extern"/>
          <p:cNvPicPr/>
          <p:nvPr/>
        </p:nvPicPr>
        <p:blipFill>
          <a:blip r:embed="rId2"/>
          <a:stretch/>
        </p:blipFill>
        <p:spPr>
          <a:xfrm>
            <a:off x="3780000" y="404640"/>
            <a:ext cx="4248000" cy="3365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oormijt 3"/>
          <p:cNvPicPr/>
          <p:nvPr/>
        </p:nvPicPr>
        <p:blipFill>
          <a:blip r:embed="rId3"/>
          <a:stretch/>
        </p:blipFill>
        <p:spPr>
          <a:xfrm>
            <a:off x="2627280" y="3933720"/>
            <a:ext cx="3311640" cy="2706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oormijt krabreflex"/>
          <p:cNvPicPr/>
          <p:nvPr/>
        </p:nvPicPr>
        <p:blipFill>
          <a:blip r:embed="rId4"/>
          <a:stretch/>
        </p:blipFill>
        <p:spPr>
          <a:xfrm>
            <a:off x="6084720" y="4005360"/>
            <a:ext cx="290844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1D67-AE79-4961-B735-746BD4DAFA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338112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uidparasie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woodselamp"/>
          <p:cNvPicPr/>
          <p:nvPr/>
        </p:nvPicPr>
        <p:blipFill>
          <a:blip r:embed="rId1"/>
          <a:srcRect l="0" t="0" r="62144" b="0"/>
          <a:stretch/>
        </p:blipFill>
        <p:spPr>
          <a:xfrm>
            <a:off x="611280" y="1052640"/>
            <a:ext cx="3157560" cy="4967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schimmel mens"/>
          <p:cNvPicPr/>
          <p:nvPr/>
        </p:nvPicPr>
        <p:blipFill>
          <a:blip r:embed="rId2"/>
          <a:stretch/>
        </p:blipFill>
        <p:spPr>
          <a:xfrm>
            <a:off x="4427640" y="260280"/>
            <a:ext cx="3930480" cy="3216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schimmel haar 5"/>
          <p:cNvPicPr/>
          <p:nvPr/>
        </p:nvPicPr>
        <p:blipFill>
          <a:blip r:embed="rId3"/>
          <a:stretch/>
        </p:blipFill>
        <p:spPr>
          <a:xfrm>
            <a:off x="4427640" y="3529080"/>
            <a:ext cx="38638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8:09:14Z</dcterms:created>
  <dc:creator>H W Hessel</dc:creator>
  <dc:description/>
  <dc:language>en-US</dc:language>
  <cp:lastModifiedBy>Administrator</cp:lastModifiedBy>
  <dcterms:modified xsi:type="dcterms:W3CDTF">2013-11-08T10:14:20Z</dcterms:modified>
  <cp:revision>7</cp:revision>
  <dc:subject/>
  <dc:title>huidparasieten</dc:title>
</cp:coreProperties>
</file>