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954405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359-206B-43A5-933C-5995A0A4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FBC-725A-476F-80C4-ECC2729A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8B38-A182-47C9-A939-B77C6E69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52B9-D2C7-4DCA-9DA1-C9CB09B8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FF6-48A5-4E42-B93A-1E96D729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1FA2-FDC7-41CA-B368-87F0722D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E1D3-FA8D-4D6E-AC24-7FB91574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BF02-5894-4755-A363-D21AEA09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3C07-E358-4B38-93EC-1E5D98C5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BE7F-13A3-4F39-9AE6-02C0151C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F3E-48C2-4EC5-A4CD-142864BC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D2A-3407-477F-9129-5D3D69B7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721B-5E92-45C9-8CA2-1DF26FB2C3E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84360" y="2133720"/>
            <a:ext cx="79581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LABORATORIUM-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278f01"/>
                </a:solidFill>
                <a:latin typeface="Tahoma"/>
              </a:rPr>
              <a:t>WERKZAAMHEDEN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278f01"/>
                </a:solidFill>
                <a:latin typeface="Tahoma"/>
              </a:rPr>
              <a:t>BACTERIOLOGISCH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278f01"/>
                </a:solidFill>
                <a:latin typeface="Tahoma"/>
              </a:rPr>
              <a:t>ONDERZOEK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Hoe gaan we te we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ënten van de voedingsbodem en bebroed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Beoordeling van de directe kweek en maken reinkwee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Identificatie van de bacterië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Interpretatie van de resultat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Gevoeligheidsbepa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Beënten van de voedingsbodem en bebroed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t een öse wordt plaat geë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it wordt in 3 stappen geda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Doel : losliggende kolonies creë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ebroeden bij 3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° ged. 2x 24 u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derstebove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Gefractioneerd uitstrijk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1" descr="bacteriologie 009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Beoordeling van de directe kweek en maken reinkwee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jn er losliggende kolon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incultuur of mengcultuu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→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zien alle losliggende kolonies er hetzelfde u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Identificatie van de bacterië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Waar kijken we naa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oei: type bodem: SBA, MacConkey, Edw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olonievorm: grootte, vorm, kleur, haemoly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xtra testen: katalase, Gram kleuring, Indol,en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Types voedingsbode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erum agar: niet selectief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Schapenbloedagar (SBA): niet selectief, evt. haemoly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MacConkey: groeien alleen Gram negatieve bacteriën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dwards: groeien alleen streptococcen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Interpretatie van de resultate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ahoma"/>
              </a:rPr>
              <a:t>2 categorieën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m- positieve bacterië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am-negatieve bacterië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mkleur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bacteriologie 019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m kleur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am positieve cocc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Gram positief"/>
          <p:cNvPicPr/>
          <p:nvPr/>
        </p:nvPicPr>
        <p:blipFill>
          <a:blip r:embed="rId1"/>
          <a:stretch/>
        </p:blipFill>
        <p:spPr>
          <a:xfrm>
            <a:off x="3059280" y="2597040"/>
            <a:ext cx="3960720" cy="326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ram kleur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Gram negatieve sta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Gram negatief"/>
          <p:cNvPicPr/>
          <p:nvPr/>
        </p:nvPicPr>
        <p:blipFill>
          <a:blip r:embed="rId1"/>
          <a:stretch/>
        </p:blipFill>
        <p:spPr>
          <a:xfrm>
            <a:off x="3059280" y="2627280"/>
            <a:ext cx="381780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ACTERIOLOGISCH ONDERZO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 steeds meer DAP’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vice aan klant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ijdwin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mzet stij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Interpretatie van de resultat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verheersende groei of rein cultuu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ngcultuur van 2 bacterië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ngcultuur van meer dan 2 bacterië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 van slechts enkele kolon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-2844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Negatieve uitsla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Overheersende groei of reincultu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athogenen bij mastit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.aur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Streptokok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E.co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(Pseudomon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(Gist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76200" y="32511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Mengcultuur van 2 (mogelijk) pathogene kieme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unnen beide van belang zijn: verder onderzoek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Mengcultuur van meer dan 2 bacterië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Waarschijnlijk verontreiniging: nieuw monster ne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Als één ervan S.aureus is: van bela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ijken naar klinische sympto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Groei van slechts enkele koloni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Interpretatie relateren aan klinische symptomen en eventueel antibioticum gebrui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ahoma"/>
              </a:rPr>
              <a:t>Negatieve uitslage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Eigen afweer d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Wisselend uitscheiden van bacterië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Antibiotica behande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Verwekkers groeien niet op de gebruikte standaard pla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Gevoeligheidsbepal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Ook wel: antibiogr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roei: niet gevoelig voor antibiotic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een groei= remming: gevoelig voor antibiotic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te van remming bepaalt eerste ke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as op: in vitro bepaling!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ntibiogram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 rot="10800000">
            <a:off x="5724360" y="6308640"/>
            <a:ext cx="27720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antibiogram1"/>
          <p:cNvPicPr/>
          <p:nvPr/>
        </p:nvPicPr>
        <p:blipFill>
          <a:blip r:embed="rId1"/>
          <a:stretch/>
        </p:blipFill>
        <p:spPr>
          <a:xfrm>
            <a:off x="755640" y="2235240"/>
            <a:ext cx="3672000" cy="36050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foto-antibiogram"/>
          <p:cNvPicPr/>
          <p:nvPr/>
        </p:nvPicPr>
        <p:blipFill>
          <a:blip r:embed="rId2"/>
          <a:stretch/>
        </p:blipFill>
        <p:spPr>
          <a:xfrm>
            <a:off x="4648320" y="2247840"/>
            <a:ext cx="38098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n nu: zelf aan de sla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6" descr="laborant2"/>
          <p:cNvPicPr/>
          <p:nvPr/>
        </p:nvPicPr>
        <p:blipFill>
          <a:blip r:embed="rId1"/>
          <a:stretch/>
        </p:blipFill>
        <p:spPr>
          <a:xfrm>
            <a:off x="2967120" y="1628640"/>
            <a:ext cx="326052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18920" y="1052640"/>
            <a:ext cx="6838920" cy="98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Wat wordt onderzoch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elk: 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mastitismons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Vaginaals swabs: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loopse tev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Baarmoederslijm: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paar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Wat hebben we nodig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Goed ingericht laboratoriu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Juiste material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Reagent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aboratoriu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Laboratorium01"/>
          <p:cNvPicPr/>
          <p:nvPr/>
        </p:nvPicPr>
        <p:blipFill>
          <a:blip r:embed="rId1"/>
          <a:stretch/>
        </p:blipFill>
        <p:spPr>
          <a:xfrm>
            <a:off x="179280" y="2116080"/>
            <a:ext cx="4316400" cy="3900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laborant%20250%20pix"/>
          <p:cNvPicPr/>
          <p:nvPr/>
        </p:nvPicPr>
        <p:blipFill>
          <a:blip r:embed="rId2"/>
          <a:stretch/>
        </p:blipFill>
        <p:spPr>
          <a:xfrm>
            <a:off x="4648320" y="2122560"/>
            <a:ext cx="4171680" cy="38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ingsbodem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bacteriologie 017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ingsbodems ente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Tijdelijke aanduiding voor inhoud 3" descr="bact_002.jpg"/>
          <p:cNvPicPr/>
          <p:nvPr/>
        </p:nvPicPr>
        <p:blipFill>
          <a:blip r:embed="rId1"/>
          <a:stretch/>
        </p:blipFill>
        <p:spPr>
          <a:xfrm>
            <a:off x="2643120" y="1919160"/>
            <a:ext cx="44164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oedingsbodems na bebroed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180px-MacConkey_agar_with_LF_and_LF_colonies"/>
          <p:cNvPicPr/>
          <p:nvPr/>
        </p:nvPicPr>
        <p:blipFill>
          <a:blip r:embed="rId1"/>
          <a:stretch/>
        </p:blipFill>
        <p:spPr>
          <a:xfrm>
            <a:off x="1447920" y="2822400"/>
            <a:ext cx="2763720" cy="207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300px-Agarplate_redbloodcells_edit"/>
          <p:cNvPicPr/>
          <p:nvPr/>
        </p:nvPicPr>
        <p:blipFill>
          <a:blip r:embed="rId2"/>
          <a:stretch/>
        </p:blipFill>
        <p:spPr>
          <a:xfrm>
            <a:off x="4643280" y="2828880"/>
            <a:ext cx="328140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Ös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bacteriologie 031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bacteriologie 032"/>
          <p:cNvPicPr/>
          <p:nvPr/>
        </p:nvPicPr>
        <p:blipFill>
          <a:blip r:embed="rId2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12:43:33Z</dcterms:created>
  <dc:creator>De Lange</dc:creator>
  <dc:description/>
  <dc:language>en-US</dc:language>
  <cp:lastModifiedBy>Trix Tack</cp:lastModifiedBy>
  <cp:lastPrinted>2005-05-24T09:08:19Z</cp:lastPrinted>
  <dcterms:modified xsi:type="dcterms:W3CDTF">2010-01-11T21:02:53Z</dcterms:modified>
  <cp:revision>39</cp:revision>
  <dc:subject/>
  <dc:title>Dia 1</dc:title>
</cp:coreProperties>
</file>