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50E5F-3BE9-45AB-B8BE-3551BDDF02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C22F3-1287-4584-8E81-2E2B76E6FB5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7B409-E7F4-47B4-AA50-A776A744FE4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us ook bij teven waarbij een eigenaar nooit wormen ziet, is ontwormen heel erg belangrijk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PV de bek van het varken/ hond/ kat kun je ook de mond van een mens zetten: idem trektocht door mensenlichaam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974BC-5500-4C57-8B3E-5B10801EDB5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17BB7-3EFC-45C7-BC97-42F5918655F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twormbesmetting hond: ook altijd een vlooienmiddel meegeven naast een wormkuur, anders zijn ze een dag later al weer besme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achtdieren kunnen ook tussengastheer zijn van bepaalde lintwormsoorten: daaarom geen slachtafval voeren aan hond/ k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chinococcus granulosus, komt veel voor in NL. Tussengastheer muis, rat, m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chinococcus multilocularis = vossenlintworm: tussengastheer o.a. de mens!!!!! Grote blazen in lever, kan verward worden met leverkanker. Als inhoud van blazen vrijkomt in lichaam mens: dodelijke sh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dere soorten lintworm: op de plek van de vlo vul je koe/ schaap/ varken/ muis/ rat/ me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25C92-6563-4BF0-8FC6-68FBB7D399F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ektocht door lever duurt wel 7 weken, daarna nog een aantal weken voor volwassen worden. Dus pas ei uitscheiding na ongeveer 11 weke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34DFA-EE12-4160-9077-E91633B0C2D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7A95F-0642-4BA1-AC87-7BDB8F9D8DB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B: als er macroscopisch al een wormbesmetting te zien is, zitten de patientjes overvol met wormen!!!!!!! Bij een lichte besmetting heb je echt faeces onderzoek nodig om de diagnose te stel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eel veel eigenaren redeneren: ik kijk altijd de ontlasting na, ik zie nooit wormen, DUS mijn hond heeft geen wormen. Dit is niet tere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EE547-E564-49E3-B28A-89E9D0BE690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leen volwassen wormen leggen eitjes. Dus als er alleen nog larvale stadia in het dier zitten, zul je ondanks een zware besmetting geen eieren aan kunnen to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s leggen heel weinig wormen heel veel eitj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s leggen heel veel wormen maar heel weinig eitjes, zodat het ontlastingsonderzoek negatief verloo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22A51-5388-40E0-9411-9E6DC144284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meeste wormen zijn niet parasitair. In “het wild” zijn er heel veel vrijlevende soorten. Als ontlasting van de grond opgeraapt is, kun je dan eieren van deze vrijlevende soorten vin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aarom moet ontlasting voor onderzoek op parasieten altijd plaatsvinden op zeer verse, liefst rectaal genomen poepmonsters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77B-9DA0-461D-9B0E-2513C1C6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17C-F4D2-4C99-9F4A-8DBE0DB8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8AA-A4D0-49AA-AF55-1BF88F9F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E00-6D5D-4ADA-B808-0A631DCE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10BE-015B-43C2-8F12-8FF3CF4A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9ED8-AE04-4A0A-8796-E6C3F157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BBA2-A70D-42CB-8439-BF03EC1E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5C2B-218F-4F7E-9709-88D51D0F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33AB-8FD3-4939-92F9-D67AB535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96AC-9A80-45DF-8489-48F5EBAC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B21B-5D28-4400-9C12-E8D468B8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A2B-12ED-47EF-B22D-614FDDF6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0F2F-7154-4157-A0D5-9CE07B07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AC7D-51C4-450D-828E-EDD4F0B4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2323-A48A-4B0B-84F4-39C95843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62B1-9CDC-43E1-BF12-6998999B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5791-99D0-4420-81B0-F66861A0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AB8F3-186D-42AB-988B-73067DC2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13CCC-EAE6-4F60-AE42-CFFB4EEC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A940D-0681-4DF5-A9C5-EB3AAB49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9ED50-E836-4C87-A249-875FB05F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BE920-826B-4307-9DB9-8843F12B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76A-9306-422B-95AF-F164B976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5C55E-2190-4006-85C4-655AE5BB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3F16B-964B-4028-9095-E5B3623A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47EE-F47A-4B67-B7EF-73D84FA5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42726-0B3A-442A-864A-94AC2B59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1B38-65FC-4ADF-A6E6-1BFDC84B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AE759-2C91-4E68-A564-2EEC7E2C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9A989-24EF-4491-8496-2DEE9222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32005-AEA4-4331-BA79-420C1A1F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0CF07-6FA2-4598-BAB9-C218CA99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B1AF-EBB6-4D2F-B9A3-3E057809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EDF-99D0-4CE1-8BA2-19B27EE0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A1F26-A438-4C08-9379-C10066E8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C074B-E293-47BA-804C-5569D0AD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EE0C0-4CA0-431E-8D63-B4151F31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44763-9773-47F1-96C1-068AC5AE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42EC9-8FC1-47BF-91BF-CF731619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803CD-9E3C-4CBF-B14C-518E6567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ADC90-A05C-4727-BE59-627674FD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A444C-ABFD-405A-A3DF-0524EF9C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EDB77-7016-46DA-94FD-E91B1DD9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A60-F0E2-4B99-9D13-BFDD726E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54F-A9D7-4E2D-ABFD-DBD26DBE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751-DEC9-4850-8790-11AA6616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FE2-1281-4CF7-AF1A-322BDD4D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6A7-E23C-4D0E-8043-C3135829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44D66-4C29-4D7D-862A-4CB432414F3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40EFA-F0A9-4C99-9237-604AB156C377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5FA1A-F3E5-4480-B37B-3A85D0FD3E2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C34B3-9C64-4088-A717-BAF9BE172003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outube.com/watch?v=6FsiZJjSRuA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ddiergezondheid.nl/diergezondheid/dierziekten/diagnose-van-leverbot-schapen-en-geiten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71280" y="1449000"/>
            <a:ext cx="58258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Worme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  <a:ea typeface="ＭＳ Ｐゴシック"/>
            </a:endParaRPr>
          </a:p>
        </p:txBody>
      </p:sp>
      <p:pic>
        <p:nvPicPr>
          <p:cNvPr id="221" name="Afbeelding 5" descr="images.jpg"/>
          <p:cNvPicPr/>
          <p:nvPr/>
        </p:nvPicPr>
        <p:blipFill>
          <a:blip r:embed="rId1"/>
          <a:stretch/>
        </p:blipFill>
        <p:spPr>
          <a:xfrm>
            <a:off x="2700360" y="3645000"/>
            <a:ext cx="337644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spoelworm moederdi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Idem volwassen h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Bronst/ dracht: deel ingekapselde larven wordt “wakker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Migratie naar darm: volwassen: ei uitschei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Migratie naar baarmoeder en melkklieren: besmetting pup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spoelworm: me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Mens (kind) neemt eitje op uit omgev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In darm: larfje komt 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Via darmwand ook trektocht door lichaa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Astmaklachten/ oogklacht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Toxocara = toxisch voor lucht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spoelworm: in bee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3" name="Tijdelijke aanduiding voor inhoud 3" descr="cyclus_spoelworm.jpg"/>
          <p:cNvPicPr/>
          <p:nvPr/>
        </p:nvPicPr>
        <p:blipFill>
          <a:blip r:embed="rId1"/>
          <a:stretch/>
        </p:blipFill>
        <p:spPr>
          <a:xfrm>
            <a:off x="609480" y="2908440"/>
            <a:ext cx="3087720" cy="2385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Trebuchet MS"/>
                <a:ea typeface="ＭＳ Ｐゴシック"/>
                <a:hlinkClick r:id="rId2"/>
              </a:rPr>
              <a:t>wormen bij hond en k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lintwormen: Dipylidium 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Ei in omgev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Eitje wordt opgegeten door tussengasthe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Tussengasth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Dipylidium caninum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: </a:t>
            </a:r>
            <a:r>
              <a:rPr b="0" lang="nl-NL" sz="1800" spc="-1" strike="noStrike" u="sng">
                <a:solidFill>
                  <a:srgbClr val="ff0000"/>
                </a:solidFill>
                <a:uFillTx/>
                <a:latin typeface="Trebuchet MS"/>
                <a:ea typeface="ＭＳ Ｐゴシック"/>
              </a:rPr>
              <a:t>vl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Taenia (div. soorten):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herkauwers, ongedier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Echinococcus: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 slachtdieren, ongedierte, </a:t>
            </a:r>
            <a:r>
              <a:rPr b="0" lang="nl-NL" sz="1800" spc="-1" strike="noStrike" u="sng">
                <a:solidFill>
                  <a:srgbClr val="ff0000"/>
                </a:solidFill>
                <a:uFillTx/>
                <a:latin typeface="Trebuchet MS"/>
                <a:ea typeface="ＭＳ Ｐゴシック"/>
              </a:rPr>
              <a:t>me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Lintwormen paard, rund, schaap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: grasmijtj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lintwormen  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In tussengastheer: blaaswormvorm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Eindgastheer eet tussengastheer (incl blaasworm) o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Darm eindgastheer: blaasworm wordt volwassen lintwo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Kop lintworm zit vast, rest is rijpende eierdoosj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Laatste stukjes met rijpe eitjes breken a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In ontlasting: lintwormstukjes barstensvol eitj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716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lintwormen (Dipylidium): in bee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3" name="Tijdelijke aanduiding voor inhoud 3" descr="worm_hond2.png"/>
          <p:cNvPicPr/>
          <p:nvPr/>
        </p:nvPicPr>
        <p:blipFill>
          <a:blip r:embed="rId1"/>
          <a:stretch/>
        </p:blipFill>
        <p:spPr>
          <a:xfrm>
            <a:off x="609480" y="2355840"/>
            <a:ext cx="63486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leverbo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Opname besmette s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Door darmwand, via peritone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Naar le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Dwars door leverweef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Naar galgangen, worden daar volwas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Eitjes via gal naar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Naar ont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Uitspoeling uit faeces en binnendringen in slakj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3600" spc="-1" strike="noStrike">
              <a:solidFill>
                <a:srgbClr val="90c226"/>
              </a:solidFill>
              <a:latin typeface="Trebuchet MS"/>
              <a:ea typeface="ＭＳ Ｐゴシック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Afbeelding 5" descr="afb1.gif"/>
          <p:cNvPicPr/>
          <p:nvPr/>
        </p:nvPicPr>
        <p:blipFill>
          <a:blip r:embed="rId1"/>
          <a:stretch/>
        </p:blipFill>
        <p:spPr>
          <a:xfrm>
            <a:off x="1643040" y="0"/>
            <a:ext cx="576252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Leverbo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Trebuchet MS"/>
                <a:ea typeface="ＭＳ Ｐゴシック"/>
                <a:hlinkClick r:id="rId1"/>
              </a:rPr>
              <a:t>http://www.gddiergezondheid.nl/diergezondheid/dierziekten/diagnose-van-leverbot-schapen-en-geit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Quiz 1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Noem de drie hoofdsoorten wor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Rondwormen (nematoden) bv spoelworm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Platwormen/ Lintwormen (cestoden) bv lintworm hon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Zuigwormen (trematoden) bv leverbo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kstvak 1"/>
          <p:cNvSpPr/>
          <p:nvPr/>
        </p:nvSpPr>
        <p:spPr>
          <a:xfrm>
            <a:off x="324000" y="1773360"/>
            <a:ext cx="714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site met informatie over paarden ontwormen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s://www.paardenarts.nl/kennisbank/wormen-en-ontworming-bij-paarden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Titel 1"/>
          <p:cNvSpPr/>
          <p:nvPr/>
        </p:nvSpPr>
        <p:spPr>
          <a:xfrm>
            <a:off x="609480" y="609480"/>
            <a:ext cx="6348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Paard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Quiz 2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Welke schade veroorzaken wormen? Noem 3 verschijns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Groeivertraging/ vermager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Diarre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Bloedarmoed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Dorre vacht/ woluitva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Brak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Hoest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Jeuk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Verstopping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Quiz 3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Diagnose van worm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Macroscopie: (delen) van wormen zichtbaar in braaksel en/ of ontlasting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Microscopie: wormeieren of wormlarven zichtbaar in excreta (meestal ontlasting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Bloedonderzoek (paard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Quiz 4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Stelling: bij een worminfectie vind je eieren in de ontlasting. Deze stelling i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W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Niet w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Soms w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Goede antwoord: c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Quiz 5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Als een dier geen wormbesmetting heeft, vind je wormeieren in de ontlasting. Deze stelling i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W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Niet w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Soms w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Goede antwoord: c: </a:t>
            </a:r>
            <a:r>
              <a:rPr b="1" lang="nl-NL" sz="1800" spc="-1" strike="noStrike" u="sng">
                <a:solidFill>
                  <a:srgbClr val="ff0000"/>
                </a:solidFill>
                <a:uFillTx/>
                <a:latin typeface="Trebuchet MS"/>
                <a:ea typeface="ＭＳ Ｐゴシック"/>
              </a:rPr>
              <a:t>Belang monsternametechniek!!!!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Quiz 6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Groep anisakis: beschrijf de cyclus van de spoelwo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Groep ascaris: beschrijf de cyclus van de lintwo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Groep enterobius: beschrijf de cyclus van de leverb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Max. 10 minuten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spoelworm: pup/ kit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Ei uit omgeving in mon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Eitje komt uit in darm pup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Larve gaat door darmwand naar leve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Lever-bloed-longen (HOESTEN!!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Longen-luchtpijp-hoest-mon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Mond-keel-slokdarm-MD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Larve wordt volwassen in MDK en gaat eitjes leg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Eitjes via ontlasting weer in omgev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spoelworm volwassen dieren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Tot longen: idem pu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Longaders- linkerkant hart- orga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Inkapseling in organen: larven in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8:41:46Z</dcterms:created>
  <dc:creator>default</dc:creator>
  <dc:description/>
  <dc:language>en-US</dc:language>
  <cp:lastModifiedBy>Stefanie van Hoogdalem</cp:lastModifiedBy>
  <dcterms:modified xsi:type="dcterms:W3CDTF">2018-10-17T13:22:22Z</dcterms:modified>
  <cp:revision>42</cp:revision>
  <dc:subject/>
  <dc:title>Dia 1</dc:title>
</cp:coreProperties>
</file>