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62FB-3EFD-4E20-A665-254BF21F5D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Regelmatig aangetroff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ormaal 4 ery’s per beeldv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hoogd bij: loopse teef, blaaspunctie, ontsteking, trauma, tumor, obstructie, blaasstenen, stollingsproble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BF4B-1C1F-4A42-9870-A23A580FB9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ormaal 5 leukos per beeldveld (1000x vergro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eveel bij pyurie bijvoorbeeld bij pyome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DFAA-AF9A-4797-BCA1-32440001CB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hoogd aantal bij blaasontsteking en blaassten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0660-CFED-4079-8122-EDFCD0A80C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omen uit laatste deel van urethra. Dit zijn plaveiselcel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DAEC-F440-4123-81CF-D02E8488F7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gietsel van filtersysteem van de n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E3EC-BAFC-4F0B-8634-801ACBEC30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ruviet wordt alleen gevonden in basische uri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H kan stijgen door plantaardig voedsel en bacteriegroei (ontsteking of bacteriën (ook bedorven urine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A8F7-93AC-44FA-AB8C-F1BB3D2F33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omt alleen voor in zure ur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eren hebben met een vleesdieet hebben een lagere pH ur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ok gezonde dieren hebben wel wat oxalaatkristall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el kristallen bij blaasstenen, hypercalcemie en ethyleenglycol vergiftiging uit cv radi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863C-FD51-444B-8390-5ECFCE683F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7C5E-B0F9-4795-9501-D618F6F7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5E25-6BD3-4413-B4B8-4583F348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656-FB5D-4F27-BDC9-9CD807FA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7F3-CC4E-4639-A093-7DDA0BC1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225-0A00-4FD9-956E-C3281E3A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96C9-9513-475E-809B-4E622B0D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C2D-18AC-4D46-9C80-59689905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E84-3783-4046-9BE9-6D3C87B4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8A8-FCF6-4BC9-831E-81A1ABAA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8F7D-93B3-43EE-A8FE-CEA4FBA9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4D77-8D99-4137-82DC-06868492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826-AF5C-41CA-9739-D712C884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D159-A688-4A41-9352-2BB9E51372E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Urine sedi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3"/>
          <p:cNvSpPr/>
          <p:nvPr/>
        </p:nvSpPr>
        <p:spPr>
          <a:xfrm>
            <a:off x="1571760" y="1785960"/>
            <a:ext cx="4572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Erythrocy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Leukocy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Epitheelc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Cyl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Struviet krist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(calcium)Oxalaat krist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fbeelding 1" descr="erys.jpg"/>
          <p:cNvPicPr/>
          <p:nvPr/>
        </p:nvPicPr>
        <p:blipFill>
          <a:blip r:embed="rId1"/>
          <a:stretch/>
        </p:blipFill>
        <p:spPr>
          <a:xfrm>
            <a:off x="857160" y="571680"/>
            <a:ext cx="6643800" cy="4500360"/>
          </a:xfrm>
          <a:prstGeom prst="rect">
            <a:avLst/>
          </a:prstGeom>
          <a:ln w="0">
            <a:noFill/>
          </a:ln>
        </p:spPr>
      </p:pic>
      <p:sp>
        <p:nvSpPr>
          <p:cNvPr id="51" name="Tekstvak 2"/>
          <p:cNvSpPr/>
          <p:nvPr/>
        </p:nvSpPr>
        <p:spPr>
          <a:xfrm>
            <a:off x="1289160" y="578628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Ery’s 400x verg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fbeelding 1" descr="leukocyten.jpg"/>
          <p:cNvPicPr/>
          <p:nvPr/>
        </p:nvPicPr>
        <p:blipFill>
          <a:blip r:embed="rId1"/>
          <a:stretch/>
        </p:blipFill>
        <p:spPr>
          <a:xfrm>
            <a:off x="428760" y="428760"/>
            <a:ext cx="8001000" cy="5357520"/>
          </a:xfrm>
          <a:prstGeom prst="rect">
            <a:avLst/>
          </a:prstGeom>
          <a:ln w="0">
            <a:noFill/>
          </a:ln>
        </p:spPr>
      </p:pic>
      <p:sp>
        <p:nvSpPr>
          <p:cNvPr id="53" name="Tekstvak 2"/>
          <p:cNvSpPr/>
          <p:nvPr/>
        </p:nvSpPr>
        <p:spPr>
          <a:xfrm>
            <a:off x="925920" y="60008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Leuko’s 400x verg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1" descr="overgangsepitheelcellen.jpg"/>
          <p:cNvPicPr/>
          <p:nvPr/>
        </p:nvPicPr>
        <p:blipFill>
          <a:blip r:embed="rId1"/>
          <a:stretch/>
        </p:blipFill>
        <p:spPr>
          <a:xfrm>
            <a:off x="428760" y="357120"/>
            <a:ext cx="8072280" cy="5500800"/>
          </a:xfrm>
          <a:prstGeom prst="rect">
            <a:avLst/>
          </a:prstGeom>
          <a:ln w="0">
            <a:noFill/>
          </a:ln>
        </p:spPr>
      </p:pic>
      <p:sp>
        <p:nvSpPr>
          <p:cNvPr id="55" name="Tekstvak 2"/>
          <p:cNvSpPr/>
          <p:nvPr/>
        </p:nvSpPr>
        <p:spPr>
          <a:xfrm>
            <a:off x="726840" y="592920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Blaas epitheel c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fbeelding 1" descr="squameuze epitheelcellen.jpg"/>
          <p:cNvPicPr/>
          <p:nvPr/>
        </p:nvPicPr>
        <p:blipFill>
          <a:blip r:embed="rId1"/>
          <a:stretch/>
        </p:blipFill>
        <p:spPr>
          <a:xfrm>
            <a:off x="500040" y="642960"/>
            <a:ext cx="8072640" cy="5429160"/>
          </a:xfrm>
          <a:prstGeom prst="rect">
            <a:avLst/>
          </a:prstGeom>
          <a:ln w="0">
            <a:noFill/>
          </a:ln>
        </p:spPr>
      </p:pic>
      <p:sp>
        <p:nvSpPr>
          <p:cNvPr id="57" name="Tekstvak 2"/>
          <p:cNvSpPr/>
          <p:nvPr/>
        </p:nvSpPr>
        <p:spPr>
          <a:xfrm>
            <a:off x="1153440" y="621504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Urethra epitheel c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fbeelding 1" descr="cilinders.jpg"/>
          <p:cNvPicPr/>
          <p:nvPr/>
        </p:nvPicPr>
        <p:blipFill>
          <a:blip r:embed="rId1"/>
          <a:stretch/>
        </p:blipFill>
        <p:spPr>
          <a:xfrm>
            <a:off x="4429080" y="785880"/>
            <a:ext cx="3357720" cy="4643280"/>
          </a:xfrm>
          <a:prstGeom prst="rect">
            <a:avLst/>
          </a:prstGeom>
          <a:ln w="0">
            <a:noFill/>
          </a:ln>
        </p:spPr>
      </p:pic>
      <p:sp>
        <p:nvSpPr>
          <p:cNvPr id="59" name="Tekstvak 2"/>
          <p:cNvSpPr/>
          <p:nvPr/>
        </p:nvSpPr>
        <p:spPr>
          <a:xfrm>
            <a:off x="1004400" y="185724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(korrel)cili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fbeelding 1" descr="cilinders.jpg"/>
          <p:cNvPicPr/>
          <p:nvPr/>
        </p:nvPicPr>
        <p:blipFill>
          <a:blip r:embed="rId1"/>
          <a:stretch/>
        </p:blipFill>
        <p:spPr>
          <a:xfrm>
            <a:off x="1071720" y="785880"/>
            <a:ext cx="328608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Tekstvak 2"/>
          <p:cNvSpPr/>
          <p:nvPr/>
        </p:nvSpPr>
        <p:spPr>
          <a:xfrm>
            <a:off x="5429160" y="17859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Cilinder gezien met speciale microsc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fbeelding 1" descr="struviet.jpg"/>
          <p:cNvPicPr/>
          <p:nvPr/>
        </p:nvPicPr>
        <p:blipFill>
          <a:blip r:embed="rId1"/>
          <a:stretch/>
        </p:blipFill>
        <p:spPr>
          <a:xfrm>
            <a:off x="357120" y="428760"/>
            <a:ext cx="6531120" cy="4500360"/>
          </a:xfrm>
          <a:prstGeom prst="rect">
            <a:avLst/>
          </a:prstGeom>
          <a:ln w="0">
            <a:noFill/>
          </a:ln>
        </p:spPr>
      </p:pic>
      <p:sp>
        <p:nvSpPr>
          <p:cNvPr id="63" name="Tekstvak 2"/>
          <p:cNvSpPr/>
          <p:nvPr/>
        </p:nvSpPr>
        <p:spPr>
          <a:xfrm>
            <a:off x="3226320" y="5429160"/>
            <a:ext cx="24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Struviet kristallen  pH&gt;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doodskistj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fbeelding 1" descr="calcium oxalaat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Tekstvak 2"/>
          <p:cNvSpPr/>
          <p:nvPr/>
        </p:nvSpPr>
        <p:spPr>
          <a:xfrm>
            <a:off x="1353240" y="4929120"/>
            <a:ext cx="55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Deze kristallen worden alleen gevormd in urine met pH&lt;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20:00:56Z</dcterms:created>
  <dc:creator>Hessel</dc:creator>
  <dc:description/>
  <dc:language>en-US</dc:language>
  <cp:lastModifiedBy>Administrator</cp:lastModifiedBy>
  <dcterms:modified xsi:type="dcterms:W3CDTF">2013-10-06T08:43:33Z</dcterms:modified>
  <cp:revision>8</cp:revision>
  <dc:subject/>
  <dc:title>Fotoalbum</dc:title>
</cp:coreProperties>
</file>