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5440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81B-4579-4930-A98F-268BAD7D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DB9-7686-4944-B9D9-65939E6C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E85-801B-4E0D-A6F0-0C40F2BA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822-FCA1-4D7E-8F9A-E1CEED37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29E-5A3B-4056-8C68-E327AFDA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FDD-BAA6-4F6B-A2BC-34950963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8B9-55D8-494D-9C68-1CB57254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E5A-B1DB-42CA-AE14-702C1138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B68-6B35-431E-87BF-A16E722A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860-9506-4656-B886-674A8F09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764-ABB7-4217-9169-0D146398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52F-9C86-421B-AEBD-2C3471E1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F363-B2B8-4F02-872A-8E2B378D71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4360" y="2133720"/>
            <a:ext cx="79581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LABORATORIUM-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WERKZAAMHEDEN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278f01"/>
                </a:solidFill>
                <a:latin typeface="Tahoma"/>
              </a:rPr>
              <a:t>BACTERIOLOGIS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278f01"/>
                </a:solidFill>
                <a:latin typeface="Tahoma"/>
              </a:rPr>
              <a:t>ONDERZOEK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Hoe gaan we te we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ënten van de voedingsbodem en bebroe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oordeling van de directe kweek en maken reink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Identificatie van de bacterië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Interpretatie van de result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voeligheidsbepa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Beënten van de voedingsbodem en bebroe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t een öse wordt plaat geë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t wordt in 3 stappen ged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el : losliggende kolonies creë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broeden bij 3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° ged. 2x 24 u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derstebov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Gefractioneerd uitstrijk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" descr="bacteriologie 009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Beoordeling van de directe kweek en maken reinkwee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jn er losliggende kolon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incultuur of mengcult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en alle losliggende kolonies er hetzelfde u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Identificatie van de bacterië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Waar kijken we na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ei: type bodem: SBA, MacConkey, Ed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lonievorm: grootte, vorm, kleur, haemoly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xtra testen: katalase, Gram kleuring, Indol,en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Types voedingsbod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erum agar: niet select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apenbloedagar (SBA): niet selectief, evt. haemoly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acConkey: groeien alleen Gram negatieve bacteriën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dwards: groeien alleen streptococcen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Interpretatie van de resultat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ahoma"/>
              </a:rPr>
              <a:t>2 categorieën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m- positieve bacterië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m-negatieve bacterië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mkleur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bacteriologie 019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m kleur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am positieve cocc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Gram positief"/>
          <p:cNvPicPr/>
          <p:nvPr/>
        </p:nvPicPr>
        <p:blipFill>
          <a:blip r:embed="rId1"/>
          <a:stretch/>
        </p:blipFill>
        <p:spPr>
          <a:xfrm>
            <a:off x="3059280" y="2597040"/>
            <a:ext cx="39607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m kleur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am negatieve sta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Gram negatief"/>
          <p:cNvPicPr/>
          <p:nvPr/>
        </p:nvPicPr>
        <p:blipFill>
          <a:blip r:embed="rId1"/>
          <a:stretch/>
        </p:blipFill>
        <p:spPr>
          <a:xfrm>
            <a:off x="3059280" y="2627280"/>
            <a:ext cx="381780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OLOGISCH 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steeds meer DAP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aan klan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win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zet stij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Interpretatie van de resultat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verheersende groei of rein cultu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ngcultuur van 2 bacterië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ngcultuur van meer dan 2 bacterië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 van slechts enkele kolon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egatieve uitsla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Overheersende groei of reincultu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athogenen bij mastit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.aur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treptoko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.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(Pseudomon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(Gis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6200" y="3251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Mengcultuur van 2 (mogelijk) pathogene kiem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unnen beide van belang zijn: verder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Mengcultuur van meer dan 2 bacterië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ijnlijk verontreiniging: nieuw monster ne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s één ervan S.aureus is: van bela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ijken naar klinische sympt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Groei van slechts enkele kolon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terpretatie relateren aan klinische symptomen en eventueel antibioticum gebru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Negatieve uitslage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igen afweer d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isselend uitscheiden van bacterië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ibiotica behand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wekkers groeien niet op de gebruikte standaard pl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Gevoeligheidsbepa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ok wel: antibi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: niet gevoelig voor antibiotic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groei= remming: gevoelig voor antibiotic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te van remming bepaalt eerste k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as op: in vitro bepaling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ibiogr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 rot="10800000">
            <a:off x="5724360" y="6308640"/>
            <a:ext cx="27720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antibiogram1"/>
          <p:cNvPicPr/>
          <p:nvPr/>
        </p:nvPicPr>
        <p:blipFill>
          <a:blip r:embed="rId1"/>
          <a:stretch/>
        </p:blipFill>
        <p:spPr>
          <a:xfrm>
            <a:off x="755640" y="2235240"/>
            <a:ext cx="3672000" cy="3605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foto-antibiogram"/>
          <p:cNvPicPr/>
          <p:nvPr/>
        </p:nvPicPr>
        <p:blipFill>
          <a:blip r:embed="rId2"/>
          <a:stretch/>
        </p:blipFill>
        <p:spPr>
          <a:xfrm>
            <a:off x="4648320" y="2247840"/>
            <a:ext cx="3809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n nu: zelf aan de sla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laborant2"/>
          <p:cNvPicPr/>
          <p:nvPr/>
        </p:nvPicPr>
        <p:blipFill>
          <a:blip r:embed="rId1"/>
          <a:stretch/>
        </p:blipFill>
        <p:spPr>
          <a:xfrm>
            <a:off x="2967120" y="1628640"/>
            <a:ext cx="32605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Wat wordt onderzoc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lk: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stitismon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aginaals swabs: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oopse te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armoederslijm: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aar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Wat hebben we nodig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oed ingericht laborato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Juiste materi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agent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aboratori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Laboratorium01"/>
          <p:cNvPicPr/>
          <p:nvPr/>
        </p:nvPicPr>
        <p:blipFill>
          <a:blip r:embed="rId1"/>
          <a:stretch/>
        </p:blipFill>
        <p:spPr>
          <a:xfrm>
            <a:off x="179280" y="2116080"/>
            <a:ext cx="4316400" cy="3900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laborant%20250%20pix"/>
          <p:cNvPicPr/>
          <p:nvPr/>
        </p:nvPicPr>
        <p:blipFill>
          <a:blip r:embed="rId2"/>
          <a:stretch/>
        </p:blipFill>
        <p:spPr>
          <a:xfrm>
            <a:off x="4648320" y="2122560"/>
            <a:ext cx="417168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ingsbod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bacteriologie 017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ingsbodems ent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ijdelijke aanduiding voor inhoud 3" descr="bact_002.jpg"/>
          <p:cNvPicPr/>
          <p:nvPr/>
        </p:nvPicPr>
        <p:blipFill>
          <a:blip r:embed="rId1"/>
          <a:stretch/>
        </p:blipFill>
        <p:spPr>
          <a:xfrm>
            <a:off x="2643120" y="1919160"/>
            <a:ext cx="4416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ingsbodems na bebro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180px-MacConkey_agar_with_LF_and_LF_colonies"/>
          <p:cNvPicPr/>
          <p:nvPr/>
        </p:nvPicPr>
        <p:blipFill>
          <a:blip r:embed="rId1"/>
          <a:stretch/>
        </p:blipFill>
        <p:spPr>
          <a:xfrm>
            <a:off x="1447920" y="2822400"/>
            <a:ext cx="2763720" cy="207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300px-Agarplate_redbloodcells_edit"/>
          <p:cNvPicPr/>
          <p:nvPr/>
        </p:nvPicPr>
        <p:blipFill>
          <a:blip r:embed="rId2"/>
          <a:stretch/>
        </p:blipFill>
        <p:spPr>
          <a:xfrm>
            <a:off x="4643280" y="2828880"/>
            <a:ext cx="328140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Ö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bacteriologie 031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bacteriologie 032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43:33Z</dcterms:created>
  <dc:creator>De Lange</dc:creator>
  <dc:description/>
  <dc:language>en-US</dc:language>
  <cp:lastModifiedBy>Trix Tack</cp:lastModifiedBy>
  <cp:lastPrinted>2005-05-24T09:08:19Z</cp:lastPrinted>
  <dcterms:modified xsi:type="dcterms:W3CDTF">2010-01-11T21:02:53Z</dcterms:modified>
  <cp:revision>39</cp:revision>
  <dc:subject/>
  <dc:title>Dia 1</dc:title>
</cp:coreProperties>
</file>