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1B1-52EF-4D14-A4F6-D829F63F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8CB-7A10-4C1B-8575-8FAFD00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4DE-334E-433E-8125-D1B6730D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415-74B9-41BA-9887-6D24D027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AE6-A5EC-42EB-8E2E-51CD6688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297-119A-47DB-AB6F-60E718F8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743-CA13-47DC-911F-1E358D16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38E-E12F-4A8C-8D30-C14EB4CB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83C-8CC5-4110-921A-B68330F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FD8-42A1-4ECD-9FEC-FAD4A75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DCD-EA4C-40A4-A1F4-CE9B603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BD4-3DCC-4C65-A1EF-8F6783D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38D-6D25-4687-9F96-E64F23642497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75A-E4F0-453A-87E0-FBA22B5F368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ag.nl/wp-content/uploads/2009/03/koorts-geiten-overijssel.jpg&amp;imgrefurl=http://www.dag.nl/binnenland/koorts-duikt-overijssel-237444&amp;usg=__cfAwiKIsYoQxqUymG3AwFfyRMUs=&amp;h=293&amp;w=500&amp;sz=24&amp;hl=nl&amp;start=7&amp;um=1&amp;tbnid=ObXW8RoAPb3J-M:&amp;tbnh=76&amp;tbnw=130&amp;prev=/images%3Fq%3Dq%2Bkoorts%26hl%3Dnl%26sa%3DN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itenbedrijven worden via de tankmelk getest op Qko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an getest worden op antigeen: de Qkoorts bacterie (Coxiella Burnet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an getest worden op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offen tgv besmetting met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slot kan de individuele geit getest worden met vaginaal sw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830F-FD98-4207-85CD-CB185157104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Afbeelding 3" descr="q-koorts_748920b.jpg"/>
          <p:cNvPicPr/>
          <p:nvPr/>
        </p:nvPicPr>
        <p:blipFill>
          <a:blip r:embed="rId1"/>
          <a:stretch/>
        </p:blipFill>
        <p:spPr>
          <a:xfrm>
            <a:off x="6227640" y="3213000"/>
            <a:ext cx="2438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tank melk wordt getest op de q koorts bacterie met een PC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CR is een test die weinig DNA van de bacterie kan vermeerderen en zo ook enkele bacteriën kan aant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PCR test noemen ze vaak de gouden standa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822F-BA40-478C-BE9B-C581971CFE2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ijdelijke aanduiding voor inhoud 4" descr="qkoorts.jpg"/>
          <p:cNvPicPr/>
          <p:nvPr/>
        </p:nvPicPr>
        <p:blipFill>
          <a:blip r:embed="rId1"/>
          <a:stretch/>
        </p:blipFill>
        <p:spPr>
          <a:xfrm>
            <a:off x="5076720" y="4797360"/>
            <a:ext cx="32162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lle geiten geven me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arom wordt er ook bloed onderz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het serum wordt met een ELISA antistoffen tegen CB aangeto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“afdruk” van de bacterie en kan makkelijk nog 2 jaar positief bl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ok kan een geit nog maar n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 zijn met CB en nog g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stoffen gemaakt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BC89-5BB3-42E4-A1B2-B40F2238C93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koorts-geiten-overijss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24280"/>
            <a:ext cx="23036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wab van de vagina wordt ook met PCR ge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eren besmet met CB schei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steeds uit via de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elfs niet alle seropositieve dieren (met antistoffen =antilichamen tegen CB) scheiden CB via de vagina uit, maar vele juist w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stoffen beschermen niet tegen uitscheiding CB wel tegen abor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A7E3-D7FF-4133-9FBE-DA6B810DC7E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verburg-bekritiseert-rivm-koorts"/>
          <p:cNvPicPr/>
          <p:nvPr/>
        </p:nvPicPr>
        <p:blipFill>
          <a:blip r:embed="rId1"/>
          <a:stretch/>
        </p:blipFill>
        <p:spPr>
          <a:xfrm>
            <a:off x="6443640" y="2205000"/>
            <a:ext cx="18716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Test kan vals positief (vals alarm)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ls negatief z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PCR (in melk) is meest betrouwbaar en wordt daarmee de gouden standaard genoe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etrouwbaarheid van een tes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ordt uitgedrukt m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ensitiviteit: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gevoelighe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ecificiteit: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e specifiek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uidt de test de bacterie 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78EC-0479-43ED-BF21-43C59271049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qkoorts_geiten_1024779b"/>
          <p:cNvPicPr/>
          <p:nvPr/>
        </p:nvPicPr>
        <p:blipFill>
          <a:blip r:embed="rId1"/>
          <a:stretch/>
        </p:blipFill>
        <p:spPr>
          <a:xfrm>
            <a:off x="5867280" y="3645000"/>
            <a:ext cx="3025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betrouwbare test heeft 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 reproduceerbaarhei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test geeft hetzelfde resultaat als twee onafhankelijke testen die op hetzelfde monster gedaan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evalentie (voorkomen) van een ziekte kiem bepaalt of een bepaalde test in praktijksituaties gebruikt kan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5C9-863B-40FF-B637-3EC49B2E99C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Q-Koorts? Geiten? Gelukkig!"/>
          <p:cNvPicPr/>
          <p:nvPr/>
        </p:nvPicPr>
        <p:blipFill>
          <a:blip r:embed="rId1"/>
          <a:stretch/>
        </p:blipFill>
        <p:spPr>
          <a:xfrm>
            <a:off x="6372360" y="1125360"/>
            <a:ext cx="251460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drijven zijn via de tankmelk gescre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is uitgezocht dat een positieve tankmelk een betrouwbare indicatie is voor de aanwezigheid van CB op het bedrij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B komt vrij bij het aflammeren van de (besmette ge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 grote bedrijven kunnen z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rote aantallen CB kiemen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trooisel k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BC40-76AE-425A-B7E5-24E4BE071BA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917504963_1999999635_1_440x293"/>
          <p:cNvPicPr/>
          <p:nvPr/>
        </p:nvPicPr>
        <p:blipFill>
          <a:blip r:embed="rId1"/>
          <a:stretch/>
        </p:blipFill>
        <p:spPr>
          <a:xfrm>
            <a:off x="5219640" y="4005360"/>
            <a:ext cx="36147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ijd ontbreekt om alle dieren te testen op C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en moeten ook meerdere keren getest worden om vals negatieven uit te slu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n is de bacterie al weer in het milieu terecht gek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m uitscheiding van de bacterie in het milieu te voorkomen moesten ook gezonde drachtige geiten op grote bedrijven geruimd wo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A105-AFC3-44B6-BA96-6F9E784EE4E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Qkoorts??"/>
          <p:cNvPicPr/>
          <p:nvPr/>
        </p:nvPicPr>
        <p:blipFill>
          <a:blip r:embed="rId1"/>
          <a:stretch/>
        </p:blipFill>
        <p:spPr>
          <a:xfrm>
            <a:off x="6084720" y="5013360"/>
            <a:ext cx="28432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20:13:34Z</dcterms:created>
  <dc:creator>Hessel</dc:creator>
  <dc:description/>
  <dc:language>en-US</dc:language>
  <cp:lastModifiedBy>Administrator</cp:lastModifiedBy>
  <dcterms:modified xsi:type="dcterms:W3CDTF">2014-03-24T11:43:56Z</dcterms:modified>
  <cp:revision>8</cp:revision>
  <dc:subject/>
  <dc:title>Q koorts en laboratorium testen</dc:title>
</cp:coreProperties>
</file>