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5840-D790-467A-A7A6-CCE41EF5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802B-F05D-4409-9A23-AE0C6170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E621-9E7B-4D0C-85E9-1A9E695BF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D341-9E9D-45E8-A708-80E7A7E2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954C-4A47-47B3-9733-2B60D3CB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C794-0D3E-436D-AF72-A59C734B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DEFD-AC30-4DD1-B8F4-FA25C233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C316-7D54-418A-9A50-F394782F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B8231-721F-4324-80E0-5D9E6BF1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B19A-D311-47C3-8476-45D6CB7D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BAEE-6F1A-4089-9A23-D08CFC55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117-94DE-44F4-84AA-ADD2BD31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8739-C420-49DF-B389-A4AC26F2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4826E-DF4E-45B1-B284-616C49B6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535C-DF22-4ECC-B22B-276DC51F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18DCC-98B5-493B-8DCA-9883F7A1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4B84-756E-46DD-986F-438B581C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0BB-6B93-4BF9-B95E-6F836647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8DF-30FD-41D4-A51E-DA5E5A4B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24E3-2778-4B43-93E8-8D1004C8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C97-498A-4CAD-ACF6-363BD2B5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9DB-168B-493C-B157-1B30A4E2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7D3-C884-48C0-BB83-B11C4BA5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59F-10F3-491E-8BCD-5BDB5D02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" name="Rectangle 6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6" name="Rectangle 6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142E-CC5D-4634-A289-24585EE8DED2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5" name="AutoShape 5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6" name="AutoShape 57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7" name="AutoShape 58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8" name="AutoShape 59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49" name="AutoShape 61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0" name="Rectangle 62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0309-B0F9-406E-8B05-DFDEF19EE81C}" type="slidenum"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e9"/>
                </a:solidFill>
                <a:latin typeface="Arial"/>
              </a:rPr>
              <a:t>Urine onderzoek bij de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46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1. Waarvoor urine onderzoek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2. Hoe kom ik aan urine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4" name="Picture 4" descr="kat"/>
          <p:cNvPicPr/>
          <p:nvPr/>
        </p:nvPicPr>
        <p:blipFill>
          <a:blip r:embed="rId2"/>
          <a:stretch/>
        </p:blipFill>
        <p:spPr>
          <a:xfrm>
            <a:off x="228600" y="3886200"/>
            <a:ext cx="1577880" cy="2368440"/>
          </a:xfrm>
          <a:prstGeom prst="rect">
            <a:avLst/>
          </a:prstGeom>
          <a:ln w="0">
            <a:noFill/>
          </a:ln>
        </p:spPr>
      </p:pic>
      <p:sp>
        <p:nvSpPr>
          <p:cNvPr id="95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96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C220-5DDF-4C42-83C9-968419C5CD95}" type="slidenum"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33"/>
                </a:solidFill>
                <a:latin typeface="Arial"/>
              </a:rPr>
              <a:t>Urine onderzoek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Urineweginfecti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aasstene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2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Nierproblee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2743200" y="1981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Noodzakelijk bij: 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00" name="Picture 5" descr="kat"/>
          <p:cNvPicPr/>
          <p:nvPr/>
        </p:nvPicPr>
        <p:blipFill>
          <a:blip r:embed="rId4"/>
          <a:stretch/>
        </p:blipFill>
        <p:spPr>
          <a:xfrm>
            <a:off x="6095880" y="2895480"/>
            <a:ext cx="2243160" cy="3365640"/>
          </a:xfrm>
          <a:prstGeom prst="rect">
            <a:avLst/>
          </a:prstGeom>
          <a:ln w="0">
            <a:noFill/>
          </a:ln>
        </p:spPr>
      </p:pic>
      <p:sp>
        <p:nvSpPr>
          <p:cNvPr id="101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02" name="Tijdelijke aanduiding voor dianummer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F6E0-6E50-446C-8596-858F3E0141A3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33"/>
                </a:solidFill>
                <a:latin typeface="Arial"/>
              </a:rPr>
              <a:t>Urine onderzoek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153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Soortelijk gewicht/Zuurgraad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Aanwezigheid bacteriën/witte bloedcelle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Kristallen/sediment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oed/bloedkleurstof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Eiwitten in de urine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Suiker in de urine?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Text Box 1028"/>
          <p:cNvSpPr/>
          <p:nvPr/>
        </p:nvSpPr>
        <p:spPr>
          <a:xfrm>
            <a:off x="2743200" y="1981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Wat wil je weten?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06" name="Picture 1029" descr="kat"/>
          <p:cNvPicPr/>
          <p:nvPr/>
        </p:nvPicPr>
        <p:blipFill>
          <a:blip r:embed="rId7"/>
          <a:stretch/>
        </p:blipFill>
        <p:spPr>
          <a:xfrm>
            <a:off x="5715000" y="3809880"/>
            <a:ext cx="1781280" cy="2673360"/>
          </a:xfrm>
          <a:prstGeom prst="rect">
            <a:avLst/>
          </a:prstGeom>
          <a:ln w="0">
            <a:noFill/>
          </a:ln>
        </p:spPr>
      </p:pic>
      <p:sp>
        <p:nvSpPr>
          <p:cNvPr id="107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08" name="Tijdelijke aanduiding voor dianummer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9DC7-FCEB-45C7-8A1A-5F48AE3A76A1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33"/>
                </a:solidFill>
                <a:latin typeface="Arial"/>
              </a:rPr>
              <a:t>Urine onderzoek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Catheterisati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Leegknijpen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Vrijwillige micti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aaspuncti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743200" y="19810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2. Hoe kom ik aan urine?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12" name="Picture 6" descr="kat"/>
          <p:cNvPicPr/>
          <p:nvPr/>
        </p:nvPicPr>
        <p:blipFill>
          <a:blip r:embed="rId5"/>
          <a:stretch/>
        </p:blipFill>
        <p:spPr>
          <a:xfrm>
            <a:off x="5638680" y="3048120"/>
            <a:ext cx="2243160" cy="3365280"/>
          </a:xfrm>
          <a:prstGeom prst="rect">
            <a:avLst/>
          </a:prstGeom>
          <a:ln w="0">
            <a:noFill/>
          </a:ln>
        </p:spPr>
      </p:pic>
      <p:sp>
        <p:nvSpPr>
          <p:cNvPr id="113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14" name="Tijdelijke aanduiding voor dianummer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409F-8A2C-461C-A270-CCCF96DF619A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33"/>
                </a:solidFill>
                <a:latin typeface="Arial"/>
              </a:rPr>
              <a:t>Urine onderzoek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61960" y="3809520"/>
            <a:ext cx="6019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743200" y="1981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aaspunctie: 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18" name="Picture 6" descr="blaaspunctie1"/>
          <p:cNvPicPr/>
          <p:nvPr/>
        </p:nvPicPr>
        <p:blipFill>
          <a:blip r:embed="rId1"/>
          <a:stretch/>
        </p:blipFill>
        <p:spPr>
          <a:xfrm>
            <a:off x="1143000" y="2895480"/>
            <a:ext cx="7010280" cy="3376800"/>
          </a:xfrm>
          <a:prstGeom prst="rect">
            <a:avLst/>
          </a:prstGeom>
          <a:ln w="0">
            <a:noFill/>
          </a:ln>
        </p:spPr>
      </p:pic>
      <p:sp>
        <p:nvSpPr>
          <p:cNvPr id="119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20" name="Tijdelijke aanduiding voor dianummer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5213-6F5F-4F5D-8727-F8ADF68C5765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33"/>
                </a:solidFill>
                <a:latin typeface="Arial"/>
              </a:rPr>
              <a:t>Urine onderzoek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361960" y="3809520"/>
            <a:ext cx="6019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743200" y="19810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aaspunctie: 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pic>
        <p:nvPicPr>
          <p:cNvPr id="124" name="Picture 6" descr="blaaspunctie2"/>
          <p:cNvPicPr/>
          <p:nvPr/>
        </p:nvPicPr>
        <p:blipFill>
          <a:blip r:embed="rId1"/>
          <a:stretch/>
        </p:blipFill>
        <p:spPr>
          <a:xfrm>
            <a:off x="838080" y="2743200"/>
            <a:ext cx="7153560" cy="3746520"/>
          </a:xfrm>
          <a:prstGeom prst="rect">
            <a:avLst/>
          </a:prstGeom>
          <a:ln w="0">
            <a:noFill/>
          </a:ln>
        </p:spPr>
      </p:pic>
      <p:sp>
        <p:nvSpPr>
          <p:cNvPr id="125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26" name="Tijdelijke aanduiding voor dianummer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3C64-C378-43B0-9E85-F6BDE3880601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333333"/>
                </a:solidFill>
                <a:latin typeface="Arial"/>
              </a:rPr>
              <a:t>Urine onderzoek k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361960" y="3809520"/>
            <a:ext cx="60195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295280" y="198108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aaspunctie: voordelen en nadelen: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914400" y="2743200"/>
            <a:ext cx="7391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85800" y="2819520"/>
            <a:ext cx="5867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143000" y="3124080"/>
            <a:ext cx="685800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geen bacteriën/cellen uit urineweg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makkelijk uit te voeren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bloedcellen erbij 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264c"/>
                </a:solidFill>
                <a:latin typeface="Arial"/>
              </a:rPr>
              <a:t>lekkage/ barsten blaas</a:t>
            </a:r>
            <a:endParaRPr b="0" lang="en-US" sz="32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33" name="Tijdelijke aanduiding voor voettekst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264c"/>
                </a:solidFill>
                <a:latin typeface="Times New Roman"/>
              </a:rPr>
              <a:t>DGW-H</a:t>
            </a:r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  <p:sp>
        <p:nvSpPr>
          <p:cNvPr id="134" name="Tijdelijke aanduiding voor dianummer 2"/>
          <p:cNvSpPr/>
          <p:nvPr/>
        </p:nvSpPr>
        <p:spPr>
          <a:xfrm>
            <a:off x="8217000" y="6248520"/>
            <a:ext cx="53316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F3F4-8E6D-4B69-A192-0EA419623810}" type="slidenum">
              <a:rPr b="0" lang="nl-NL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264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6T20:08:58Z</dcterms:created>
  <dc:creator>H W Hessel</dc:creator>
  <dc:description/>
  <dc:language>en-US</dc:language>
  <cp:lastModifiedBy>Administrator</cp:lastModifiedBy>
  <dcterms:modified xsi:type="dcterms:W3CDTF">2014-02-25T13:46:32Z</dcterms:modified>
  <cp:revision>5</cp:revision>
  <dc:subject/>
  <dc:title>Urine onderzoek bij de kat</dc:title>
</cp:coreProperties>
</file>