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87C-E0DD-4E11-9467-E32AD8EE6E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ytrhocyten kunnen er verschillend uitzien: doornappeltjes: deze zijn al wat vocht uit de cel verlo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ouleau: geldrollen, een stapeltje munten die omgevallen zijn. Dit is meestal paardebl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3 d opname: ery betekend r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ys bevatten in aanleg dus een k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ie je veel restanten van deze kernen dan betekent dat er veel jong bloe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jong bloed betekend dat er mogelijk bloedverlies plaatsgevonden heeft dat nu dus aangevuld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jonge stadia noem je bij witte bloedcellen linksverschuiv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nemie is te zien aan de slijmvlie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ook te horen aan de hartslag: dat moet sneller en krachtiger rondgepompt wo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cellen heeft hematologisch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overige samenstelling heeft chemisch (bloed)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C7D-818C-4779-80CD-4CD0888A104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ijkt door een druppel bloed met een standaard dikte en vergelijkt dat met een kleursch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 is het hb gehalte af te lez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k gedeelte van het bloed wordt uitgemaakt door de er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ijkt niet alleen naar de verhouding, maar ook naar de kleur van het plasma erbov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ks kleur plasma normaal voor de ko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weede een te dikke buffy coat: veel leuko’s: infecti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derde net gegeten, bij paard hyperlipaemie (shetlandpony bij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4</a:t>
            </a:r>
            <a:r>
              <a:rPr b="0" lang="nl-NL" sz="1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hemoly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 dat ht tussen 35 en 40% 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cellen heeft hematologisch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overige samenstelling heeft chemisch (bloed)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609-3B0D-4F11-8D5A-4D2DB3BA931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osine is de rode kleurst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sofielen zijn pa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plaatje van Kim; met d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brinedraden houden de rode bloedcellen in een klont gev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E198-52EF-4BD7-BFBA-1E52C518FA4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kat kan je in de lies  bloed afn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bc’s zijn rode bloed c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utogeen: de oorzaak ligt in het bloed zelf: infecties of vergiftiging of in zeldzame gevallen ook autoimmu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atrogeen: door de arts of de dierenartsassistent veroorzaa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lbloed bevat dus nog iets extras: middel om het onstolbaar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brinogeen is een stof waaruit de stolling ontstaat: fib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E3F-CBEE-45AB-8A75-E755BDC3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0A-906E-4996-8EAF-7F07475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52A-344C-4857-BA1E-FD0B197B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74E-5712-4913-B174-8CFB72AC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445-2D48-4BB5-8124-B43D135D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9D1-57AC-4F42-BB4C-38C18DE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9BC-3063-4C8C-AB8A-2CCD6745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AAF-E07F-4881-B8A1-FB10599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27-BC98-4357-B136-CB5045E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FE6-DD68-4E7A-BC94-9ACD955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292-25AD-4FD4-8626-17E4067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102-9849-4F4D-9536-488D27FA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6C1-ED9D-4A61-A79A-A1CE244ACD9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lasma of seru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Tijdelijke aanduiding voor inhoud 9" descr=""/>
          <p:cNvPicPr/>
          <p:nvPr/>
        </p:nvPicPr>
        <p:blipFill>
          <a:blip r:embed="rId1"/>
          <a:stretch/>
        </p:blipFill>
        <p:spPr>
          <a:xfrm>
            <a:off x="457200" y="2657520"/>
            <a:ext cx="4040280" cy="298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ijdelijke aanduiding voor inhoud 8" descr=""/>
          <p:cNvPicPr/>
          <p:nvPr/>
        </p:nvPicPr>
        <p:blipFill>
          <a:blip r:embed="rId2"/>
          <a:stretch/>
        </p:blipFill>
        <p:spPr>
          <a:xfrm>
            <a:off x="5307120" y="2174760"/>
            <a:ext cx="2717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coagulant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llingsmid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itraa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ezinking, stol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xalaa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nzymbepa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triumfluor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DTA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hematologisch bloedonderzo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parin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epaling electrolyten, hematocri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ing: reactie aangaan met calcium / trombine onwerkzaam ma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blokkeren sto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bu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Users\Petra\Pictures\show_photo.jpg"/>
          <p:cNvPicPr/>
          <p:nvPr/>
        </p:nvPicPr>
        <p:blipFill>
          <a:blip r:embed="rId1"/>
          <a:stretch/>
        </p:blipFill>
        <p:spPr>
          <a:xfrm>
            <a:off x="5214960" y="3500280"/>
            <a:ext cx="3695760" cy="27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Petra\Pictures\27.jpg"/>
          <p:cNvPicPr/>
          <p:nvPr/>
        </p:nvPicPr>
        <p:blipFill>
          <a:blip r:embed="rId2"/>
          <a:stretch/>
        </p:blipFill>
        <p:spPr>
          <a:xfrm>
            <a:off x="571680" y="1500120"/>
            <a:ext cx="5214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e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 verpa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gevens dier + eigen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lledig ingevuld aanvraag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ko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 snel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atologisch 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Onderzoek naar de bloedc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Petra\Pictures\fig4-1_xl.jpg"/>
          <p:cNvPicPr/>
          <p:nvPr/>
        </p:nvPicPr>
        <p:blipFill>
          <a:blip r:embed="rId1"/>
          <a:stretch/>
        </p:blipFill>
        <p:spPr>
          <a:xfrm>
            <a:off x="642960" y="1500120"/>
            <a:ext cx="3571920" cy="237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Petra\Pictures\fig4-2_xl.jpg"/>
          <p:cNvPicPr/>
          <p:nvPr/>
        </p:nvPicPr>
        <p:blipFill>
          <a:blip r:embed="rId2"/>
          <a:stretch/>
        </p:blipFill>
        <p:spPr>
          <a:xfrm>
            <a:off x="4714920" y="1500120"/>
            <a:ext cx="359892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Petra\Pictures\red_cell_sm2.jpg"/>
          <p:cNvPicPr/>
          <p:nvPr/>
        </p:nvPicPr>
        <p:blipFill>
          <a:blip r:embed="rId3"/>
          <a:stretch/>
        </p:blipFill>
        <p:spPr>
          <a:xfrm>
            <a:off x="2857680" y="4071960"/>
            <a:ext cx="3357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ytrocyten bevatten hemoglo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oglobine is een ijzerhoudend eiwit dat zuurstof (O₂) en koolstofdioxide (CO₂) kan bi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ytrocyten zorgen voor het transport van O₂ vanuit de longen richting de weefsels en voor het afvoeren van CO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maak erytrocyten in het beenmerg vanuit stamc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verhoogde aanmaak zijn kernhoudende voorlopers (reticulocyten) in het bloed waar te n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Petra\Pictures\ery_aanmaak.gif"/>
          <p:cNvPicPr/>
          <p:nvPr/>
        </p:nvPicPr>
        <p:blipFill>
          <a:blip r:embed="rId1"/>
          <a:stretch/>
        </p:blipFill>
        <p:spPr>
          <a:xfrm>
            <a:off x="4572000" y="1714680"/>
            <a:ext cx="3643200" cy="180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Petra\Pictures\fig4-5_xl.jpg"/>
          <p:cNvPicPr/>
          <p:nvPr/>
        </p:nvPicPr>
        <p:blipFill>
          <a:blip r:embed="rId2"/>
          <a:stretch/>
        </p:blipFill>
        <p:spPr>
          <a:xfrm>
            <a:off x="5072040" y="4071960"/>
            <a:ext cx="3500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perkte levensduur: afhankelijk van de dier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braak in de milt en de lev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iliru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potgaan” van erytrocyten = hemo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rmaal is de aanmaak en afbraak van erytrocyten in evenwicht, zoniet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rmoede/an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te laag gehalte aan hemoglobine of een tekort aan circulerende erytrocyten, of be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ver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hoogde afbraak (hemolytische anem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de aanma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edingsfouten: ijzer- en/of vitaminetek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namestoorni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samenstelling van bl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plas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witten, zouten, voedingsstoffen, afbraakproducten, hormonen, stollingsfac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el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ytrocyten (rod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ukocyten (witt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bocyten (bloedplaatj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oglobine gehal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b gehal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am per 100 ml (g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ncer hemo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0388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atocr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hematocrietwaarde (Ht) is de waarde die de verhouding aangeeft tussen het volume van de erytrocyten in het bloed en het totale bloed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paling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Petra\Pictures\fig3-7a_xl.jpg"/>
          <p:cNvPicPr/>
          <p:nvPr/>
        </p:nvPicPr>
        <p:blipFill>
          <a:blip r:embed="rId1"/>
          <a:stretch/>
        </p:blipFill>
        <p:spPr>
          <a:xfrm>
            <a:off x="714240" y="1357200"/>
            <a:ext cx="30020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Petra\Pictures\fig3-7b_xl.jpg"/>
          <p:cNvPicPr/>
          <p:nvPr/>
        </p:nvPicPr>
        <p:blipFill>
          <a:blip r:embed="rId2"/>
          <a:stretch/>
        </p:blipFill>
        <p:spPr>
          <a:xfrm>
            <a:off x="4000680" y="192888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paling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Petra\Pictures\fig3-8a_xl.jpg"/>
          <p:cNvPicPr/>
          <p:nvPr/>
        </p:nvPicPr>
        <p:blipFill>
          <a:blip r:embed="rId1"/>
          <a:stretch/>
        </p:blipFill>
        <p:spPr>
          <a:xfrm>
            <a:off x="571680" y="2000160"/>
            <a:ext cx="4182840" cy="31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Petra\Pictures\fig3-8b_xl.jpg"/>
          <p:cNvPicPr/>
          <p:nvPr/>
        </p:nvPicPr>
        <p:blipFill>
          <a:blip r:embed="rId2"/>
          <a:stretch/>
        </p:blipFill>
        <p:spPr>
          <a:xfrm>
            <a:off x="5214960" y="1500120"/>
            <a:ext cx="3322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ferentiewaarden Hb en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2214720"/>
          <a:ext cx="8229600" cy="1854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moglobine-geh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matocri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 – 11,7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 – 0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 – 8,1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 – 0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– 8,7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6 – 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 – 7,5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7 – 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ute infec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erhoogde aanmaak van leukocyten in beenmerg en lymfeknopen (= leukocytose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naar plaats van infectie (amoeboïde beweging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fagocytos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p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Petra\Pictures\fagocytose1.bmp"/>
          <p:cNvPicPr/>
          <p:nvPr/>
        </p:nvPicPr>
        <p:blipFill>
          <a:blip r:embed="rId1"/>
          <a:stretch/>
        </p:blipFill>
        <p:spPr>
          <a:xfrm>
            <a:off x="571680" y="4071960"/>
            <a:ext cx="421956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Petra\Pictures\fagocytose2.bmp"/>
          <p:cNvPicPr/>
          <p:nvPr/>
        </p:nvPicPr>
        <p:blipFill>
          <a:blip r:embed="rId2"/>
          <a:stretch/>
        </p:blipFill>
        <p:spPr>
          <a:xfrm>
            <a:off x="5143680" y="3929040"/>
            <a:ext cx="32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verhoogd aantal witte bloedcellen (leukocytose) is dus een aanwijzing voor een acute 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lka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Petra\Pictures\dier_labo_telkamer.jpg"/>
          <p:cNvPicPr/>
          <p:nvPr/>
        </p:nvPicPr>
        <p:blipFill>
          <a:blip r:embed="rId1"/>
          <a:stretch/>
        </p:blipFill>
        <p:spPr>
          <a:xfrm>
            <a:off x="3000240" y="3214800"/>
            <a:ext cx="2400480" cy="321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Petra\Pictures\00001914_0.jpg"/>
          <p:cNvPicPr/>
          <p:nvPr/>
        </p:nvPicPr>
        <p:blipFill>
          <a:blip r:embed="rId2"/>
          <a:stretch/>
        </p:blipFill>
        <p:spPr>
          <a:xfrm>
            <a:off x="5786280" y="3429000"/>
            <a:ext cx="2833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chillende soor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anulocy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osin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s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utr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afker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gmentkern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ymfocy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nocy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Petra\Pictures\180px-Red_White_Blood_cells.jpg"/>
          <p:cNvPicPr/>
          <p:nvPr/>
        </p:nvPicPr>
        <p:blipFill>
          <a:blip r:embed="rId1"/>
          <a:stretch/>
        </p:blipFill>
        <p:spPr>
          <a:xfrm>
            <a:off x="5219640" y="2428920"/>
            <a:ext cx="3624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uitstrijk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Petra\Pictures\Bloeduitstrijk-maken.jpg"/>
          <p:cNvPicPr/>
          <p:nvPr/>
        </p:nvPicPr>
        <p:blipFill>
          <a:blip r:embed="rId1"/>
          <a:stretch/>
        </p:blipFill>
        <p:spPr>
          <a:xfrm>
            <a:off x="928800" y="1500120"/>
            <a:ext cx="7246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le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Petra\Pictures\stains.jpg"/>
          <p:cNvPicPr/>
          <p:nvPr/>
        </p:nvPicPr>
        <p:blipFill>
          <a:blip r:embed="rId1"/>
          <a:stretch/>
        </p:blipFill>
        <p:spPr>
          <a:xfrm>
            <a:off x="1285920" y="142884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 van bl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Chemisch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loedplas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witten, zouten, voedingsstoffen, afbraakproducten, hormonen, stollingsfac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ematologisch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Cel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ytrocyten (rod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ukocyten (witt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bocyten (bloedplaatj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osinofiele granul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Petra\Pictures\fig6-1a_xl.jpg"/>
          <p:cNvPicPr/>
          <p:nvPr/>
        </p:nvPicPr>
        <p:blipFill>
          <a:blip r:embed="rId1"/>
          <a:stretch/>
        </p:blipFill>
        <p:spPr>
          <a:xfrm>
            <a:off x="357120" y="1643040"/>
            <a:ext cx="4092480" cy="271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Petra\Pictures\fig6-1b_xl.jpg"/>
          <p:cNvPicPr/>
          <p:nvPr/>
        </p:nvPicPr>
        <p:blipFill>
          <a:blip r:embed="rId2"/>
          <a:stretch/>
        </p:blipFill>
        <p:spPr>
          <a:xfrm>
            <a:off x="4714920" y="3786120"/>
            <a:ext cx="411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asofiele granul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Petra\Pictures\fig7-1b_xl.jpg"/>
          <p:cNvPicPr/>
          <p:nvPr/>
        </p:nvPicPr>
        <p:blipFill>
          <a:blip r:embed="rId1"/>
          <a:stretch/>
        </p:blipFill>
        <p:spPr>
          <a:xfrm>
            <a:off x="500040" y="1643040"/>
            <a:ext cx="405612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Petra\Pictures\fig7-2a_xl.jpg"/>
          <p:cNvPicPr/>
          <p:nvPr/>
        </p:nvPicPr>
        <p:blipFill>
          <a:blip r:embed="rId2"/>
          <a:stretch/>
        </p:blipFill>
        <p:spPr>
          <a:xfrm>
            <a:off x="4786200" y="3429000"/>
            <a:ext cx="40244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utrofiele granul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aafkernig / Segmentkern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Petra\Pictures\fig5-6_xl.jpg"/>
          <p:cNvPicPr/>
          <p:nvPr/>
        </p:nvPicPr>
        <p:blipFill>
          <a:blip r:embed="rId1"/>
          <a:stretch/>
        </p:blipFill>
        <p:spPr>
          <a:xfrm>
            <a:off x="857160" y="1928880"/>
            <a:ext cx="3500640" cy="228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Petra\Pictures\fig5-7_xl.jpg"/>
          <p:cNvPicPr/>
          <p:nvPr/>
        </p:nvPicPr>
        <p:blipFill>
          <a:blip r:embed="rId2"/>
          <a:stretch/>
        </p:blipFill>
        <p:spPr>
          <a:xfrm>
            <a:off x="4714920" y="1928880"/>
            <a:ext cx="3571920" cy="227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Petra\Pictures\fig5-8_xl.jpg"/>
          <p:cNvPicPr/>
          <p:nvPr/>
        </p:nvPicPr>
        <p:blipFill>
          <a:blip r:embed="rId3"/>
          <a:stretch/>
        </p:blipFill>
        <p:spPr>
          <a:xfrm>
            <a:off x="2928960" y="4286160"/>
            <a:ext cx="3571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ymf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Petra\Pictures\fig9-1b_xl.jpg"/>
          <p:cNvPicPr/>
          <p:nvPr/>
        </p:nvPicPr>
        <p:blipFill>
          <a:blip r:embed="rId1"/>
          <a:stretch/>
        </p:blipFill>
        <p:spPr>
          <a:xfrm>
            <a:off x="357120" y="1500120"/>
            <a:ext cx="4133880" cy="271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etra\Pictures\fig9-1c_xl.jpg"/>
          <p:cNvPicPr/>
          <p:nvPr/>
        </p:nvPicPr>
        <p:blipFill>
          <a:blip r:embed="rId2"/>
          <a:stretch/>
        </p:blipFill>
        <p:spPr>
          <a:xfrm>
            <a:off x="4643280" y="3571920"/>
            <a:ext cx="4102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on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Petra\Pictures\fig8-1a_xl.jpg"/>
          <p:cNvPicPr/>
          <p:nvPr/>
        </p:nvPicPr>
        <p:blipFill>
          <a:blip r:embed="rId1"/>
          <a:stretch/>
        </p:blipFill>
        <p:spPr>
          <a:xfrm>
            <a:off x="928800" y="1428840"/>
            <a:ext cx="72864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omb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Petra\Pictures\fig10-1_xl.jpg"/>
          <p:cNvPicPr/>
          <p:nvPr/>
        </p:nvPicPr>
        <p:blipFill>
          <a:blip r:embed="rId1"/>
          <a:stretch/>
        </p:blipFill>
        <p:spPr>
          <a:xfrm>
            <a:off x="1071720" y="1428840"/>
            <a:ext cx="68580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omb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len een belangrijke rol bij de bloedsto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chten zich aan de beschadigde bloedvatw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veren (samen met o.a. calcium) de omzetting van fibrinogeen in fib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665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ppara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C:\Users\Petra\Pictures\Reflotron_System.jpg"/>
          <p:cNvPicPr/>
          <p:nvPr/>
        </p:nvPicPr>
        <p:blipFill>
          <a:blip r:embed="rId1"/>
          <a:stretch/>
        </p:blipFill>
        <p:spPr>
          <a:xfrm>
            <a:off x="500040" y="257184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Petra\Pictures\6.jpg"/>
          <p:cNvPicPr/>
          <p:nvPr/>
        </p:nvPicPr>
        <p:blipFill>
          <a:blip r:embed="rId2"/>
          <a:stretch/>
        </p:blipFill>
        <p:spPr>
          <a:xfrm>
            <a:off x="5000760" y="2500200"/>
            <a:ext cx="36892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reum/creatinine: nieraandoening, uitdro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/ALT/bilirubine/galzuren: leveraando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bumine: lever-/nieraandoening, onder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glucose: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ktrolyten (Na, K, Ca, Mg, 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lichaam probeert de samenstelling van het bloed zo constant mogelijk te houden (binnen normaal- / referentiewaard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loedsuikerspie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chtgeha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tal erytrocy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veelheid afvalprodu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z , en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aststellen van hematologische en chemische veranderingen van het bloed is van belang voor het opsporen en diagnostiseren van ziek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ucheck Pre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C:\Users\Petra\Pictures\k9_bre2.jpg"/>
          <p:cNvPicPr/>
          <p:nvPr/>
        </p:nvPicPr>
        <p:blipFill>
          <a:blip r:embed="rId1"/>
          <a:stretch/>
        </p:blipFill>
        <p:spPr>
          <a:xfrm>
            <a:off x="785880" y="1571760"/>
            <a:ext cx="36828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Petra\Pictures\k9_bre12.jpg"/>
          <p:cNvPicPr/>
          <p:nvPr/>
        </p:nvPicPr>
        <p:blipFill>
          <a:blip r:embed="rId2"/>
          <a:stretch/>
        </p:blipFill>
        <p:spPr>
          <a:xfrm>
            <a:off x="4786200" y="2428920"/>
            <a:ext cx="37148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C:\Users\Petra\Pictures\Kit2555.jpg"/>
          <p:cNvPicPr/>
          <p:nvPr/>
        </p:nvPicPr>
        <p:blipFill>
          <a:blip r:embed="rId1"/>
          <a:stretch/>
        </p:blipFill>
        <p:spPr>
          <a:xfrm>
            <a:off x="500040" y="1571760"/>
            <a:ext cx="3357720" cy="28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Users\Petra\Pictures\Blood2556.jpg"/>
          <p:cNvPicPr/>
          <p:nvPr/>
        </p:nvPicPr>
        <p:blipFill>
          <a:blip r:embed="rId2"/>
          <a:stretch/>
        </p:blipFill>
        <p:spPr>
          <a:xfrm>
            <a:off x="4572000" y="1571760"/>
            <a:ext cx="3648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3"/>
          <p:cNvSpPr/>
          <p:nvPr/>
        </p:nvSpPr>
        <p:spPr>
          <a:xfrm>
            <a:off x="520200" y="4429080"/>
            <a:ext cx="32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en conjugaat pipett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 cuve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4598280" y="44290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gsel aanbrengen in “Snapp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C:\Users\Petra\Pictures\Flow2557.jpg"/>
          <p:cNvPicPr/>
          <p:nvPr/>
        </p:nvPicPr>
        <p:blipFill>
          <a:blip r:embed="rId1"/>
          <a:stretch/>
        </p:blipFill>
        <p:spPr>
          <a:xfrm>
            <a:off x="500040" y="2000160"/>
            <a:ext cx="4362480" cy="292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Petra\Pictures\Snap2559.jpg"/>
          <p:cNvPicPr/>
          <p:nvPr/>
        </p:nvPicPr>
        <p:blipFill>
          <a:blip r:embed="rId2"/>
          <a:stretch/>
        </p:blipFill>
        <p:spPr>
          <a:xfrm>
            <a:off x="5214960" y="2428920"/>
            <a:ext cx="3697200" cy="1643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3"/>
          <p:cNvSpPr/>
          <p:nvPr/>
        </p:nvSpPr>
        <p:spPr>
          <a:xfrm>
            <a:off x="595800" y="492912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nster stroomt richting werkingscir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5166360" y="407196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napper “ indrukken zodra mon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 werkingscirkel verschij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0" descr="C:\Users\Petra\Pictures\Neg2564.jpg"/>
          <p:cNvPicPr/>
          <p:nvPr/>
        </p:nvPicPr>
        <p:blipFill>
          <a:blip r:embed="rId1"/>
          <a:stretch/>
        </p:blipFill>
        <p:spPr>
          <a:xfrm>
            <a:off x="214200" y="3143160"/>
            <a:ext cx="3324240" cy="200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C:\Users\Petra\Pictures\FeLV1.jpg"/>
          <p:cNvPicPr/>
          <p:nvPr/>
        </p:nvPicPr>
        <p:blipFill>
          <a:blip r:embed="rId2"/>
          <a:stretch/>
        </p:blipFill>
        <p:spPr>
          <a:xfrm>
            <a:off x="3786120" y="3143160"/>
            <a:ext cx="1500120" cy="203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Users\Petra\Pictures\FeLV2.jpg"/>
          <p:cNvPicPr/>
          <p:nvPr/>
        </p:nvPicPr>
        <p:blipFill>
          <a:blip r:embed="rId3"/>
          <a:stretch/>
        </p:blipFill>
        <p:spPr>
          <a:xfrm>
            <a:off x="5572080" y="3143160"/>
            <a:ext cx="1371600" cy="2032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C:\Users\Petra\Pictures\FeLV3.jpg"/>
          <p:cNvPicPr/>
          <p:nvPr/>
        </p:nvPicPr>
        <p:blipFill>
          <a:blip r:embed="rId4"/>
          <a:stretch/>
        </p:blipFill>
        <p:spPr>
          <a:xfrm>
            <a:off x="7215120" y="3143160"/>
            <a:ext cx="1447920" cy="2044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3"/>
          <p:cNvSpPr/>
          <p:nvPr/>
        </p:nvSpPr>
        <p:spPr>
          <a:xfrm>
            <a:off x="812880" y="192888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10 minuten resultaat afl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18920" y="5143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en FIV nega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3786840" y="51436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5500080" y="51436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en F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293960" y="5143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IV 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f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na jugul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Petra\Pictures\behindscenes-harry-pre-ga.jpg"/>
          <p:cNvPicPr/>
          <p:nvPr/>
        </p:nvPicPr>
        <p:blipFill>
          <a:blip r:embed="rId1"/>
          <a:stretch/>
        </p:blipFill>
        <p:spPr>
          <a:xfrm>
            <a:off x="826920" y="2276640"/>
            <a:ext cx="266544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na cepha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ttp://provisioning.ontwikkelcentrum.nl/objects//OC-33071-2-24d/OC-33071-2-24d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Petra\Pictures\2046925974_c342b797ae.jpg"/>
          <p:cNvPicPr/>
          <p:nvPr/>
        </p:nvPicPr>
        <p:blipFill>
          <a:blip r:embed="rId2"/>
          <a:stretch/>
        </p:blipFill>
        <p:spPr>
          <a:xfrm>
            <a:off x="4427640" y="2421000"/>
            <a:ext cx="3741480" cy="2805120"/>
          </a:xfrm>
          <a:prstGeom prst="rect">
            <a:avLst/>
          </a:prstGeom>
          <a:ln w="0">
            <a:noFill/>
          </a:ln>
        </p:spPr>
      </p:pic>
      <p:sp>
        <p:nvSpPr>
          <p:cNvPr id="62" name="Rechthoek 4"/>
          <p:cNvSpPr/>
          <p:nvPr/>
        </p:nvSpPr>
        <p:spPr>
          <a:xfrm>
            <a:off x="0" y="580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://provisioning.ontwikkelcentrum.nl/objects//OC-33071-2-23d/OC-33071-2-23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f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Petra\Pictures\cat_med_saph.jpg"/>
          <p:cNvPicPr/>
          <p:nvPr/>
        </p:nvPicPr>
        <p:blipFill>
          <a:blip r:embed="rId1"/>
          <a:stretch/>
        </p:blipFill>
        <p:spPr>
          <a:xfrm>
            <a:off x="285840" y="2185920"/>
            <a:ext cx="4408560" cy="30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Petra\Pictures\g02140art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1"/>
          <p:cNvSpPr/>
          <p:nvPr/>
        </p:nvSpPr>
        <p:spPr>
          <a:xfrm>
            <a:off x="42861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ZEsHMwKFb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o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is = oplo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lyse = rbc’s gaan s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g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trog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e hemo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ne eenmalig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 voorkeur vacuümsy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te dunne naa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schudden maar zwen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doende bloed in verhouding 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t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overdreven lang st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verontrein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plasma hemolytisch"/>
          <p:cNvPicPr/>
          <p:nvPr/>
        </p:nvPicPr>
        <p:blipFill>
          <a:blip r:embed="rId1"/>
          <a:stretch/>
        </p:blipFill>
        <p:spPr>
          <a:xfrm>
            <a:off x="6792840" y="0"/>
            <a:ext cx="26607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 het gevraagde onderzoek en de gebruikte onderzoeksmetho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lbloed: onstolbaar gemaakt bl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lasma: vloeistof na centrifugeren van onstolbaar gemaakt bloed (bevat wel fibrinoge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erum: vloeistof na centrifugeren van gestold bloed (bevat geen fibrinoge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9:16:15Z</dcterms:created>
  <dc:creator>Petra</dc:creator>
  <dc:description/>
  <dc:language>en-US</dc:language>
  <cp:lastModifiedBy>A.Withaar</cp:lastModifiedBy>
  <dcterms:modified xsi:type="dcterms:W3CDTF">2013-10-09T11:42:55Z</dcterms:modified>
  <cp:revision>115</cp:revision>
  <dc:subject/>
  <dc:title>Slide 1</dc:title>
</cp:coreProperties>
</file>