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5EBE-F464-483D-87CC-9CCA3CA16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gelmatig aangetroff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rmaal 4 ery’s per beeldv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hoogd bij: loopse teef, blaaspunctie, ontsteking, trauma, tumor, obstructie, blaasstenen, stollingsproble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AEB0-5A1C-4205-B92F-742CE64397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ormaal 5 leukos per beeldveld (1000x vergro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eveel bij pyurie bijvoorbeeld bij pyomet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EAC2-FDE9-4D82-8E75-FF7AED9E96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hoogd aantal bij blaasontsteking en blaassten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F47F4-E686-40F2-9900-FB31122DE4E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omen uit laatste deel van urethra. Dit zijn plaveiselc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2ED6-7F3F-4920-BA50-E96FFCDE0F2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fgietsel van filtersysteem van de n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59B3-70FC-4059-A1AD-6A4C6050A01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Struviet wordt alleen gevonden in basische uri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H kan stijgen door plantaardig voedsel en bacteriegroei (ontsteking of bacteriën (ook bedorven urine)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15FC-4657-4379-9FCE-AC10C2C5284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Komt alleen voor in zure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eren hebben met een vleesdieet hebben een lagere pH ur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gezonde dieren hebben wel wat oxalaatkristal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el kristallen bij blaasstenen, hypercalcemie en ethyleenglycol vergiftiging uit cv radi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3286-4F82-4D99-99CC-F604621F6FF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E81-4D07-426F-81CC-CA7244C3D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CF35-84DE-48DF-AA87-4CD496B9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E46-9F38-4BEC-B1E7-2E7AB77D6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1C9F-EDC7-4A4A-B7F1-7E98B411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2D03-759D-4FA4-A2E3-B50C866C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2778-349C-424A-A2E6-A74DA0EB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6890-66E4-4E5D-BFB9-CE17657D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1D17-B719-42AE-A3D5-D783B062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5B7D-6464-4376-9188-0EB9DF2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5B4-71B0-4A3A-9BC1-69D133CC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335A-C9F2-4414-8EF5-6F61C57F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892-5ED4-4745-AE2A-B26F5FCD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342C-9F5F-49A6-ADC0-E1514D0D03E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Urine sedi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3"/>
          <p:cNvSpPr/>
          <p:nvPr/>
        </p:nvSpPr>
        <p:spPr>
          <a:xfrm>
            <a:off x="1571760" y="1785960"/>
            <a:ext cx="45720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Erythr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Leukocy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Epitheelc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Cyli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Struviet krist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  <a:ea typeface="Arial"/>
              </a:rPr>
              <a:t>(calcium)Oxalaat krist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fbeelding 1" descr="erys.jpg"/>
          <p:cNvPicPr/>
          <p:nvPr/>
        </p:nvPicPr>
        <p:blipFill>
          <a:blip r:embed="rId1"/>
          <a:stretch/>
        </p:blipFill>
        <p:spPr>
          <a:xfrm>
            <a:off x="857160" y="571680"/>
            <a:ext cx="6643800" cy="4500360"/>
          </a:xfrm>
          <a:prstGeom prst="rect">
            <a:avLst/>
          </a:prstGeom>
          <a:ln w="0">
            <a:noFill/>
          </a:ln>
        </p:spPr>
      </p:pic>
      <p:sp>
        <p:nvSpPr>
          <p:cNvPr id="51" name="Tekstvak 2"/>
          <p:cNvSpPr/>
          <p:nvPr/>
        </p:nvSpPr>
        <p:spPr>
          <a:xfrm>
            <a:off x="1289160" y="578628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Ery’s 400x verg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fbeelding 1" descr="leukocyten.jpg"/>
          <p:cNvPicPr/>
          <p:nvPr/>
        </p:nvPicPr>
        <p:blipFill>
          <a:blip r:embed="rId1"/>
          <a:stretch/>
        </p:blipFill>
        <p:spPr>
          <a:xfrm>
            <a:off x="428760" y="428760"/>
            <a:ext cx="8001000" cy="5357520"/>
          </a:xfrm>
          <a:prstGeom prst="rect">
            <a:avLst/>
          </a:prstGeom>
          <a:ln w="0">
            <a:noFill/>
          </a:ln>
        </p:spPr>
      </p:pic>
      <p:sp>
        <p:nvSpPr>
          <p:cNvPr id="53" name="Tekstvak 2"/>
          <p:cNvSpPr/>
          <p:nvPr/>
        </p:nvSpPr>
        <p:spPr>
          <a:xfrm>
            <a:off x="925920" y="60008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Leuko’s 400x verg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overgangsepitheelcellen.jpg"/>
          <p:cNvPicPr/>
          <p:nvPr/>
        </p:nvPicPr>
        <p:blipFill>
          <a:blip r:embed="rId1"/>
          <a:stretch/>
        </p:blipFill>
        <p:spPr>
          <a:xfrm>
            <a:off x="428760" y="357120"/>
            <a:ext cx="8072280" cy="55008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2"/>
          <p:cNvSpPr/>
          <p:nvPr/>
        </p:nvSpPr>
        <p:spPr>
          <a:xfrm>
            <a:off x="726840" y="59292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Blaas epitheel c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squameuze epitheelcellen.jpg"/>
          <p:cNvPicPr/>
          <p:nvPr/>
        </p:nvPicPr>
        <p:blipFill>
          <a:blip r:embed="rId1"/>
          <a:stretch/>
        </p:blipFill>
        <p:spPr>
          <a:xfrm>
            <a:off x="500040" y="642960"/>
            <a:ext cx="8072640" cy="5429160"/>
          </a:xfrm>
          <a:prstGeom prst="rect">
            <a:avLst/>
          </a:prstGeom>
          <a:ln w="0">
            <a:noFill/>
          </a:ln>
        </p:spPr>
      </p:pic>
      <p:sp>
        <p:nvSpPr>
          <p:cNvPr id="57" name="Tekstvak 2"/>
          <p:cNvSpPr/>
          <p:nvPr/>
        </p:nvSpPr>
        <p:spPr>
          <a:xfrm>
            <a:off x="1153440" y="6215040"/>
            <a:ext cx="232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Urethra epitheel c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Afbeelding 1" descr="cilinders.jpg"/>
          <p:cNvPicPr/>
          <p:nvPr/>
        </p:nvPicPr>
        <p:blipFill>
          <a:blip r:embed="rId1"/>
          <a:stretch/>
        </p:blipFill>
        <p:spPr>
          <a:xfrm>
            <a:off x="4429080" y="785880"/>
            <a:ext cx="3357720" cy="4643280"/>
          </a:xfrm>
          <a:prstGeom prst="rect">
            <a:avLst/>
          </a:prstGeom>
          <a:ln w="0">
            <a:noFill/>
          </a:ln>
        </p:spPr>
      </p:pic>
      <p:sp>
        <p:nvSpPr>
          <p:cNvPr id="59" name="Tekstvak 2"/>
          <p:cNvSpPr/>
          <p:nvPr/>
        </p:nvSpPr>
        <p:spPr>
          <a:xfrm>
            <a:off x="1004400" y="18572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(korrel)cilin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Afbeelding 1" descr="cilinders.jpg"/>
          <p:cNvPicPr/>
          <p:nvPr/>
        </p:nvPicPr>
        <p:blipFill>
          <a:blip r:embed="rId1"/>
          <a:stretch/>
        </p:blipFill>
        <p:spPr>
          <a:xfrm>
            <a:off x="1071720" y="785880"/>
            <a:ext cx="3286080" cy="4572000"/>
          </a:xfrm>
          <a:prstGeom prst="rect">
            <a:avLst/>
          </a:prstGeom>
          <a:ln w="0">
            <a:noFill/>
          </a:ln>
        </p:spPr>
      </p:pic>
      <p:sp>
        <p:nvSpPr>
          <p:cNvPr id="61" name="Tekstvak 2"/>
          <p:cNvSpPr/>
          <p:nvPr/>
        </p:nvSpPr>
        <p:spPr>
          <a:xfrm>
            <a:off x="5429160" y="1785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Cilinder gezien met speciale micro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Afbeelding 1" descr="struviet.jpg"/>
          <p:cNvPicPr/>
          <p:nvPr/>
        </p:nvPicPr>
        <p:blipFill>
          <a:blip r:embed="rId1"/>
          <a:stretch/>
        </p:blipFill>
        <p:spPr>
          <a:xfrm>
            <a:off x="357120" y="428760"/>
            <a:ext cx="6531120" cy="4500360"/>
          </a:xfrm>
          <a:prstGeom prst="rect">
            <a:avLst/>
          </a:prstGeom>
          <a:ln w="0">
            <a:noFill/>
          </a:ln>
        </p:spPr>
      </p:pic>
      <p:sp>
        <p:nvSpPr>
          <p:cNvPr id="63" name="Tekstvak 2"/>
          <p:cNvSpPr/>
          <p:nvPr/>
        </p:nvSpPr>
        <p:spPr>
          <a:xfrm>
            <a:off x="3226320" y="542916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Struviet kristallen  pH&gt;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doodskistj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" descr="calcium oxalaat.jpg"/>
          <p:cNvPicPr/>
          <p:nvPr/>
        </p:nvPicPr>
        <p:blipFill>
          <a:blip r:embed="rId1"/>
          <a:stretch/>
        </p:blipFill>
        <p:spPr>
          <a:xfrm>
            <a:off x="0" y="357120"/>
            <a:ext cx="914400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Tekstvak 2"/>
          <p:cNvSpPr/>
          <p:nvPr/>
        </p:nvSpPr>
        <p:spPr>
          <a:xfrm>
            <a:off x="1353240" y="4929120"/>
            <a:ext cx="553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Deze kristallen worden alleen gevormd in urine met pH&lt;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20:00:56Z</dcterms:created>
  <dc:creator>Hessel</dc:creator>
  <dc:description/>
  <dc:language>en-US</dc:language>
  <cp:lastModifiedBy>Administrator</cp:lastModifiedBy>
  <dcterms:modified xsi:type="dcterms:W3CDTF">2013-10-06T08:43:33Z</dcterms:modified>
  <cp:revision>8</cp:revision>
  <dc:subject/>
  <dc:title>Fotoalbum</dc:title>
</cp:coreProperties>
</file>