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3A4-F3DB-4425-A314-98E969FEF7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DBA9-2C2D-4A7D-B9DE-7561EC84CD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: Bloedgroepen - Antigen rode bloedcel – Antistof bloed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146-4BD5-4BF5-847F-C407AB89C5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loedplasma van de bloedontvanger mag geen antistoffen bevatten tegen de antigenen van het donorbloed. Zodra hier geen rekening mee wordt gehouden treedt er bloedklontering op. Dit is levensgevaar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5E3-E43F-4251-9EEE-6A99E68501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A84-4E68-4E9D-A05D-609A6F38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2B4-28E7-4C9F-BAA2-EB3C7CB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77C-EEA6-461F-8EE0-49C4DAE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93A-9BD8-40BB-B765-6B4D12FC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B55-95C0-4D28-9F9D-2CBBAB8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313-0622-4E64-9408-0497D857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674-9C7F-4A07-ACAE-A6BF2CFC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4B3-5940-445E-B471-94801161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71F-B514-482B-B641-1755E3E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602-C251-4279-AE81-5939CEC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8F8-9AF4-4314-BCAA-F732D8D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740-859D-4C6F-AF9A-CA0C6E2E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FAC-5150-4C3F-BA78-C1F22ABA8A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nl/url?sa=i&amp;rct=j&amp;q=&amp;esrc=s&amp;frm=1&amp;source=images&amp;cd=&amp;cad=rja&amp;docid=UBw8m2iKvci4xM&amp;tbnid=_65XAbxw6HX9qM:&amp;ved=0CAUQjRw&amp;url=http%3A%2F%2Fwww.nurseacademy.nl%2Ftijdschrift%2Ftijdschrift_artikel%2Ft%2Fbloedgroepen_en_rhesusfactoren&amp;ei=if4NU7ymJsva0QXomoDACg&amp;bvm=bv.61965928,d.d2k&amp;psig=AFQjCNHGRjmxGbpczrujxyWh-HET4XZtbg&amp;ust=139351237008772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en/ 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heyoungmusicagency.nl/wp-content/uploads/hetklokhuis.png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lokh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vering: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opdracht 7 e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es voorafgaand aan het maken van de opdrachten de bijbehorende tekstk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 een tweetal en m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opdrach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hartwijzer.nl/afb/bloedonderzoek.gif"/>
          <p:cNvPicPr/>
          <p:nvPr/>
        </p:nvPicPr>
        <p:blipFill>
          <a:blip r:embed="rId1"/>
          <a:srcRect l="6047" t="0" r="6259" b="0"/>
          <a:stretch/>
        </p:blipFill>
        <p:spPr>
          <a:xfrm>
            <a:off x="6659640" y="4653000"/>
            <a:ext cx="2182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maken opdracht 7 t/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leskaart 1 t/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ijk opdracht 1 t/m 9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s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opdracht 1 t/m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manieren kan een witte bloedcel een ziekteverwekker onschadelijk ma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aan kan een witte bloedcel een lichaamsvreemde stof herken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een vaccinatie en een se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gocytose2"/>
          <p:cNvPicPr/>
          <p:nvPr/>
        </p:nvPicPr>
        <p:blipFill>
          <a:blip r:embed="rId1"/>
          <a:srcRect l="9777" t="2585" r="6245" b="25699"/>
          <a:stretch/>
        </p:blipFill>
        <p:spPr>
          <a:xfrm>
            <a:off x="395280" y="18900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4 verschillende bloedgroe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il: antigenen + anti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5796000" y="407664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elearning.nurseacademy.nl/images/cropped/240/180/uploads/nascholingsartikel/2013010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2766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18262" t="31294" r="28598" b="25393"/>
          <a:stretch/>
        </p:blipFill>
        <p:spPr>
          <a:xfrm>
            <a:off x="539640" y="1413000"/>
            <a:ext cx="7775640" cy="475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zi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igen B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218440" cy="604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toffen laten bloedcellen klont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1332000" y="2421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020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6891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A reageert met antige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B reageert met antige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loed02A"/>
          <p:cNvPicPr/>
          <p:nvPr/>
        </p:nvPicPr>
        <p:blipFill>
          <a:blip r:embed="rId3"/>
          <a:srcRect l="0" t="53529" r="61194" b="0"/>
          <a:stretch/>
        </p:blipFill>
        <p:spPr>
          <a:xfrm>
            <a:off x="611280" y="4797360"/>
            <a:ext cx="18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www.wetenschap24.nl/.imaging/stk/wetenschap/zoom/media/wetenschap/noorderlicht/artikelen/2013/januari/shutterstock_102314338/original/shutterstock_102314338.jpg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176720" cy="4421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edtransf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bloed van een bloeddonor toeged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oorkeur krijg je bloed van dezelfde bloedgro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verkeerd bloed krijgt is dat levensgevaarlij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loed02A"/>
          <p:cNvPicPr/>
          <p:nvPr/>
        </p:nvPicPr>
        <p:blipFill>
          <a:blip r:embed="rId2"/>
          <a:srcRect l="0" t="53529" r="61194" b="0"/>
          <a:stretch/>
        </p:blipFill>
        <p:spPr>
          <a:xfrm>
            <a:off x="7236000" y="5373720"/>
            <a:ext cx="1687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dieetvandaag.nl/wp-content/uploads/2012/03/Bloedgroep.jpg"/>
          <p:cNvPicPr/>
          <p:nvPr/>
        </p:nvPicPr>
        <p:blipFill>
          <a:blip r:embed="rId1"/>
          <a:stretch/>
        </p:blipFill>
        <p:spPr>
          <a:xfrm>
            <a:off x="378000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1" descr=""/>
          <p:cNvPicPr/>
          <p:nvPr/>
        </p:nvPicPr>
        <p:blipFill>
          <a:blip r:embed="rId2"/>
          <a:stretch/>
        </p:blipFill>
        <p:spPr>
          <a:xfrm>
            <a:off x="2370240" y="2492280"/>
            <a:ext cx="47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hesus ant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n, in combinatie met de bloedgroepen, ook op bloedcellen zitt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ijdelijke aanduiding voor inhoud 4" descr=""/>
          <p:cNvPicPr/>
          <p:nvPr/>
        </p:nvPicPr>
        <p:blipFill>
          <a:blip r:embed="rId1"/>
          <a:srcRect l="0" t="22337" r="0" b="41178"/>
          <a:stretch/>
        </p:blipFill>
        <p:spPr>
          <a:xfrm>
            <a:off x="179280" y="3357720"/>
            <a:ext cx="5004000" cy="100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 A+, B-, AB-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6075" t="7981" r="0" b="11713"/>
          <a:stretch/>
        </p:blipFill>
        <p:spPr>
          <a:xfrm>
            <a:off x="1619280" y="4437000"/>
            <a:ext cx="3529080" cy="16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24154" t="41148" r="44092" b="24413"/>
          <a:stretch/>
        </p:blipFill>
        <p:spPr>
          <a:xfrm>
            <a:off x="5292720" y="3357720"/>
            <a:ext cx="33480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11:48Z</dcterms:created>
  <dc:creator>Jojanneke</dc:creator>
  <dc:description/>
  <dc:language>en-US</dc:language>
  <cp:lastModifiedBy>Gebruiker</cp:lastModifiedBy>
  <dcterms:modified xsi:type="dcterms:W3CDTF">2016-03-07T13:35:45Z</dcterms:modified>
  <cp:revision>17</cp:revision>
  <dc:subject/>
  <dc:title>Inhoud les</dc:title>
</cp:coreProperties>
</file>