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2BE6-4D65-4B73-9D6B-4684F5B7452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21C6-E5A2-4DEA-9301-56F0682898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chema: Bloedgroepen - Antigen rode bloedcel – Antistof bloed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8FAD-ACF5-4A62-A8D6-2F6ACA5438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loedplasma van de bloedontvanger mag geen antistoffen bevatten tegen de antigenen van het donorbloed. Zodra hier geen rekening mee wordt gehouden treedt er bloedklontering op. Dit is levensgevaar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530-3D0E-4BB7-8ECE-D639996DC02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14A-DEAE-4F3E-8CFF-4D196712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F61-868E-4933-96BE-A997A2FD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776-DB70-4241-8AE7-190C7F6E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640-623D-4F27-BD7E-2C00CEFE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299-5B18-43F2-A1B9-9E88E503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362-9BA9-4DF0-8D26-D99C8ECE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9B5-AF21-4EE6-8BF9-4AF628D8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46E-3C0C-43BF-8D38-076B5E3E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E7B-0D34-490E-B010-65FBA6C5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683-DA7A-4B3C-B785-9E83DBEE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AE7-D59B-46E8-8E57-CC83D1A4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992-5C06-4B15-BCDA-22A988B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5226-5B47-49B1-8EDD-4680BFF480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nl/url?sa=i&amp;rct=j&amp;q=&amp;esrc=s&amp;frm=1&amp;source=images&amp;cd=&amp;cad=rja&amp;docid=UBw8m2iKvci4xM&amp;tbnid=_65XAbxw6HX9qM:&amp;ved=0CAUQjRw&amp;url=http%3A%2F%2Fwww.nurseacademy.nl%2Ftijdschrift%2Ftijdschrift_artikel%2Ft%2Fbloedgroepen_en_rhesusfactoren&amp;ei=if4NU7ymJsva0QXomoDACg&amp;bvm=bv.61965928,d.d2k&amp;psig=AFQjCNHGRjmxGbpczrujxyWh-HET4XZtbg&amp;ust=1393512370087725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en/ hui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heyoungmusicagency.nl/wp-content/uploads/hetklokhuis.png"/>
          <p:cNvPicPr/>
          <p:nvPr/>
        </p:nvPicPr>
        <p:blipFill>
          <a:blip r:embed="rId1"/>
          <a:stretch/>
        </p:blipFill>
        <p:spPr>
          <a:xfrm>
            <a:off x="0" y="1706400"/>
            <a:ext cx="9144000" cy="5151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lokh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levering: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opdracht 7 e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ees voorafgaand aan het maken van de opdrachten de bijbehorende tekstk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rm een tweetal en ma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gitale opdracht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hartwijzer.nl/afb/bloedonderzoek.gif"/>
          <p:cNvPicPr/>
          <p:nvPr/>
        </p:nvPicPr>
        <p:blipFill>
          <a:blip r:embed="rId1"/>
          <a:srcRect l="6047" t="0" r="6259" b="0"/>
          <a:stretch/>
        </p:blipFill>
        <p:spPr>
          <a:xfrm>
            <a:off x="6659640" y="4653000"/>
            <a:ext cx="21826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maken opdracht 7 t/m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leskaart 1 t/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ijk opdracht 1 t/m 9 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s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opdracht 1 t/m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manieren kan een witte bloedcel een ziekteverwekker onschadelijk ma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aan kan een witte bloedcel een lichaamsvreemde stof herkenn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een vaccinatie en een se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gocytose2"/>
          <p:cNvPicPr/>
          <p:nvPr/>
        </p:nvPicPr>
        <p:blipFill>
          <a:blip r:embed="rId1"/>
          <a:srcRect l="9777" t="2585" r="6245" b="25699"/>
          <a:stretch/>
        </p:blipFill>
        <p:spPr>
          <a:xfrm>
            <a:off x="395280" y="189000"/>
            <a:ext cx="130968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13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4 verschillende bloedgroe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il: antigenen + antisto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5796000" y="407664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elearning.nurseacademy.nl/images/cropped/240/180/uploads/nascholingsartikel/2013010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2766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rcRect l="18262" t="31294" r="28598" b="25393"/>
          <a:stretch/>
        </p:blipFill>
        <p:spPr>
          <a:xfrm>
            <a:off x="539640" y="1413000"/>
            <a:ext cx="7775640" cy="4752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zie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tigen B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218440" cy="604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toffen laten bloedcellen klont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1332000" y="2421000"/>
            <a:ext cx="309564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3168720" cy="2020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689120"/>
          </a:xfrm>
          <a:prstGeom prst="rect">
            <a:avLst/>
          </a:prstGeom>
          <a:solidFill>
            <a:srgbClr val="ff5050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A reageert met antige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B reageert met antige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bloed02A"/>
          <p:cNvPicPr/>
          <p:nvPr/>
        </p:nvPicPr>
        <p:blipFill>
          <a:blip r:embed="rId3"/>
          <a:srcRect l="0" t="53529" r="61194" b="0"/>
          <a:stretch/>
        </p:blipFill>
        <p:spPr>
          <a:xfrm>
            <a:off x="611280" y="4797360"/>
            <a:ext cx="189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http://www.wetenschap24.nl/.imaging/stk/wetenschap/zoom/media/wetenschap/noorderlicht/artikelen/2013/januari/shutterstock_102314338/original/shutterstock_102314338.jpg"/>
          <p:cNvPicPr/>
          <p:nvPr/>
        </p:nvPicPr>
        <p:blipFill>
          <a:blip r:embed="rId1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176720" cy="4421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loedtransfu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bloed van een bloeddonor toegedi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voorkeur krijg je bloed van dezelfde bloedgro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616572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je verkeerd bloed krijgt is dat levensgevaarlij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loed02A"/>
          <p:cNvPicPr/>
          <p:nvPr/>
        </p:nvPicPr>
        <p:blipFill>
          <a:blip r:embed="rId2"/>
          <a:srcRect l="0" t="53529" r="61194" b="0"/>
          <a:stretch/>
        </p:blipFill>
        <p:spPr>
          <a:xfrm>
            <a:off x="7236000" y="5373720"/>
            <a:ext cx="1687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dieetvandaag.nl/wp-content/uploads/2012/03/Bloedgroep.jpg"/>
          <p:cNvPicPr/>
          <p:nvPr/>
        </p:nvPicPr>
        <p:blipFill>
          <a:blip r:embed="rId1"/>
          <a:stretch/>
        </p:blipFill>
        <p:spPr>
          <a:xfrm>
            <a:off x="3780000" y="18900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1" descr=""/>
          <p:cNvPicPr/>
          <p:nvPr/>
        </p:nvPicPr>
        <p:blipFill>
          <a:blip r:embed="rId2"/>
          <a:stretch/>
        </p:blipFill>
        <p:spPr>
          <a:xfrm>
            <a:off x="2370240" y="2492280"/>
            <a:ext cx="4724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hesus ant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n, in combinatie met de bloedgroepen, ook op bloedcellen zitt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ijdelijke aanduiding voor inhoud 4" descr=""/>
          <p:cNvPicPr/>
          <p:nvPr/>
        </p:nvPicPr>
        <p:blipFill>
          <a:blip r:embed="rId1"/>
          <a:srcRect l="0" t="22337" r="0" b="41178"/>
          <a:stretch/>
        </p:blipFill>
        <p:spPr>
          <a:xfrm>
            <a:off x="179280" y="3357720"/>
            <a:ext cx="5004000" cy="1009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oorbeeld: A+, B-, AB-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6075" t="7981" r="0" b="11713"/>
          <a:stretch/>
        </p:blipFill>
        <p:spPr>
          <a:xfrm>
            <a:off x="1619280" y="4437000"/>
            <a:ext cx="3529080" cy="1647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rcRect l="24154" t="41148" r="44092" b="24413"/>
          <a:stretch/>
        </p:blipFill>
        <p:spPr>
          <a:xfrm>
            <a:off x="5292720" y="3357720"/>
            <a:ext cx="33480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1:11:48Z</dcterms:created>
  <dc:creator>Jojanneke</dc:creator>
  <dc:description/>
  <dc:language>en-US</dc:language>
  <cp:lastModifiedBy>Gebruiker</cp:lastModifiedBy>
  <dcterms:modified xsi:type="dcterms:W3CDTF">2016-03-07T13:35:45Z</dcterms:modified>
  <cp:revision>17</cp:revision>
  <dc:subject/>
  <dc:title>Inhoud les</dc:title>
</cp:coreProperties>
</file>