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BB6E-3D04-481A-9A8F-4AF54FA3373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F367-6DC1-4C5F-8D3A-9D959514A77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Bij verschillende ziekteprocessen krijg je verschillende samenstelling van blo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05F4-564F-4395-9475-CE3706496C4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thoudt: Afhankelijk van het ziekteproces kan de beste infuusvloeistof variëren. Maar: fysiologische zoutoplossing is altijd go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90FF-9DFD-43CE-A8CD-4E79234D853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ze waarden kan de nierfunctie nog normaal zijn. Een verlaging van het sg en/ of een verhoging van plasma concentraties ureum en creatinine: Kan een aanwijzing zijn voor nierf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97E-01D3-4564-8DF3-E4EA4FE05F19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pre renaal: uitdroging, shock. Nier krijgt domweg te weinig bloed, om urine aan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D312-5358-4134-880F-D7B57B0E933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ar-enteraal betekent: naast het maagdarmkanaal, dus voeding gaat niet via het maagdarmkanaal (=enteraal), maar via het bloed (of subcuta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517F-3657-454B-9A30-A72A1861784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al en subcutaan: bij uitgedroogd dier gaat dit (te) langzaam!!! Echter: iv prikken bij uitgedroogd dier erg last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E917-921E-4872-9764-E97B743199F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le vloeistof die je intraveneus geeft: het hart moet het wel tijdig kunnen wegpompen. Bij te hoge infuussnelheid (en zeker als de nieren ook minder werken): Dan tank je het vaatbed te vol af: gaat het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lope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. Dit overlopen gebeurt in de longen: longoedeem m.a.g benauwdheid en zelfs stik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8BA1-ED36-4C7F-B2EB-FAEB5C71319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C31-09CE-4397-95C9-16E0C242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00B-9CCF-4C86-A406-C06BEFF7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DC1-AAE7-49CB-8259-C499A97A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F63-C510-4663-9CAF-7F1409A6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006-73C7-4F91-B9A3-6493D306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F6F-B41A-445F-B166-374E09A0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A7D-8C7D-495C-AA21-07DC84A4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B19-FDE6-4716-B9DE-D07A94B3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487-1A09-40A6-82DB-B42ECF2C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C8C-13E2-4008-8916-6E50200B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592-EDA2-42F0-B5A3-FE9091B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BA7-E470-4053-8582-B352735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6F9A-48F1-493C-BBFC-984AACCA51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hock en vloeistof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chamelijk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rg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 liggende 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oge, rode slijmvliezen/ later bl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.g. urin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;   pol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↑ ;  (T omla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 onderzoe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matocriet bep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matocrie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s de verhouding tussen het bloedcelvolume en het totale bloed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zoogdieren meestal rond 0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lyt verandering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braken verlies van: H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diarree verlies va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chron. Nierproblemen: 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vt 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en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hydratie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tone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: verlies in gelijke mate van vocht en elektroly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o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electrolyten dan vocht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ton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ehydratie: meer vocht dan electrolyten ver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quentie voor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keuz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fuus vloei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uur- base evenwi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kalose: dier verliest zuur, pH stijg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 br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idose: dier verliest H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pH da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hronische diarree, suikerziekte en nieraandoen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paling 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ortelijk gewicht urine hoger dan 1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ureum in bloed: 3,0- 6,5 mmol/ l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ntratie creatinine in bloed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50 + lich g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 ureum en creatinine zijn afbraakproducten,die via urine worden    uitgeschei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ierfunct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veel ureum in bloed: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Ure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voor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re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in de nieren: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orzaak na de nieren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post- rena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an tekor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thera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verdere verliez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vloeistoffen zijn 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Waterige elektrolyt oplossingen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6600"/>
                </a:solidFill>
                <a:latin typeface="Times New Roman"/>
              </a:rPr>
              <a:t>Parenterale voeding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sma vervangende 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erige elektrolyt  oplossin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olec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carbona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ctetrol.( Ringerlactaat, Hart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Fysiologisch zou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Wat is shock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voldoende </a:t>
            </a:r>
            <a:r>
              <a:rPr b="0" lang="nl-NL" sz="3200" spc="-1" strike="noStrike">
                <a:solidFill>
                  <a:srgbClr val="ff6600"/>
                </a:solidFill>
                <a:latin typeface="Times New Roman"/>
              </a:rPr>
              <a:t>perfusi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doorbloeding van de weefsels. Waardoor de weefsels te weinig zuurstof krij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renterale voed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lucose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inosol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hond gaat eerste transfusie i.h.a. altijd goed (tweede nie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at: bloedgroepen! Transfusie react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s: specialistenw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transfusie nodig bij Ht &lt; 0,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ijze van toedienen vloeist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aal: via de 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veneus: via een 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ubcutaan: onderh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traperitoneaal: in de buikh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.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houds infu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d: 5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t:     80 ml/ kg/ 24 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kinfuus: 10 ml/ kg/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forceerde diurese: 100 ml/ kg/ 24 uur (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rtinfuu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waak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eveer 3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onderhouds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druppels per minuut is d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veel ml infuus nodig per 24 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ml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s hoeveel druppels per minu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oedieningssnelheid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l hond 20 kg, stort infu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dig: 20*100 ml = 2000 ml infuus per 24 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per minuut: 2000/(24*60) = 1,4 ml/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ml = 20 drupp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eveer 30 druppels per minu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herfst 2007 108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Oorzaken van shock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ypovol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e weinig ( bloed) volume in het vaatbed: bloedverlies, uitdro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llergische reacti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vaatverwijding tgv histamine release, bloeddruk daal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epticaem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Tgv endotoxinen vaatverwij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Cardi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: bloeddrukdaling tgv verminderde pompfunctie hart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eurogene shoc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ij stress of pijn komen endorphines vrij, die bloeddrukdaling veroorzaken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chycardie: versnelde hartsla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kke pol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eke slijmvliez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T verlengd ( capillary refill time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Symptomen van sho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ierzwakt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nelle, oppervlakkige ademhaling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urie / anurie: weinig of geen urineproductie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e extremiteit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Behandeling van sho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ventilatie / extra zuur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 aanwezige bloedi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aatbed op met behulp van infu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 Herstel afwijkende pH en electrolytenbal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beter of stabiliseer lichaamste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dienen bep. Medicijnen ( cortico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loeistof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aarom: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HYDRA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allee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vens: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lektroly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ek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uiving pH ba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dratie toe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hydratie toestand kun je op 3 manieren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anam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ichamelijk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laboratorium onderzo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amne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t / drinkt de hond n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ang heeft het dier al klach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er sprake van braken / diar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oud is het d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4:34Z</dcterms:created>
  <dc:creator>Trix Tack</dc:creator>
  <dc:description/>
  <dc:language>en-US</dc:language>
  <cp:lastModifiedBy>Huub Hessel</cp:lastModifiedBy>
  <dcterms:modified xsi:type="dcterms:W3CDTF">2016-01-04T20:43:20Z</dcterms:modified>
  <cp:revision>32</cp:revision>
  <dc:subject/>
  <dc:title>Shock en vloeistoftherapie.</dc:title>
</cp:coreProperties>
</file>