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46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3640" y="-36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57280" y="514440"/>
            <a:ext cx="343044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3640" y="651312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5B53-B215-4934-A33F-3F435371DF63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EE0D-118A-47BF-8365-9E163ECD4E1B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thoudt: Bij verschillende ziekteprocessen krijg je verschillende samenstelling van blo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AED8-AAB3-4A2B-B6A7-D0346B578AE7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thoudt: Afhankelijk van het ziekteproces kan de beste infuusvloeistof variëren. Maar: fysiologische zoutoplossing is altijd go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F1C1-1511-41FC-9858-E835FCEE6F5D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j deze waarden kan de nierfunctie nog normaal zijn. Een verlaging van het sg en/ of een verhoging van plasma concentraties ureum en creatinine: Kan een aanwijzing zijn voor nierfal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FD5E-683C-4DE4-95C2-C33806E47046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beeld pre renaal: uitdroging, shock. Nier krijgt domweg te weinig bloed, om urine aan te m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BE87-7860-4940-ADFE-E75BB8A8B113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ar-enteraal betekent: naast het maagdarmkanaal, dus voeding gaat niet via het maagdarmkanaal (=enteraal), maar via het bloed (of subcutaa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3245-763F-4C1E-B22E-AC22C7F01D5C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raal en subcutaan: bij uitgedroogd dier gaat dit (te) langzaam!!! Echter: iv prikken bij uitgedroogd dier erg last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EB3D-B2E6-4A81-A8F3-2008C046B036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lle vloeistof die je intraveneus geeft: het hart moet het wel tijdig kunnen wegpompen. Bij te hoge infuussnelheid (en zeker als de nieren ook minder werken): Dan tank je het vaatbed te vol af: gaat het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erlopen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. Dit overlopen gebeurt in de longen: longoedeem m.a.g benauwdheid en zelfs stik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D021-1F46-4A56-A51C-75B7A42A6B3B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130E-928E-4587-8FE3-2258536BD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779E-CCA1-4C10-80FD-12EF94C0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32AF-8753-431F-90CB-BBBC6335C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61E6-06F7-42E7-8014-C54617018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FEFC-6764-412B-BF58-03150217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A93C-ACF3-4855-8441-5BADB846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6D63-4CA1-45A2-B4A0-AFD5ACC5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C68D-FC5F-4C62-91EB-610E9668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1AEB-CAF4-4012-92E4-91105C2B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7237-AC0E-4ACB-9CB1-595D0B7F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881D-D5AD-494C-9494-1B5C04EF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D5FD-4B63-40F0-BE53-198B924A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EBC8-768C-482B-9A27-8C32299CB6A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hock en vloeistoftherap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ichamelijk onderzoe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urg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ep liggende o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roge, rode slijmvliezen/ later bl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.g. urine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↑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;   pols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↑ ;  (T omlaa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aboratorium onderzoe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matocriet bepa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1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hematocriet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is de verhouding tussen het bloedcelvolume en het totale bloedvolu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zoogdieren meestal rond 0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Elektrolyt verandering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braken verlies van: H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Na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Cl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diarree verlies van: Na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en HCO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chron. Nierproblemen: Na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evt K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en HCO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ehydratie typ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Isotone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hydratie: verlies in gelijke mate van vocht en elektroly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Hypoton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dehydratie: meer electrolyten dan vocht ver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Hyperton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dehydratie: meer vocht dan electrolyten ver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onsequentie voor </a:t>
            </a:r>
            <a:r>
              <a:rPr b="0" lang="nl-NL" sz="3200" spc="-1" strike="noStrike">
                <a:solidFill>
                  <a:srgbClr val="ff6600"/>
                </a:solidFill>
                <a:latin typeface="Times New Roman"/>
              </a:rPr>
              <a:t>keuz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infuus vloeistof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uur- base evenwic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kalose: dier verliest zuur, pH stijg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480" indent="-20556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chronisch bra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idose: dier verliest HCO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pH daa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480" indent="-20556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chronische diarree, suikerziekte en nieraandoenin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paling nierfunct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oortelijk gewicht urine hoger dan 1.0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centratie ureum in bloed: 3,0- 6,5 mmol/ l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centratie creatinine in bloed: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≤50 + lich g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 ureum en creatinine zijn afbraakproducten,die via urine worden    uitgescheid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Nierfunct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eveel ureum in bloed: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Urem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orzaak voor de nieren: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pre- rena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orzaak in de nieren: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rena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orzaak na de nieren: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post- rena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loeistof therap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anvullen van tekor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houdstherap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anvullen verdere verliez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loeistof therap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elke vloeistoffen zijn 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6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6600"/>
                </a:solidFill>
                <a:latin typeface="Times New Roman"/>
              </a:rPr>
              <a:t>Waterige elektrolyt oplossingen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6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6600"/>
                </a:solidFill>
                <a:latin typeface="Times New Roman"/>
              </a:rPr>
              <a:t>Parenterale voedinge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lasma vervangende midde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Waterige elektrolyt  oplossing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voorbee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solec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carbona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actetrol.( Ringerlactaat, Hartman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Fysiologisch zout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Wat is shock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voldoende </a:t>
            </a:r>
            <a:r>
              <a:rPr b="0" lang="nl-NL" sz="3200" spc="-1" strike="noStrike">
                <a:solidFill>
                  <a:srgbClr val="ff6600"/>
                </a:solidFill>
                <a:latin typeface="Times New Roman"/>
              </a:rPr>
              <a:t>perfusie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= doorbloeding van de weefsels. Waardoor de weefsels te weinig zuurstof krij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arenterale voed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voorbee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lucose 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minosol 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myn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lo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hond gaat eerste transfusie i.h.a. altijd goed (tweede niet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kat: bloedgroepen! Transfusie react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transfusies: specialistenwe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transfusie nodig bij Ht &lt; 0,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Wijze van toedienen vloeist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raal: via de b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traveneus: via een a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ubcutaan: onderhui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traperitoneaal: in de buikhol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.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houds infuu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ond: 50 ml/ kg/ 24 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at:     80 ml/ kg/ 24 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akinfuus: 10 ml/ kg/ 24 u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forceerde diurese: 100 ml/ kg/ 24 uur (=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ortinfuus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l hond 20 kg, waakinfu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veel ml infuus nodig per 24 u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s hoeveel ml per minu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ml = 20 drupp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geveer 3 druppels per minu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l hond 20 kg, onderhoudsinfu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veel ml infuus nodig per 24 u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s hoeveel ml per minu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veel druppels per minuut is d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l hond 20 kg, stort infu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veel ml infuus nodig per 24 u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s hoeveel ml per minu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s hoeveel druppels per minu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el hond 20 kg, stort infu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odig: 20*100 ml = 2000 ml infuus per 24 u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us per minuut: 2000/(24*60) = 1,4 ml/ minu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 ml = 20 drupp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geveer 30 druppels per minu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RAG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herfst 2007 108"/>
          <p:cNvPicPr/>
          <p:nvPr/>
        </p:nvPicPr>
        <p:blipFill>
          <a:blip r:embed="rId1"/>
          <a:stretch/>
        </p:blipFill>
        <p:spPr>
          <a:xfrm>
            <a:off x="3029040" y="198108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Oorzaken van shock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Hypovolemi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te weinig ( bloed) volume in het vaatbed: bloedverlies, uitdrogin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Allergische reactie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vaatverwijding tgv histamine release, bloeddruk daalt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Septicaemi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Tgv endotoxinen vaatverwij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Cardiogene shock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): bloeddrukdaling tgv verminderde pompfunctie hart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Neurogene shock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bij stress of pijn komen endorphines vrij, die bloeddrukdaling veroorzaken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Symptomen van shock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achycardie: versnelde hartslag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wakke pols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eke slijmvliez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T verlengd ( capillary refill time)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Symptomen van shoc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pierzwakte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nelle, oppervlakkige ademhaling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ligurie / anurie: weinig of geen urineproductie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ude extremiteit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Behandeling van shock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doende ventilatie / extra zuursto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op aanwezige bloedin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ul vaatbed op met behulp van infu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( Herstel afwijkende pH en electrolytenbala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beter of stabiliseer lichaamstem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oedienen bep. Medicijnen ( cortico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loeistof 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Waarom: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HYDRA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iet alleen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vocht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tek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evens: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elektrolyt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tek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chuiving pH bal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ydratie toest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hydratie toestand kun je op 3 manieren onderzoe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a de anamne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a lichamelijk onderzo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a laboratorium onderzo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namne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t / drinkt de hond no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oe lang heeft het dier al klacht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s er sprake van braken / diar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oe oud is het di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09:54:34Z</dcterms:created>
  <dc:creator>Trix Tack</dc:creator>
  <dc:description/>
  <dc:language>en-US</dc:language>
  <cp:lastModifiedBy>Huub Hessel</cp:lastModifiedBy>
  <dcterms:modified xsi:type="dcterms:W3CDTF">2016-01-04T20:43:20Z</dcterms:modified>
  <cp:revision>32</cp:revision>
  <dc:subject/>
  <dc:title>Shock en vloeistoftherapie.</dc:title>
</cp:coreProperties>
</file>