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3044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DCBA-6FD6-44C4-A198-FF47A1774C53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BEB8-4C86-4DC3-A2E7-271A3F609EB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thoudt: Bij verschillende ziekteprocessen krijg je verschillende samenstelling van blo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9B4E-23F8-4AD2-8CD0-4C8912EF7C3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thoudt: Afhankelijk van het ziekteproces kan de beste infuusvloeistof variëren. Maar: fysiologische zoutoplossing is altijd go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8211-EC5C-455E-A386-8F90D081CD10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deze waarden kan de nierfunctie nog normaal zijn. Een verlaging van het sg en/ of een verhoging van plasma concentraties ureum en creatinine: Kan een aanwijzing zijn voor nierfal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BEF2-E1C4-4293-9F21-B618641EDA2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beeld pre renaal: uitdroging, shock. Nier krijgt domweg te weinig bloed, om urine aan te m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FE74-2D29-4EDB-9B72-5B317D25D71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ar-enteraal betekent: naast het maagdarmkanaal, dus voeding gaat niet via het maagdarmkanaal (=enteraal), maar via het bloed (of subcutaa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A39C-F2CF-45B6-8351-209329E6E37E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raal en subcutaan: bij uitgedroogd dier gaat dit (te) langzaam!!! Echter: iv prikken bij uitgedroogd dier erg last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5943-B95B-4D0F-99E0-9D4A884E0E36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le vloeistof die je intraveneus geeft: het hart moet het wel tijdig kunnen wegpompen. Bij te hoge infuussnelheid (en zeker als de nieren ook minder werken): Dan tank je het vaatbed te vol af: gaat het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erlopen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. Dit overlopen gebeurt in de longen: longoedeem m.a.g benauwdheid en zelfs stik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BEC2-3460-41A8-8D70-9E6939E6CF1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CF2-26CE-49C2-98A0-02AF8C65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A46-7033-4429-9417-C2887AC8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301-33CD-4AA7-9E1C-2406CE80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C7EC-5956-4C53-9949-79681668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874-FCA1-463B-B1B7-B2DB7994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F71A-06B0-4234-88F2-B27CE3EE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D51-7E9C-472A-8009-9707E372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7AB5-2E51-4B75-A825-F4873C92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C3C-A758-4588-B41E-67776F59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4A0B-5234-4BF8-BEE4-105E8663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CE43-E99B-404F-A5EC-6596E83A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641-9F0A-4728-A562-7777C2F3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EF1B-0708-4758-AD87-3B440936065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hock en vloeistof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ichamelijk onderzoe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urg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p liggende o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oge, rode slijmvliezen/ later bl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.g. urine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↑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;   pols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↑ ;  (T omlaa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aboratorium onderzoe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matocriet bepa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matocrie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s de verhouding tussen het bloedcelvolume en het totale bloedvolu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zoogdieren meestal rond 0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lektrolyt verandering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braken verlies van: H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Cl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diarree verlies van: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en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chron. Nierproblemen: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evt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en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hydratie typ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otone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hydratie: verlies in gelijke mate van vocht en elektroly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ypoton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dehydratie: meer electrolyten dan vocht ver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yperton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dehydratie: meer vocht dan electrolyten ver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nsequentie voor </a:t>
            </a:r>
            <a:r>
              <a:rPr b="0" lang="nl-NL" sz="3200" spc="-1" strike="noStrike">
                <a:solidFill>
                  <a:srgbClr val="ff6600"/>
                </a:solidFill>
                <a:latin typeface="Times New Roman"/>
              </a:rPr>
              <a:t>keuz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nfuus vloei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uur- base evenwic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kalose: dier verliest zuur, pH stijg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hronisch bra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idose: dier verliest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pH daa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hronische diarree, suikerziekte en nieraandoeni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paling nierfunct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ortelijk gewicht urine hoger dan 1.0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ntratie ureum in bloed: 3,0- 6,5 mmol/ l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ntratie creatinine in bloed: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≤50 + lich g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 ureum en creatinine zijn afbraakproducten,die via urine worden    uitgeschei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ierfunct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veel ureum in bloed: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Urem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voor de nieren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pre-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in de nieren: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na de nieren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post-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vullen van tekor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houdsthera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vullen verdere verliez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elke vloeistoffen zijn 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6600"/>
                </a:solidFill>
                <a:latin typeface="Times New Roman"/>
              </a:rPr>
              <a:t>Waterige elektrolyt oplossingen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6600"/>
                </a:solidFill>
                <a:latin typeface="Times New Roman"/>
              </a:rPr>
              <a:t>Parenterale voeding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sma vervangende midde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Waterige elektrolyt  oplossing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voorbe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olec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carbona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actetrol.( Ringerlactaat, Hartman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Fysiologisch zou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Wat is shock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voldoende </a:t>
            </a:r>
            <a:r>
              <a:rPr b="0" lang="nl-NL" sz="3200" spc="-1" strike="noStrike">
                <a:solidFill>
                  <a:srgbClr val="ff6600"/>
                </a:solidFill>
                <a:latin typeface="Times New Roman"/>
              </a:rPr>
              <a:t>perfusie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= doorbloeding van de weefsels. Waardoor de weefsels te weinig zuurstof krij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arenterale voed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voorbe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lucose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inosol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yn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lo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hond gaat eerste transfusie i.h.a. altijd goed (tweede niet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kat: bloedgroepen! Transfusie react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transfusies: specialistenwe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transfusie nodig bij Ht &lt; 0,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ijze van toedienen vloeist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raal: via de b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traveneus: via een 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ubcutaan: onderhu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traperitoneaal: in de buikhol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.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houds infuu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nd: 50 ml/ kg/ 24 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at:     80 ml/ kg/ 24 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akinfuus: 10 ml/ kg/ 24 u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forceerde diurese: 100 ml/ kg/ 24 uur (=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rtinfuus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waak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eveer 3 druppels per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onderhouds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druppels per minuut is d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stort 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druppels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el hond 20 kg, stort 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odig: 20*100 ml = 2000 ml infuus per 24 u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s per minuut: 2000/(24*60) = 1,4 ml/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 ml = 20 drupp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geveer 30 druppels per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RAG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herfst 2007 108"/>
          <p:cNvPicPr/>
          <p:nvPr/>
        </p:nvPicPr>
        <p:blipFill>
          <a:blip r:embed="rId1"/>
          <a:stretch/>
        </p:blipFill>
        <p:spPr>
          <a:xfrm>
            <a:off x="3029040" y="198108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Oorzaken van shock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Hypovolem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te weinig ( bloed) volume in het vaatbed: bloedverlies, uitdro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Allergische reacti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vaatverwijding tgv histamine release, bloeddruk daal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Septicaem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Tgv endotoxinen vaatverwij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Cardiogene shoc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): bloeddrukdaling tgv verminderde pompfunctie hart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Neurogene shoc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bij stress of pijn komen endorphines vrij, die bloeddrukdaling veroorzaken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Symptomen van shock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chycardie: versnelde hartslag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kke pols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eke slijmvliez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T verlengd ( capillary refill time)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Symptomen van shoc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ierzwakte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nelle, oppervlakkige ademhaling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ligurie / anurie: weinig of geen urineproductie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ude extremiteit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Behandeling van shoc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doende ventilatie / extra zuurst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p aanwezige bloedin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ul vaatbed op met behulp van infu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 Herstel afwijkende pH en electrolytenbala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beter of stabiliseer lichaamstem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oedienen bep. Medicijnen ( cortico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Waarom: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HYDRA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alleen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ch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tek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vens: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elektroly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tek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chuiving pH ba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ydratie toest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hydratie toestand kun je op 3 manieren onderzoe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de anamn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lichamelijk onderzo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laboratorium onderzo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namne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t / drinkt de hond no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 lang heeft het dier al klach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er sprake van braken / diar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 oud is het di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9:54:34Z</dcterms:created>
  <dc:creator>Trix Tack</dc:creator>
  <dc:description/>
  <dc:language>en-US</dc:language>
  <cp:lastModifiedBy>Huub Hessel</cp:lastModifiedBy>
  <dcterms:modified xsi:type="dcterms:W3CDTF">2016-01-04T20:43:20Z</dcterms:modified>
  <cp:revision>32</cp:revision>
  <dc:subject/>
  <dc:title>Shock en vloeistoftherapie.</dc:title>
</cp:coreProperties>
</file>