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7280" y="514440"/>
            <a:ext cx="343044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D5A3-F469-45D4-9DA9-ACA2AC8F2F88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77CB-443B-4ACB-BE99-6B10FCD179D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thoudt: Bij verschillende ziekteprocessen krijg je verschillende samenstelling van blo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3CEA-CCA4-40BB-8B53-96201FB3629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thoudt: Afhankelijk van het ziekteproces kan de beste infuusvloeistof variëren. Maar: fysiologische zoutoplossing is altijd go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FB0A-367C-4CAE-BE98-5E6CC9C56E0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deze waarden kan de nierfunctie nog normaal zijn. Een verlaging van het sg en/ of een verhoging van plasma concentraties ureum en creatinine: Kan een aanwijzing zijn voor nierfal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8CA2-51A9-4D7B-B160-C947D4314A61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beeld pre renaal: uitdroging, shock. Nier krijgt domweg te weinig bloed, om urine aan te m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95ED-3222-4EB1-AA38-F5566939A87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ar-enteraal betekent: naast het maagdarmkanaal, dus voeding gaat niet via het maagdarmkanaal (=enteraal), maar via het bloed (of subcutaa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0003-D697-4BC3-AD8F-8C20297E691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raal en subcutaan: bij uitgedroogd dier gaat dit (te) langzaam!!! Echter: iv prikken bij uitgedroogd dier erg last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BE06-ABE8-4C31-9F05-58B4C01254D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le vloeistof die je intraveneus geeft: het hart moet het wel tijdig kunnen wegpompen. Bij te hoge infuussnelheid (en zeker als de nieren ook minder werken): Dan tank je het vaatbed te vol af: gaat het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erlopen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. Dit overlopen gebeurt in de longen: longoedeem m.a.g benauwdheid en zelfs stik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7FA5-C747-4E05-B722-18F4F8A02EFD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C96-C477-4B6F-99DA-7625B474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37CD-D79B-4D83-849E-F34178F7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E5D2-2128-4034-A953-8A533309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0C8C-FD16-417B-B5E6-E9C0A3E3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6A2-BCFB-44F8-8602-21CF7F43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2672-D583-496A-9C0E-2D13A116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1258-A9A0-4A1D-A506-406C524C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CFD8-63A8-4C94-96CE-C1743F28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F495-69C7-4239-A6EB-5D421196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F969-C034-4322-BBA7-09FCEDB8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73C4-5625-49DA-A405-1246FF7C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4974-1670-4F5F-8173-0CF30702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CEC3-2EB3-475A-8DFC-5F3A8699DC7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hock en vloeistofthera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ichamelijk onderzoe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urg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ep liggende o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roge, rode slijmvliezen/ later bl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.g. urine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↑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;   pols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↑ ;  (T omlaa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aboratorium onderzoe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matocriet bepa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matocrie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s de verhouding tussen het bloedcelvolume en het totale bloedvolu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zoogdieren meestal rond 0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lektrolyt verandering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braken verlies van: H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Cl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diarree verlies van: 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en H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chron. Nierproblemen: 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evt 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en H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hydratie typ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otone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hydratie: verlies in gelijke mate van vocht en elektroly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ypoton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dehydratie: meer electrolyten dan vocht ver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yperton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dehydratie: meer vocht dan electrolyten ver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nsequentie voor </a:t>
            </a:r>
            <a:r>
              <a:rPr b="0" lang="nl-NL" sz="3200" spc="-1" strike="noStrike">
                <a:solidFill>
                  <a:srgbClr val="ff6600"/>
                </a:solidFill>
                <a:latin typeface="Times New Roman"/>
              </a:rPr>
              <a:t>keuz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nfuus vloei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uur- base evenwic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kalose: dier verliest zuur, pH stijg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chronisch bra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idose: dier verliest H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pH daa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chronische diarree, suikerziekte en nieraandoeni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paling nierfunct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ortelijk gewicht urine hoger dan 1.0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ntratie ureum in bloed: 3,0- 6,5 mmol/ l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ntratie creatinine in bloed: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≤50 + lich g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 ureum en creatinine zijn afbraakproducten,die via urine worden    uitgescheid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ierfunct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veel ureum in bloed: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Urem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orzaak voor de nieren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pre- rena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orzaak in de nieren: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rena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orzaak na de nieren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post- rena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loeistof thera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vullen van tekor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houdsthera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vullen verdere verliez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loeistof thera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elke vloeistoffen zijn 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6600"/>
                </a:solidFill>
                <a:latin typeface="Times New Roman"/>
              </a:rPr>
              <a:t>Waterige elektrolyt oplossingen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6600"/>
                </a:solidFill>
                <a:latin typeface="Times New Roman"/>
              </a:rPr>
              <a:t>Parenterale voeding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sma vervangende midde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Waterige elektrolyt  oplossing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voorbe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olec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carbona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actetrol.( Ringerlactaat, Hartman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Fysiologisch zou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Wat is shock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voldoende </a:t>
            </a:r>
            <a:r>
              <a:rPr b="0" lang="nl-NL" sz="3200" spc="-1" strike="noStrike">
                <a:solidFill>
                  <a:srgbClr val="ff6600"/>
                </a:solidFill>
                <a:latin typeface="Times New Roman"/>
              </a:rPr>
              <a:t>perfusie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= doorbloeding van de weefsels. Waardoor de weefsels te weinig zuurstof krij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arenterale voed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voorbe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lucose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minosol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myn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lo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hond gaat eerste transfusie i.h.a. altijd goed (tweede niet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kat: bloedgroepen! Transfusie react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transfusies: specialistenwe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transfusie nodig bij Ht &lt; 0,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ijze van toedienen vloeist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raal: via de b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traveneus: via een 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ubcutaan: onderhu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traperitoneaal: in de buikhol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.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houds infuu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nd: 50 ml/ kg/ 24 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at:     80 ml/ kg/ 24 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akinfuus: 10 ml/ kg/ 24 u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forceerde diurese: 100 ml/ kg/ 24 uur (=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ortinfuus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 hond 20 kg, waak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ml infuus nodig per 24 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ml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l = 20 drupp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eveer 3 druppels per minu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 hond 20 kg, onderhouds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ml infuus nodig per 24 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ml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druppels per minuut is d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 hond 20 kg, stort 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ml infuus nodig per 24 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ml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druppels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el hond 20 kg, stort 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odig: 20*100 ml = 2000 ml infuus per 24 u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s per minuut: 2000/(24*60) = 1,4 ml/ minu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 ml = 20 drupp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geveer 30 druppels per minu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RAG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herfst 2007 108"/>
          <p:cNvPicPr/>
          <p:nvPr/>
        </p:nvPicPr>
        <p:blipFill>
          <a:blip r:embed="rId1"/>
          <a:stretch/>
        </p:blipFill>
        <p:spPr>
          <a:xfrm>
            <a:off x="3029040" y="198108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Oorzaken van shock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Hypovolemi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te weinig ( bloed) volume in het vaatbed: bloedverlies, uitdrog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Allergische reactie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vaatverwijding tgv histamine release, bloeddruk daal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Septicaemi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Tgv endotoxinen vaatverwij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Cardiogene shoc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): bloeddrukdaling tgv verminderde pompfunctie hart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Neurogene shoc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bij stress of pijn komen endorphines vrij, die bloeddrukdaling veroorzaken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Symptomen van shock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chycardie: versnelde hartslag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kke pols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eke slijmvliez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T verlengd ( capillary refill time)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Symptomen van shoc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ierzwakte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nelle, oppervlakkige ademhaling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ligurie / anurie: weinig of geen urineproductie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ude extremiteit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Behandeling van shoc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doende ventilatie / extra zuursto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op aanwezige bloedin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ul vaatbed op met behulp van infu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 Herstel afwijkende pH en electrolytenbala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beter of stabiliseer lichaamstem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oedienen bep. Medicijnen ( cortico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loeistof 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Waarom: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HYDRA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alleen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och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tek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vens: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elektroly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tek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chuiving pH bal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ydratie toest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hydratie toestand kun je op 3 manieren onderzoe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de anamne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lichamelijk onderzo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laboratorium onderzo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namne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t / drinkt de hond no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e lang heeft het dier al klach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 er sprake van braken / diar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e oud is het di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9:54:34Z</dcterms:created>
  <dc:creator>Trix Tack</dc:creator>
  <dc:description/>
  <dc:language>en-US</dc:language>
  <cp:lastModifiedBy>Huub Hessel</cp:lastModifiedBy>
  <dcterms:modified xsi:type="dcterms:W3CDTF">2016-01-04T20:43:20Z</dcterms:modified>
  <cp:revision>32</cp:revision>
  <dc:subject/>
  <dc:title>Shock en vloeistoftherapie.</dc:title>
</cp:coreProperties>
</file>