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46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33640" y="-360"/>
            <a:ext cx="43102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57280" y="514440"/>
            <a:ext cx="343044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33640" y="6513120"/>
            <a:ext cx="43102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112E-FF29-4545-9376-B7F773D7C852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7DC7-ACF1-44E9-A079-38D3A211E794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nthoudt: Bij verschillende ziekteprocessen krijg je verschillende samenstelling van blo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95FA-315D-456E-B74C-60CBC769D16A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nthoudt: Afhankelijk van het ziekteproces kan de beste infuusvloeistof variëren. Maar: fysiologische zoutoplossing is altijd go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7225-434D-4520-B64D-77B388CC1F71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ij deze waarden kan de nierfunctie nog normaal zijn. Een verlaging van het sg en/ of een verhoging van plasma concentraties ureum en creatinine: Kan een aanwijzing zijn voor nierfal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C35D-250D-44C4-8A5A-9CE9EF0584FD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beeld pre renaal: uitdroging, shock. Nier krijgt domweg te weinig bloed, om urine aan te ma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BC31-5BAB-4D54-883E-773255C3587F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Par-enteraal betekent: naast het maagdarmkanaal, dus voeding gaat niet via het maagdarmkanaal (=enteraal), maar via het bloed (of subcutaa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1670-12A7-4432-86A5-9B7604EA6C50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raal en subcutaan: bij uitgedroogd dier gaat dit (te) langzaam!!! Echter: iv prikken bij uitgedroogd dier erg last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7339-2213-4436-87E9-A01B169C36E4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lle vloeistof die je intraveneus geeft: het hart moet het wel tijdig kunnen wegpompen. Bij te hoge infuussnelheid (en zeker als de nieren ook minder werken): Dan tank je het vaatbed te vol af: gaat het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erlopen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. Dit overlopen gebeurt in de longen: longoedeem m.a.g benauwdheid en zelfs stik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42CC-B776-4FB3-A2CA-71A2A1EBEB67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793D-0BF3-4595-A3EC-16623571B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EDEB-424D-4D26-AA95-69B035FE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35B8-3AB7-42C9-9625-A079A0AD8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BD8B-89C0-49C9-9BB0-6446643CE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1914-5D95-4BF7-BF40-65F7D18B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4B35-6D51-433B-96DD-D53C3015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3A06-5747-4466-8FE2-B5613640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025A-566D-4CD4-9270-57914A92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11A7-56E4-4CCA-890A-903F15CF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3C1C-A0F1-4FA9-9D59-AC2C416B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3585-FE98-4792-BEF7-010591F3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58D1-F012-47D6-B947-84BBB51E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BE67-1FDF-4E7B-81DB-6EA3E960129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hock en vloeistoftherap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ichamelijk onderzoek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urg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ep liggende o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roge, rode slijmvliezen/ later bl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.g. urine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↑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;   pols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↑ ;  (T omlaa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aboratorium onderzoek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matocriet bepa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1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hematocriet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is de verhouding tussen het bloedcelvolume en het totale bloedvolu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zoogdieren meestal rond 0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Elektrolyt verandering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braken verlies van: H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, Na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, Cl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diarree verlies van: Na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en HCO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chron. Nierproblemen: Na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, evt K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en HCO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ehydratie typ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Isotone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hydratie: verlies in gelijke mate van vocht en elektroly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Hypoton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dehydratie: meer electrolyten dan vocht verl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Hyperton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dehydratie: meer vocht dan electrolyten verl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onsequentie voor </a:t>
            </a:r>
            <a:r>
              <a:rPr b="0" lang="nl-NL" sz="3200" spc="-1" strike="noStrike">
                <a:solidFill>
                  <a:srgbClr val="ff6600"/>
                </a:solidFill>
                <a:latin typeface="Times New Roman"/>
              </a:rPr>
              <a:t>keuz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infuus vloeistof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uur- base evenwich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kalose: dier verliest zuur, pH stijg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1480" indent="-20556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j chronisch bra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cidose: dier verliest HCO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, pH daa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1480" indent="-20556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j chronische diarree, suikerziekte en nieraandoenin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epaling nierfunct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oortelijk gewicht urine hoger dan 1.0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ncentratie ureum in bloed: 3,0- 6,5 mmol/ l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ncentratie creatinine in bloed: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≤50 + lich g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 ureum en creatinine zijn afbraakproducten,die via urine worden    uitgescheid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Nierfunct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eveel ureum in bloed: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Urem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orzaak voor de nieren: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pre- rena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orzaak in de nieren: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rena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orzaak na de nieren: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post- rena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loeistof therap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o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anvullen van tekor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derhoudstherap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anvullen verdere verliez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loeistof therap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elke vloeistoffen zijn 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6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6600"/>
                </a:solidFill>
                <a:latin typeface="Times New Roman"/>
              </a:rPr>
              <a:t>Waterige elektrolyt oplossingen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6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6600"/>
                </a:solidFill>
                <a:latin typeface="Times New Roman"/>
              </a:rPr>
              <a:t>Parenterale voedinge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lasma vervangende midde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Waterige elektrolyt  oplossing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voorbee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solectr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carbona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actetrol.( Ringerlactaat, Hartman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Fysiologisch zout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Times New Roman"/>
              </a:rPr>
              <a:t>Wat is shock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voldoende </a:t>
            </a:r>
            <a:r>
              <a:rPr b="0" lang="nl-NL" sz="3200" spc="-1" strike="noStrike">
                <a:solidFill>
                  <a:srgbClr val="ff6600"/>
                </a:solidFill>
                <a:latin typeface="Times New Roman"/>
              </a:rPr>
              <a:t>perfusie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= doorbloeding van de weefsels. Waardoor de weefsels te weinig zuurstof krij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arenterale voed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voorbee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lucose 3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minosol 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myn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lo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hond gaat eerste transfusie i.h.a. altijd goed (tweede niet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kat: bloedgroepen! Transfusie react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edtransfusies: specialistenwe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edtransfusie nodig bij Ht &lt; 0,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Wijze van toedienen vloeist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raal: via de b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traveneus: via een a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ubcutaan: onderhui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traperitoneaal: in de buikhol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oedieningssnelheid.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derhouds infuu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ond: 50 ml/ kg/ 24 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at:     80 ml/ kg/ 24 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akinfuus: 10 ml/ kg/ 24 u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forceerde diurese: 100 ml/ kg/ 24 uur (=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tortinfuus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oedieningssnelheid 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l hond 20 kg, waakinfu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veel ml infuus nodig per 24 u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s hoeveel ml per minu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ml = 20 drupp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geveer 3 druppels per minu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oedieningssnelheid 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l hond 20 kg, onderhoudsinfu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veel ml infuus nodig per 24 u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s hoeveel ml per minu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ml = 20 drupp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veel druppels per minuut is d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oedieningssnelheid 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l hond 20 kg, stort infu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veel ml infuus nodig per 24 u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s hoeveel ml per minu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ml = 20 drupp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s hoeveel druppels per minu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oedieningssnelheid 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tel hond 20 kg, stort infu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odig: 20*100 ml = 2000 ml infuus per 24 u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us per minuut: 2000/(24*60) = 1,4 ml/ minu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1 ml = 20 drupp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geveer 30 druppels per minu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RAGE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herfst 2007 108"/>
          <p:cNvPicPr/>
          <p:nvPr/>
        </p:nvPicPr>
        <p:blipFill>
          <a:blip r:embed="rId1"/>
          <a:stretch/>
        </p:blipFill>
        <p:spPr>
          <a:xfrm>
            <a:off x="3029040" y="1981080"/>
            <a:ext cx="30859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Times New Roman"/>
              </a:rPr>
              <a:t>Oorzaken van shock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Hypovolemi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 te weinig ( bloed) volume in het vaatbed: bloedverlies, uitdrogin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Allergische reactie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 vaatverwijding tgv histamine release, bloeddruk daalt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Septicaemi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 Tgv endotoxinen vaatverwij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Cardiogene shock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): bloeddrukdaling tgv verminderde pompfunctie hart.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Neurogene shock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 bij stress of pijn komen endorphines vrij, die bloeddrukdaling veroorzaken.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Times New Roman"/>
              </a:rPr>
              <a:t>Symptomen van shock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achycardie: versnelde hartslag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wakke pols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eke slijmvliezen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T verlengd ( capillary refill time)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Symptomen van shoc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pierzwakte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nelle, oppervlakkige ademhaling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ligurie / anurie: weinig of geen urineproductie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oude extremiteiten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Times New Roman"/>
              </a:rPr>
              <a:t>Behandeling van shock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ldoende ventilatie / extra zuursto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top aanwezige bloedin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ul vaatbed op met behulp van infu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( Herstel afwijkende pH en electrolytenbala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beter of stabiliseer lichaamstem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oedienen bep. Medicijnen ( cortico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loeistof thera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Waarom: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HYDRAT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iet alleen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vocht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tek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evens: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elektrolyt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tek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chuiving pH bal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ydratie toest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hydratie toestand kun je op 3 manieren onderzoe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ia de anamne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ia lichamelijk onderzo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ia laboratorium onderzo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Anamne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et / drinkt de hond no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oe lang heeft het dier al klacht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s er sprake van braken / diar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oe oud is het di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09:54:34Z</dcterms:created>
  <dc:creator>Trix Tack</dc:creator>
  <dc:description/>
  <dc:language>en-US</dc:language>
  <cp:lastModifiedBy>Huub Hessel</cp:lastModifiedBy>
  <dcterms:modified xsi:type="dcterms:W3CDTF">2016-01-04T20:43:20Z</dcterms:modified>
  <cp:revision>32</cp:revision>
  <dc:subject/>
  <dc:title>Shock en vloeistoftherapie.</dc:title>
</cp:coreProperties>
</file>