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3044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2934-EB61-453E-A068-782F219E2D1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F396-C914-4FEC-83F0-DA105E7702A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Bij verschillende ziekteprocessen krijg je verschillende samenstelling van blo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2EBA-2920-4CD5-828D-01BC8575ED0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Afhankelijk van het ziekteproces kan de beste infuusvloeistof variëren. Maar: fysiologische zoutoplossing is altijd go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9A3D-1F7C-4B67-8C87-B8A68FF5BC8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ze waarden kan de nierfunctie nog normaal zijn. Een verlaging van het sg en/ of een verhoging van plasma concentraties ureum en creatinine: Kan een aanwijzing zijn voor nierfa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1543-5959-4CFD-AD53-BE0144DEA00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pre renaal: uitdroging, shock. Nier krijgt domweg te weinig bloed, om urine aan te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BA7E-CDF6-4ECB-AFEE-3D08A362433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ar-enteraal betekent: naast het maagdarmkanaal, dus voeding gaat niet via het maagdarmkanaal (=enteraal), maar via het bloed (of subcuta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FBCE-87D5-4DAC-963E-11D733E2000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raal en subcutaan: bij uitgedroogd dier gaat dit (te) langzaam!!! Echter: iv prikken bij uitgedroogd dier erg last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0AF0-B135-49BF-9A07-F52DB5E8A06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le vloeistof die je intraveneus geeft: het hart moet het wel tijdig kunnen wegpompen. Bij te hoge infuussnelheid (en zeker als de nieren ook minder werken): Dan tank je het vaatbed te vol af: gaat het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lope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. Dit overlopen gebeurt in de longen: longoedeem m.a.g benauwdheid en zelfs stik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530B-4BDA-407A-803C-5FD4A43C32D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42C-96D7-4DF5-AE8A-F93898AC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1D2-F943-49B8-AAD8-9DC7DE4F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379-5C74-4C19-99F3-E44E4776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FF0-AE0B-49F3-98AD-FFB81834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F78-FEE4-4EE3-BA33-57BA4AB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731-40EC-44E3-B283-97CD6DFD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B16-A67B-4109-A605-02C60504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978-1813-4E3C-9B1A-0DCB274D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EBA-60B2-471E-966F-62481959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297-3643-4224-81F0-84EF99BB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D59-EADE-4C60-AAF7-713245D3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1E7-91ED-4D8D-8F33-1EC01D45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4D90-EF84-44AE-9F87-EE5A9A02A28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hock en vloeistof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chamelijk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rg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p liggende 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oge, rode slijmvliezen/ later bl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.g. urin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;   pol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 ;  (T omla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aboratorium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matocriet bep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matocrie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s de verhouding tussen het bloedcelvolume en het totale bloed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zoogdieren meestal rond 0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lyt verandering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braken verlies van: H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diarree verlies va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chron. Nierprobleme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evt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hydratie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tone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: verlies in gelijke mate van vocht en elektroly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o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electrolyten dan vocht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er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vocht dan electrolyten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quentie voor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keuz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fuus vloei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uur- base evenwi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kalose: dier verliest zuur, pH stijg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 br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idose: dier verliest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pH da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e diarree, suikerziekte en nieraandoen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paling 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ortelijk gewicht urine hoger dan 1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ureum in bloed: 3,0- 6,5 mmol/ l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creatinine in bloed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≤50 + lich g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 ureum en creatinine zijn afbraakproducten,die via urine worden    uitgeschei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veel ureum in bloed: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Ure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voor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re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in de nieren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na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ost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an tekor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thera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erdere verliez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lke vloeistoffen zijn 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Waterige elektrolyt oplossingen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Parenterale voedin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sma vervangende 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erige elektrolyt  oplossin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olec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carbona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ctetrol.( Ringerlactaat, Hart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ysiologisch zou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Wat is shock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voldoende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perfusi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doorbloeding van de weefsels. Waardoor de weefsels te weinig zuurstof krij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renterale voe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lucose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inosol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hond gaat eerste transfusie i.h.a. altijd goed (tweede nie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kat: bloedgroepen! Transfusie react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s: specialistenw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 nodig bij Ht &lt; 0,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ijze van toedienen vloeist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aal: via de b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veneus: via een 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ubcutaan: onderh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peritoneaal: in de buikhol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.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 infu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d: 5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t:     8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kinfuus: 10 ml/ kg/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forceerde diurese: 100 ml/ kg/ 24 uur (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rtinfuu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waak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veer 3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onderhouds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druppels per minuut is d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druppels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dig: 20*100 ml = 2000 ml infuus per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per minuut: 2000/(24*60) = 1,4 ml/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eveer 30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herfst 2007 108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Oorzaken van shock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ypovol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e weinig ( bloed) volume in het vaatbed: bloedverlies, uitdro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Allergische reacti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vaatverwijding tgv histamine release, bloeddruk daal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eptica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gv endotoxinen vaatverwij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Cardi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: bloeddrukdaling tgv verminderde pompfunctie hart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eur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ij stress of pijn komen endorphines vrij, die bloeddrukdaling veroorzaken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chycardie: versnelde hartsla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kke pol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eke slijmvliez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T verlengd ( capillary refill time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ierzwakt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nelle, oppervlakkige ademhalin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urie / anurie: weinig of geen urineproducti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ude extremiteit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Behandeling van sho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ventilatie / extra zuur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aanwezige bloedi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ul vaatbed op met behulp van infu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 Herstel afwijkende pH en electrolytenbal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beter of stabiliseer lichaamste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dienen bep. Medicijnen ( cortico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aarom: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alleen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vens: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lektroly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chuiving pH ba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dratie toe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hydratie toestand kun je op 3 manieren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anam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ichamelijk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aboratorium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amne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t / drinkt de hond n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lang heeft het dier al klach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er sprake van braken / diar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oud is het d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9:54:34Z</dcterms:created>
  <dc:creator>Trix Tack</dc:creator>
  <dc:description/>
  <dc:language>en-US</dc:language>
  <cp:lastModifiedBy>Huub Hessel</cp:lastModifiedBy>
  <dcterms:modified xsi:type="dcterms:W3CDTF">2016-01-04T20:43:20Z</dcterms:modified>
  <cp:revision>32</cp:revision>
  <dc:subject/>
  <dc:title>Shock en vloeistoftherapie.</dc:title>
</cp:coreProperties>
</file>