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2619F-A339-41CE-9E4B-4E28CB6C2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7E1FC-C199-4680-99AF-EE26B90F1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FC40D-0110-453C-99E7-64C49AF7E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DB0A9-CE90-46A6-84B6-140EF7765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2B07B-B50E-40A2-94C1-79A48C60F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9B3B9-0168-4F71-BCAF-BEDCA3A05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3C506-1A40-4564-8456-E49A3F75E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43EF3-7390-4291-A8C4-19B8303B2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C5D3E-1789-4931-9D67-7F31041D0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49240-1A06-42DD-B737-016A0DFC7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16E3B-4578-4FE1-8E09-63DD78193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861D2-5671-48C9-8BE5-BB0094335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FA1CF-ABB3-4B8A-A12E-F0848834E58E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kstvak 6"/>
          <p:cNvSpPr/>
          <p:nvPr/>
        </p:nvSpPr>
        <p:spPr>
          <a:xfrm>
            <a:off x="2201040" y="3100320"/>
            <a:ext cx="132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alibri"/>
                <a:ea typeface="Arial"/>
              </a:rPr>
              <a:t>Ademhal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kstvak 7"/>
          <p:cNvSpPr/>
          <p:nvPr/>
        </p:nvSpPr>
        <p:spPr>
          <a:xfrm>
            <a:off x="4791240" y="3100320"/>
            <a:ext cx="135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alibri"/>
                <a:ea typeface="Arial"/>
              </a:rPr>
              <a:t>Verbrand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3" name="Rechte verbindingslijn met pijl 9"/>
          <p:cNvCxnSpPr>
            <a:endCxn id="44" idx="0"/>
          </p:cNvCxnSpPr>
          <p:nvPr/>
        </p:nvCxnSpPr>
        <p:spPr>
          <a:xfrm>
            <a:off x="5579640" y="3514320"/>
            <a:ext cx="720" cy="1832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44" name="Tekstvak 14"/>
          <p:cNvSpPr/>
          <p:nvPr/>
        </p:nvSpPr>
        <p:spPr>
          <a:xfrm>
            <a:off x="4413240" y="5346720"/>
            <a:ext cx="23335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Brandstof =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Energierijke organische stof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5" name="Rechte verbindingslijn met pijl 16"/>
          <p:cNvCxnSpPr>
            <a:endCxn id="46" idx="1"/>
          </p:cNvCxnSpPr>
          <p:nvPr/>
        </p:nvCxnSpPr>
        <p:spPr>
          <a:xfrm flipV="1">
            <a:off x="6516720" y="5256720"/>
            <a:ext cx="648720" cy="147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" name="Rechte verbindingslijn met pijl 19"/>
          <p:cNvCxnSpPr/>
          <p:nvPr/>
        </p:nvCxnSpPr>
        <p:spPr>
          <a:xfrm>
            <a:off x="6516720" y="5532120"/>
            <a:ext cx="54360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8" name="Rechte verbindingslijn met pijl 24"/>
          <p:cNvCxnSpPr/>
          <p:nvPr/>
        </p:nvCxnSpPr>
        <p:spPr>
          <a:xfrm>
            <a:off x="6534000" y="5676840"/>
            <a:ext cx="526320" cy="17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46" name="Tekstvak 27"/>
          <p:cNvSpPr/>
          <p:nvPr/>
        </p:nvSpPr>
        <p:spPr>
          <a:xfrm>
            <a:off x="7165080" y="5126040"/>
            <a:ext cx="973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Auto: benzin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kstvak 28"/>
          <p:cNvSpPr/>
          <p:nvPr/>
        </p:nvSpPr>
        <p:spPr>
          <a:xfrm>
            <a:off x="7159320" y="5430960"/>
            <a:ext cx="1044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Kaars: kaarsve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kstvak 29"/>
          <p:cNvSpPr/>
          <p:nvPr/>
        </p:nvSpPr>
        <p:spPr>
          <a:xfrm>
            <a:off x="7063920" y="5676840"/>
            <a:ext cx="1296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Organisme: glucos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Rechte verbindingslijn met pijl 33"/>
          <p:cNvCxnSpPr>
            <a:endCxn id="52" idx="2"/>
          </p:cNvCxnSpPr>
          <p:nvPr/>
        </p:nvCxnSpPr>
        <p:spPr>
          <a:xfrm flipV="1">
            <a:off x="5580000" y="1913040"/>
            <a:ext cx="704520" cy="1187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2" name="Tekstvak 38"/>
          <p:cNvSpPr/>
          <p:nvPr/>
        </p:nvSpPr>
        <p:spPr>
          <a:xfrm>
            <a:off x="5959800" y="1636560"/>
            <a:ext cx="64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  <a:ea typeface="Arial"/>
              </a:rPr>
              <a:t>Energi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3" name="Rechte verbindingslijn met pijl 40"/>
          <p:cNvCxnSpPr/>
          <p:nvPr/>
        </p:nvCxnSpPr>
        <p:spPr>
          <a:xfrm flipV="1">
            <a:off x="6673320" y="1280520"/>
            <a:ext cx="483480" cy="42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Rechte verbindingslijn met pijl 44"/>
          <p:cNvCxnSpPr/>
          <p:nvPr/>
        </p:nvCxnSpPr>
        <p:spPr>
          <a:xfrm>
            <a:off x="6707160" y="1884240"/>
            <a:ext cx="634320" cy="240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5" name="Rechte verbindingslijn met pijl 47"/>
          <p:cNvCxnSpPr>
            <a:endCxn id="56" idx="1"/>
          </p:cNvCxnSpPr>
          <p:nvPr/>
        </p:nvCxnSpPr>
        <p:spPr>
          <a:xfrm flipV="1">
            <a:off x="6727320" y="1640520"/>
            <a:ext cx="577080" cy="161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7" name="Tekstvak 52"/>
          <p:cNvSpPr/>
          <p:nvPr/>
        </p:nvSpPr>
        <p:spPr>
          <a:xfrm>
            <a:off x="7158240" y="1109520"/>
            <a:ext cx="452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Lich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kstvak 53"/>
          <p:cNvSpPr/>
          <p:nvPr/>
        </p:nvSpPr>
        <p:spPr>
          <a:xfrm>
            <a:off x="7304040" y="1509840"/>
            <a:ext cx="9525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Warmt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kstvak 54"/>
          <p:cNvSpPr/>
          <p:nvPr/>
        </p:nvSpPr>
        <p:spPr>
          <a:xfrm>
            <a:off x="7275240" y="1969920"/>
            <a:ext cx="7340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Bewegin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kstvak 61"/>
          <p:cNvSpPr/>
          <p:nvPr/>
        </p:nvSpPr>
        <p:spPr>
          <a:xfrm>
            <a:off x="6419880" y="3754440"/>
            <a:ext cx="2423880" cy="45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         </a:t>
            </a: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Reactievergelijking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C</a:t>
            </a:r>
            <a:r>
              <a:rPr b="0" lang="nl-NL" sz="11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6</a:t>
            </a: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H</a:t>
            </a:r>
            <a:r>
              <a:rPr b="0" lang="nl-NL" sz="11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12</a:t>
            </a: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O</a:t>
            </a:r>
            <a:r>
              <a:rPr b="0" lang="nl-NL" sz="11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6</a:t>
            </a: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 + 6O</a:t>
            </a:r>
            <a:r>
              <a:rPr b="0" lang="nl-NL" sz="11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  </a:t>
            </a:r>
            <a:r>
              <a:rPr b="0" lang="nl-NL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1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  </a:t>
            </a: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6CO</a:t>
            </a:r>
            <a:r>
              <a:rPr b="0" lang="nl-NL" sz="11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 + 6H</a:t>
            </a:r>
            <a:r>
              <a:rPr b="0" lang="nl-NL" sz="11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O + energi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0" name="Rechte verbindingslijn met pijl 81"/>
          <p:cNvCxnSpPr/>
          <p:nvPr/>
        </p:nvCxnSpPr>
        <p:spPr>
          <a:xfrm>
            <a:off x="6156000" y="3284280"/>
            <a:ext cx="1477080" cy="470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1" name="Rechte verbindingslijn met pijl 86"/>
          <p:cNvCxnSpPr>
            <a:endCxn id="42" idx="1"/>
          </p:cNvCxnSpPr>
          <p:nvPr/>
        </p:nvCxnSpPr>
        <p:spPr>
          <a:xfrm>
            <a:off x="3634920" y="3284280"/>
            <a:ext cx="1156680" cy="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62" name="Rechte verbindingslijn met pijl 90"/>
          <p:cNvCxnSpPr/>
          <p:nvPr/>
        </p:nvCxnSpPr>
        <p:spPr>
          <a:xfrm flipH="1">
            <a:off x="4711320" y="3490920"/>
            <a:ext cx="529200" cy="327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3" name="Rechte verbindingslijn met pijl 93"/>
          <p:cNvCxnSpPr/>
          <p:nvPr/>
        </p:nvCxnSpPr>
        <p:spPr>
          <a:xfrm>
            <a:off x="3078000" y="3470400"/>
            <a:ext cx="457920" cy="326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4" name="Tekstvak 95"/>
          <p:cNvSpPr/>
          <p:nvPr/>
        </p:nvSpPr>
        <p:spPr>
          <a:xfrm>
            <a:off x="3668760" y="3681360"/>
            <a:ext cx="907560" cy="45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Afvalstoffe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CO</a:t>
            </a:r>
            <a:r>
              <a:rPr b="0" lang="nl-NL" sz="11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 + H</a:t>
            </a:r>
            <a:r>
              <a:rPr b="0" lang="nl-NL" sz="11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O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5" name="Rechte verbindingslijn met pijl 97"/>
          <p:cNvCxnSpPr>
            <a:stCxn id="41" idx="2"/>
          </p:cNvCxnSpPr>
          <p:nvPr/>
        </p:nvCxnSpPr>
        <p:spPr>
          <a:xfrm>
            <a:off x="2861280" y="3468600"/>
            <a:ext cx="673920" cy="12373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6" name="Tekstvak 99"/>
          <p:cNvSpPr/>
          <p:nvPr/>
        </p:nvSpPr>
        <p:spPr>
          <a:xfrm>
            <a:off x="608040" y="4556160"/>
            <a:ext cx="1482840" cy="45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CO</a:t>
            </a:r>
            <a:r>
              <a:rPr b="0" lang="nl-NL" sz="11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 indicator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helder kalkwater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ekstvak 100"/>
          <p:cNvSpPr/>
          <p:nvPr/>
        </p:nvSpPr>
        <p:spPr>
          <a:xfrm>
            <a:off x="480600" y="2205000"/>
            <a:ext cx="13341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Ingeademde luch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20% O</a:t>
            </a:r>
            <a:r>
              <a:rPr b="0" lang="nl-NL" sz="11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 + 0,04% CO</a:t>
            </a:r>
            <a:r>
              <a:rPr b="0" lang="nl-NL" sz="11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en kouder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kstvak 101"/>
          <p:cNvSpPr/>
          <p:nvPr/>
        </p:nvSpPr>
        <p:spPr>
          <a:xfrm>
            <a:off x="472680" y="3500280"/>
            <a:ext cx="13053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Uitgeademde luch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16% O</a:t>
            </a:r>
            <a:r>
              <a:rPr b="0" lang="nl-NL" sz="11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 + 4% CO</a:t>
            </a:r>
            <a:r>
              <a:rPr b="0" lang="nl-NL" sz="11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en warmer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9" name="Rechte verbindingslijn met pijl 103"/>
          <p:cNvCxnSpPr>
            <a:endCxn id="68" idx="3"/>
          </p:cNvCxnSpPr>
          <p:nvPr/>
        </p:nvCxnSpPr>
        <p:spPr>
          <a:xfrm flipH="1">
            <a:off x="1778040" y="3573360"/>
            <a:ext cx="417600" cy="236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0" name="Rechte verbindingslijn met pijl 108"/>
          <p:cNvCxnSpPr/>
          <p:nvPr/>
        </p:nvCxnSpPr>
        <p:spPr>
          <a:xfrm flipH="1" flipV="1">
            <a:off x="1979280" y="2781000"/>
            <a:ext cx="480240" cy="319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1" name="Rechte verbindingslijn met pijl 116"/>
          <p:cNvCxnSpPr/>
          <p:nvPr/>
        </p:nvCxnSpPr>
        <p:spPr>
          <a:xfrm flipH="1">
            <a:off x="1687320" y="3543120"/>
            <a:ext cx="869040" cy="101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2" name="Tekstvak 117"/>
          <p:cNvSpPr/>
          <p:nvPr/>
        </p:nvSpPr>
        <p:spPr>
          <a:xfrm>
            <a:off x="4820040" y="1943280"/>
            <a:ext cx="95328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Warmbloedi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of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koudbloedi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Rechte verbindingslijn met pijl 119"/>
          <p:cNvCxnSpPr>
            <a:stCxn id="42" idx="0"/>
            <a:endCxn id="72" idx="2"/>
          </p:cNvCxnSpPr>
          <p:nvPr/>
        </p:nvCxnSpPr>
        <p:spPr>
          <a:xfrm flipH="1" flipV="1">
            <a:off x="5296680" y="2539440"/>
            <a:ext cx="174240" cy="561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4" name="Tekstvak 124"/>
          <p:cNvSpPr/>
          <p:nvPr/>
        </p:nvSpPr>
        <p:spPr>
          <a:xfrm>
            <a:off x="3317760" y="4654440"/>
            <a:ext cx="123984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Sporte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Meer verbranden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Sneller ademhalen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5" name="Rechte verbindingslijn met pijl 129"/>
          <p:cNvCxnSpPr>
            <a:stCxn id="42" idx="2"/>
          </p:cNvCxnSpPr>
          <p:nvPr/>
        </p:nvCxnSpPr>
        <p:spPr>
          <a:xfrm flipH="1">
            <a:off x="4412520" y="3468600"/>
            <a:ext cx="1058400" cy="1203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Rechte verbindingslijn met pijl 137"/>
          <p:cNvCxnSpPr/>
          <p:nvPr/>
        </p:nvCxnSpPr>
        <p:spPr>
          <a:xfrm flipH="1">
            <a:off x="2410560" y="3543480"/>
            <a:ext cx="297720" cy="16149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Tekstvak 142"/>
          <p:cNvSpPr/>
          <p:nvPr/>
        </p:nvSpPr>
        <p:spPr>
          <a:xfrm>
            <a:off x="1835280" y="5229360"/>
            <a:ext cx="12240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Gaswisseling in longblaasje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8" name="Rechte verbindingslijn met pijl 155"/>
          <p:cNvCxnSpPr/>
          <p:nvPr/>
        </p:nvCxnSpPr>
        <p:spPr>
          <a:xfrm flipH="1" flipV="1">
            <a:off x="2017440" y="1878840"/>
            <a:ext cx="614880" cy="1159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9" name="Tekstvak 157"/>
          <p:cNvSpPr/>
          <p:nvPr/>
        </p:nvSpPr>
        <p:spPr>
          <a:xfrm>
            <a:off x="1004400" y="1530360"/>
            <a:ext cx="201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alibri"/>
                <a:ea typeface="Arial"/>
              </a:rPr>
              <a:t>Ademhalingsstels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0" name="Rechte verbindingslijn met pijl 159"/>
          <p:cNvCxnSpPr/>
          <p:nvPr/>
        </p:nvCxnSpPr>
        <p:spPr>
          <a:xfrm flipV="1">
            <a:off x="1957320" y="1158120"/>
            <a:ext cx="300600" cy="400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1" name="Rechte verbindingslijn met pijl 163"/>
          <p:cNvCxnSpPr/>
          <p:nvPr/>
        </p:nvCxnSpPr>
        <p:spPr>
          <a:xfrm flipH="1" flipV="1">
            <a:off x="828000" y="1213920"/>
            <a:ext cx="346680" cy="334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2" name="Rechte verbindingslijn met pijl 166"/>
          <p:cNvCxnSpPr/>
          <p:nvPr/>
        </p:nvCxnSpPr>
        <p:spPr>
          <a:xfrm flipV="1">
            <a:off x="1480680" y="1152000"/>
            <a:ext cx="1080" cy="378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3" name="Tekstvak 173"/>
          <p:cNvSpPr/>
          <p:nvPr/>
        </p:nvSpPr>
        <p:spPr>
          <a:xfrm>
            <a:off x="334440" y="770040"/>
            <a:ext cx="52200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Neu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Mond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Keel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kstvak 174"/>
          <p:cNvSpPr/>
          <p:nvPr/>
        </p:nvSpPr>
        <p:spPr>
          <a:xfrm>
            <a:off x="1022760" y="687240"/>
            <a:ext cx="9169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Hui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Strotteklepj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kstvak 175"/>
          <p:cNvSpPr/>
          <p:nvPr/>
        </p:nvSpPr>
        <p:spPr>
          <a:xfrm>
            <a:off x="1999080" y="317520"/>
            <a:ext cx="104184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Luchtpijp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Bronchiën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Luchtpijptakje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Longblaasje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6" name="Rechte verbindingslijn met pijl 177"/>
          <p:cNvCxnSpPr/>
          <p:nvPr/>
        </p:nvCxnSpPr>
        <p:spPr>
          <a:xfrm flipV="1">
            <a:off x="2631960" y="1056960"/>
            <a:ext cx="675360" cy="501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7" name="Tekstvak 180"/>
          <p:cNvSpPr/>
          <p:nvPr/>
        </p:nvSpPr>
        <p:spPr>
          <a:xfrm>
            <a:off x="3203280" y="411120"/>
            <a:ext cx="80100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Neusharen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Slijmvlie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Trilharen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8" name="Rechte verbindingslijn met pijl 184"/>
          <p:cNvCxnSpPr/>
          <p:nvPr/>
        </p:nvCxnSpPr>
        <p:spPr>
          <a:xfrm flipV="1">
            <a:off x="3075120" y="1415160"/>
            <a:ext cx="560880" cy="189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9" name="Rechthoek 188"/>
          <p:cNvSpPr/>
          <p:nvPr/>
        </p:nvSpPr>
        <p:spPr>
          <a:xfrm>
            <a:off x="3527280" y="1174680"/>
            <a:ext cx="11304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Strottehoofd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Stembanden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Rechte verbindingslijn met pijl 192"/>
          <p:cNvCxnSpPr>
            <a:endCxn id="91" idx="1"/>
          </p:cNvCxnSpPr>
          <p:nvPr/>
        </p:nvCxnSpPr>
        <p:spPr>
          <a:xfrm>
            <a:off x="3059280" y="1844280"/>
            <a:ext cx="470520" cy="28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1" name="Tekstvak 194"/>
          <p:cNvSpPr/>
          <p:nvPr/>
        </p:nvSpPr>
        <p:spPr>
          <a:xfrm>
            <a:off x="3529440" y="1741320"/>
            <a:ext cx="8420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Reukzintui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2" name="Rechte verbindingslijn met pijl 200"/>
          <p:cNvCxnSpPr/>
          <p:nvPr/>
        </p:nvCxnSpPr>
        <p:spPr>
          <a:xfrm>
            <a:off x="2555640" y="1912680"/>
            <a:ext cx="294120" cy="330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3" name="Tekstvak 202"/>
          <p:cNvSpPr/>
          <p:nvPr/>
        </p:nvSpPr>
        <p:spPr>
          <a:xfrm>
            <a:off x="2890080" y="2101680"/>
            <a:ext cx="101736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Ziekte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Astma - COPD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Taaislijmziekt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kstvak 203"/>
          <p:cNvSpPr/>
          <p:nvPr/>
        </p:nvSpPr>
        <p:spPr>
          <a:xfrm>
            <a:off x="4797360" y="333360"/>
            <a:ext cx="264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Mindma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Ademhaling - verbrand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Afbeelding 22" descr="http://rinusrunning.punt.nl/upload/hardlopen_cartoon.jpg"/>
          <p:cNvPicPr/>
          <p:nvPr/>
        </p:nvPicPr>
        <p:blipFill>
          <a:blip r:embed="rId1"/>
          <a:stretch/>
        </p:blipFill>
        <p:spPr>
          <a:xfrm>
            <a:off x="8008920" y="1771560"/>
            <a:ext cx="782640" cy="804960"/>
          </a:xfrm>
          <a:prstGeom prst="rect">
            <a:avLst/>
          </a:prstGeom>
          <a:ln w="0">
            <a:noFill/>
          </a:ln>
        </p:spPr>
      </p:pic>
      <p:pic>
        <p:nvPicPr>
          <p:cNvPr id="96" name="Afbeelding 4" descr="http://www.wetenschapsforum.nl/moderator/mol/glucose.png"/>
          <p:cNvPicPr/>
          <p:nvPr/>
        </p:nvPicPr>
        <p:blipFill>
          <a:blip r:embed="rId2"/>
          <a:stretch/>
        </p:blipFill>
        <p:spPr>
          <a:xfrm>
            <a:off x="7772400" y="5952960"/>
            <a:ext cx="687240" cy="7160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4" descr=""/>
          <p:cNvPicPr/>
          <p:nvPr/>
        </p:nvPicPr>
        <p:blipFill>
          <a:blip r:embed="rId3"/>
          <a:stretch/>
        </p:blipFill>
        <p:spPr>
          <a:xfrm>
            <a:off x="7740720" y="836640"/>
            <a:ext cx="412560" cy="5634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5" descr=""/>
          <p:cNvPicPr/>
          <p:nvPr/>
        </p:nvPicPr>
        <p:blipFill>
          <a:blip r:embed="rId4"/>
          <a:stretch/>
        </p:blipFill>
        <p:spPr>
          <a:xfrm>
            <a:off x="8172360" y="981000"/>
            <a:ext cx="858960" cy="8589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6" descr=""/>
          <p:cNvPicPr/>
          <p:nvPr/>
        </p:nvPicPr>
        <p:blipFill>
          <a:blip r:embed="rId5"/>
          <a:stretch/>
        </p:blipFill>
        <p:spPr>
          <a:xfrm>
            <a:off x="324000" y="115920"/>
            <a:ext cx="458640" cy="6490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7" descr=""/>
          <p:cNvPicPr/>
          <p:nvPr/>
        </p:nvPicPr>
        <p:blipFill>
          <a:blip r:embed="rId6"/>
          <a:stretch/>
        </p:blipFill>
        <p:spPr>
          <a:xfrm>
            <a:off x="4643280" y="1052640"/>
            <a:ext cx="943200" cy="7333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8" descr=""/>
          <p:cNvPicPr/>
          <p:nvPr/>
        </p:nvPicPr>
        <p:blipFill>
          <a:blip r:embed="rId7"/>
          <a:stretch/>
        </p:blipFill>
        <p:spPr>
          <a:xfrm>
            <a:off x="6156360" y="6021360"/>
            <a:ext cx="1224000" cy="6541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9" descr=""/>
          <p:cNvPicPr/>
          <p:nvPr/>
        </p:nvPicPr>
        <p:blipFill>
          <a:blip r:embed="rId8"/>
          <a:stretch/>
        </p:blipFill>
        <p:spPr>
          <a:xfrm>
            <a:off x="5076720" y="5734080"/>
            <a:ext cx="919440" cy="9190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70" descr=""/>
          <p:cNvPicPr/>
          <p:nvPr/>
        </p:nvPicPr>
        <p:blipFill>
          <a:blip r:embed="rId9"/>
          <a:stretch/>
        </p:blipFill>
        <p:spPr>
          <a:xfrm>
            <a:off x="3348000" y="5229360"/>
            <a:ext cx="1195560" cy="10540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1" descr=""/>
          <p:cNvPicPr/>
          <p:nvPr/>
        </p:nvPicPr>
        <p:blipFill>
          <a:blip r:embed="rId10"/>
          <a:stretch/>
        </p:blipFill>
        <p:spPr>
          <a:xfrm>
            <a:off x="1042920" y="5013360"/>
            <a:ext cx="455760" cy="10796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72" descr=""/>
          <p:cNvPicPr/>
          <p:nvPr/>
        </p:nvPicPr>
        <p:blipFill>
          <a:blip r:embed="rId11"/>
          <a:stretch/>
        </p:blipFill>
        <p:spPr>
          <a:xfrm>
            <a:off x="684360" y="2781360"/>
            <a:ext cx="863280" cy="7556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4" descr=""/>
          <p:cNvPicPr/>
          <p:nvPr/>
        </p:nvPicPr>
        <p:blipFill>
          <a:blip r:embed="rId12"/>
          <a:stretch/>
        </p:blipFill>
        <p:spPr>
          <a:xfrm>
            <a:off x="1692360" y="5610240"/>
            <a:ext cx="1655640" cy="10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7T19:30:07Z</dcterms:created>
  <dc:creator>Beheerder</dc:creator>
  <dc:description/>
  <dc:language>en-US</dc:language>
  <cp:lastModifiedBy>Beheerder</cp:lastModifiedBy>
  <dcterms:modified xsi:type="dcterms:W3CDTF">2014-02-25T09:03:42Z</dcterms:modified>
  <cp:revision>11</cp:revision>
  <dc:subject/>
  <dc:title>PowerPoint-presentatie</dc:title>
</cp:coreProperties>
</file>