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FD39C-BADA-4115-A5A1-B8559AB39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330DE-FF5C-4E80-B4C3-0B00EA09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911F3-5889-40F2-9218-661D62B65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6BCA4-B3C8-4E26-A30A-11B33A966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10BA4-717F-4C40-9F30-53F172E5F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DB6D0-0C6E-4100-8E91-57815CEF8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69623-B2E0-4EE9-B468-55341302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4524B-582B-4280-88E5-F04257CE8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F4D3C-0EE0-4F45-AF6A-A72021937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7C39-0A3E-4B89-B42F-A76293A29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C633B-CCEF-4DA4-8788-C1B873C9C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B1B06-F7B6-440D-BF19-EF2CE2F78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D732-615E-491D-8F94-009B34BFE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idin.nl/2660/Lijst-identieke-URA-diergeneesmiddelen.pdf"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bg-meb.nl/cbg/n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etgeving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heren medicijn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doende informatie over</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ldi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jwerkinge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waarcond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chttijden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label use: voor andere indicatie/diersoor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rincipe verboden ma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e:</a:t>
            </a:r>
            <a:endParaRPr b="0" lang="en-US" sz="4000" spc="-1" strike="noStrike">
              <a:solidFill>
                <a:srgbClr val="000000"/>
              </a:solidFill>
              <a:latin typeface="Calibri"/>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lle middelen zijn vrij te verhandelen, behalve diegene die zonder tussenkomst van d’arts gevaar opleveren voor gezondhei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D: uitsluitend door dierenarts toe te pass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A: op voorschrift van een dierenarts, door dierenartsen of apotheek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 op voorschrift van een dierenarts, door dierenartsen, apothekers of erkende handelaren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RIJ: zonder recept van dierenarts, door dierenarts, apotheker en houder afleververgunning afgegeven</a:t>
            </a:r>
            <a:r>
              <a:rPr b="0" lang="en-US" sz="2800" spc="-1" strike="noStrike">
                <a:solidFill>
                  <a:srgbClr val="000000"/>
                </a:solidFill>
                <a:latin typeface="Arial"/>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Tot voorkort was een groot aantal middelen vrij verkrijgbaar en kon een paardenhouder naar eigen inzicht bv. een wormkuur bestelle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Per 1 juli 2008 is voor het verkrijgen van bepaalde diergeneesmiddelen de receptplicht ingevoerd. Het gaat om geneesmiddelen voor voedselproducerende dieren, inclusief paarde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00"/>
                </a:solidFill>
                <a:latin typeface="Calibri"/>
              </a:rPr>
              <a:t>Waaro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Met deze regelgeving wil men de hoeveelheid residuen van diergeneesmiddelen van behandelde dieren afkomstige levensmiddelen verminderen en zodoende de consument meer bescherming bieden en tevens het risico van optreden van resistentie tegen diergeneesmiddelen verkleinen. </a:t>
            </a: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A</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eselproducerende diere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twormings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parasiet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schimm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lmering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SAID’s</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Recept dierena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Datum van uitschrijv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 registratienummer diergeneesmidde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Bepaald dier(en) en bepaalde therapi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en adres van de ontvan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Ondertekene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oeveelheid voor maximaal1 maand</a:t>
            </a:r>
            <a:endParaRPr b="0" lang="en-US" sz="26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u.v. o</a:t>
            </a:r>
            <a:r>
              <a:rPr b="0" lang="en-US" sz="2200" spc="-1" strike="noStrike">
                <a:solidFill>
                  <a:srgbClr val="000000"/>
                </a:solidFill>
                <a:latin typeface="Calibri"/>
              </a:rPr>
              <a:t>ntwormingsmiddelen, middelen tegen parasieten, middelen tegen schimmels, kalmeringmiddelen</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jaar </a:t>
            </a:r>
            <a:endParaRPr b="0" lang="en-US" sz="22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1"/>
              </a:rPr>
              <a:t>http://www.fidin.nl/2660/Lijst-identieke-URA-diergeneesmiddelen.pdf</a:t>
            </a:r>
            <a:endParaRPr b="0" lang="en-US" sz="2600" spc="-1" strike="noStrike">
              <a:solidFill>
                <a:srgbClr val="000000"/>
              </a:solidFill>
              <a:latin typeface="Calibri"/>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itzonderingen receptplich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Niet alle “vrije” middelen zijn omgezet naar een URA status. Er zijn uitzonderingen gemaakt voor bepaalde middelen. Deze zijn bepaald aan de hand van de volgende uitzonderingscriteri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Toediening van het middel vereist geen specifieke kennis of vaardigheid</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e toediening zijn er geen risico’s voor mens, dier en milieu</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bevat geen waarschuwing wat betreft ernstige bijwerkingen en kent hiervan ook geen historie</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kent geen contra-indicaties in relatie tot andere non-pom middel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heeft geen bijzondere bewaarcondities</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gevaar op residu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risico op resistentie-ontwikkeling</a:t>
            </a:r>
            <a:endParaRPr b="0" lang="en-US" sz="2000" spc="-1" strike="noStrike">
              <a:solidFill>
                <a:srgbClr val="000000"/>
              </a:solidFill>
              <a:latin typeface="Calibri"/>
            </a:endParaRPr>
          </a:p>
          <a:p>
            <a:pPr marL="343080" indent="-34308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ddelen die Vrij blijven</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diarree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 vloeistoffen voor rund, melk- kopziekte Ca en M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fwisselingscorrigerend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nfectantia en antiseptica</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delen tegen ectoparasieten zonder werking tegen endoparasie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jmoplosse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uidengenees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opatisch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jzerinjecties voor biggen en kalver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xeer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agzuursecreti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dersteunend bij huidaandoening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es, electrolyten, mineralen en sporenelemente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dministratie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houden welke diergeneesmiddelen worden afgegeven en worden toegedi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drijfsmatig gehouden die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ogboek bijhoud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wachttermij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toedi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iumwe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l</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len omgang met bewustzijnbeïnvloedende middelen ter bescherming van de volksgezondheid</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ichten van de dierenar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en gebruik t.b.v. dier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e bijhouden ontvangst/uitgif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sluitbare opiatenka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en diergeneesmiddel is een substantie die geschikt is vo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genezen, verlichten of voorkomen van ziekte of ziekteverschijnsel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herstellen of verbeteren van het functioneren van een orga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vaststellen van een ziekte of afwijking van een di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1</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ard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piaten</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fentanil</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2</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Soft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arbiturate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nzodiazepi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middele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uprenorfin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Temges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Fentany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thasa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t>
            </a:r>
            <a:r>
              <a:rPr b="0" lang="nl-NL" sz="2400" spc="-1" strike="noStrike">
                <a:solidFill>
                  <a:srgbClr val="000000"/>
                </a:solidFill>
                <a:latin typeface="Calibri"/>
              </a:rPr>
              <a:t>..</a:t>
            </a:r>
            <a:endParaRPr b="0" lang="en-US" sz="2400" spc="-1" strike="noStrike">
              <a:solidFill>
                <a:srgbClr val="000000"/>
              </a:solidFill>
              <a:latin typeface="Calibri"/>
            </a:endParaRPr>
          </a:p>
        </p:txBody>
      </p:sp>
      <p:pic>
        <p:nvPicPr>
          <p:cNvPr id="83" name="Tijdelijke aanduiding voor inhoud 4" descr="temgesic.jpg"/>
          <p:cNvPicPr/>
          <p:nvPr/>
        </p:nvPicPr>
        <p:blipFill>
          <a:blip r:embed="rId1"/>
          <a:stretch/>
        </p:blipFill>
        <p:spPr>
          <a:xfrm>
            <a:off x="5143680" y="2000160"/>
            <a:ext cx="2857320" cy="195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iligheid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luit vergiften in apotheken en ziekenhuiz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rbo-w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trijdingsmiddelenbeslu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Het besluit verpakking en etikettering diergeneesmiddele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cherming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udbaarheid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oe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abletten stri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ruine flesjes bij medicijnen die gevoelig zijn voor zonlich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tiketten met alle benodigde inf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tikette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plichte informatie op 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langrijk voor juiste toedie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idelijkheid ov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 is het en voor wi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ar/bij wie komt het vandaa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e te gebruike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el eisen: bijsluit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plichte informatie op de verpakking (etiket/bijsluiter)</a:t>
            </a:r>
            <a:endParaRPr b="0" lang="en-US" sz="40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produ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G NL/batch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harge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ategorie/locatie (indien van toepassing) naam en adres registratiehoud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en adres fabrik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rvaldatu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iligheidsvoorschrif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wijz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chttermijn (indi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et woord diergeneesmiddel</a:t>
            </a:r>
            <a:endParaRPr b="0" lang="en-US" sz="2200" spc="-1" strike="noStrike">
              <a:solidFill>
                <a:srgbClr val="000000"/>
              </a:solidFill>
              <a:latin typeface="Calibri"/>
            </a:endParaRPr>
          </a:p>
        </p:txBody>
      </p:sp>
      <p:sp>
        <p:nvSpPr>
          <p:cNvPr id="9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Bewaarcond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amenstelling werkzame bestanddel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d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duu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e hanteren doser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iersoor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dicati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Farmaceutische vo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houd van de verpakk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Kanalisatiestatus (UDA/UD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issie Aanprijzing Veterinaire Producten</a:t>
            </a: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chtcommissie ingesteld door KNMvD en FID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n ‘de Code’ vastgesteld voor aanprijzing van veterinaire produc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lachten m.b.t. overtredingen de de Code gaan naar CAV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norme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bod tot misleiding van aanprijzing producte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plichting dat aanprijzing in overeenstemming is met waarheiden algemene geldende normen van goede smaak en fatso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GVP</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afnemen van een anamne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doen van onderzoe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tellen van de (waarschijnlijkheids)diagno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instellen van een eventuele behandel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electief toepassen van diergeneesmiddelen met inachtneming van de wachttermijn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Verwachten werkzaamheid en mogelijke schadelijke neveneffect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geven van adv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parte regelingen</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elk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arken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luim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tc</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KB</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tCi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terinair Centraal Informatiesyste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we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els voor fabricage van diergeneesmidde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istratie van diergeneesmiddel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is niet toegestaan om niet-geregistreerde diergeneesmiddelen af te leveren, te bereiden of op voorraad te hebb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nalisati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dministrat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48" name="PlaceHolder 2"/>
          <p:cNvSpPr>
            <a:spLocks noGrp="1"/>
          </p:cNvSpPr>
          <p:nvPr>
            <p:ph/>
          </p:nvPr>
        </p:nvSpPr>
        <p:spPr>
          <a:xfrm>
            <a:off x="685800" y="1600200"/>
            <a:ext cx="7772400" cy="50292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reren bij registratieburea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uropese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e lidstaten van de EU zelfde regelgeving voordat de geneesmiddelen op de markt komen.</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rie niveau’s van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tion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en alleen in dat land verkoch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Nederland is dat de Bureau Diergeneesmiddelen(BD)</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maar andere landen kunnen er ook gebruik van maken, zonder alle formulieren.</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alle EU-landen geregistreerd, bij het European Medicines Evaluation Agency (EMEA) in Londe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e aanvraag</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eau Diergeneesmiddelen (BD)</a:t>
            </a:r>
            <a:endParaRPr b="0" lang="en-US" sz="28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derdeel college beoordeling geneesmiddelen</a:t>
            </a:r>
            <a:endParaRPr b="0" lang="en-US" sz="2400" spc="-1" strike="noStrike">
              <a:solidFill>
                <a:srgbClr val="000000"/>
              </a:solidFill>
              <a:latin typeface="Calibri"/>
            </a:endParaRPr>
          </a:p>
          <a:p>
            <a:pPr lvl="3" marL="16002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CBG-MEB - Home nl</a:t>
            </a:r>
            <a:endParaRPr b="0" lang="en-US" sz="20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er van Landbouw neemt uiteindelijke beslissing</a:t>
            </a:r>
            <a:endParaRPr b="0" lang="en-US" sz="24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uropean Medicines Evaluation Ageny (EME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euw geneesmiddel</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cherming: tot 10 jaar na registratie</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 10 jaar namaken, met verwijz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llel Import</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esmiddel geregistreerd in Nederland én ander EU-Land.</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m.v. verwijzing naar Nederlands registratiedossier een parallel-registratie aanvragen.</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arna geschikt maken voor Nederlandse markt, d.m.v. Nederlands Etiket en bijsluiter.</a:t>
            </a:r>
            <a:endParaRPr b="0" lang="en-US" sz="2800" spc="-1" strike="noStrike">
              <a:solidFill>
                <a:srgbClr val="000000"/>
              </a:solidFill>
              <a:latin typeface="Calibri"/>
            </a:endParaRPr>
          </a:p>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oorwaar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oet de gestelde werking hebb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geen gevaar opleveren voor de gezondheid van de m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het milie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de gezondheid van dier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rkenbaar a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 NL 0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melding “diergeneesmidde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tgesteld bij registrati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or welke ziekt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ersoor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 en toedieningswijz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ur evt. Wachttermij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nalisati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1:39:43Z</dcterms:created>
  <dc:creator>Annemarie</dc:creator>
  <dc:description/>
  <dc:language>en-US</dc:language>
  <cp:lastModifiedBy>Administrator</cp:lastModifiedBy>
  <dcterms:modified xsi:type="dcterms:W3CDTF">2014-01-12T00:09:57Z</dcterms:modified>
  <cp:revision>33</cp:revision>
  <dc:subject/>
  <dc:title>Wetgeving</dc:title>
</cp:coreProperties>
</file>