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1498-6FF8-4FB4-B24A-C4CFDF49093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igenlijk is een combinatie van diergeneesmiddelen altijd een “nieuw” diergeneesmiddel. De wachttijden zijn dan ook de wachttijden voor off label use: 28 dagen voor vlees, 7 dagen voor m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1570-5CC6-40C2-B974-126B08AA8F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v micotil: ernstige schade! Met dood als gevolg bij mens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5FEE-7313-4ACA-B7ED-772A16AD0E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F0C-40C8-483B-8D0C-BFC1F6E6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476-0A75-42E4-97F8-023B5C9B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EA1-891E-4A48-9F67-E266BA6F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999-57A4-46D8-92F5-4F07349D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9D5-2CF5-4E5F-8D0A-25F6C232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012-5CDE-42D0-ABB5-0FB5DA56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B84-1ED9-4F6A-97E1-E35D58F0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23D-2D36-4CB1-86C6-7D9414B1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9D7-2CD3-4CD0-ACF1-A4E03294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6C8-B49F-4644-9634-93BD8802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27A-6899-4051-8F67-09C66D6C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3CE-5A86-49AC-BE37-12454072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137A-FBB3-4DA6-A56A-207175E6EE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vab.knmvd.nl/wvab/formularia/formularia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erantwoord gebruik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an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diergeneesmiddel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24000" y="6048360"/>
            <a:ext cx="1879560" cy="80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68360" y="378936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de bijsluiter en de instructie van de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ak behandelde dieren goed herkenbaa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pootbanden, elektronisch, lijs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melkstal) en melk behandelde koeien als laat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de melk onderzoeken bij twij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: ook andere diergeneesmiddel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als wormmiddelen en pijnstillers kunnen residuen veroorzak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vdgmge8"/>
          <p:cNvPicPr/>
          <p:nvPr/>
        </p:nvPicPr>
        <p:blipFill>
          <a:blip r:embed="rId1"/>
          <a:stretch/>
        </p:blipFill>
        <p:spPr>
          <a:xfrm>
            <a:off x="395280" y="260280"/>
            <a:ext cx="4103640" cy="3627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767120" y="42372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076720" y="907920"/>
            <a:ext cx="32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kom oversch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an de residun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042920" y="3716280"/>
            <a:ext cx="6462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moet u no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diergeneesmiddel, REG NL nummer en batch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atum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te hoeveel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en nummer 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koppelbehandeling: afdeling en aantal behandelde d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nde wachttijd na laatste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di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verancier van het diergenees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vdgmge9"/>
          <p:cNvPicPr/>
          <p:nvPr/>
        </p:nvPicPr>
        <p:blipFill>
          <a:blip r:embed="rId1"/>
          <a:stretch/>
        </p:blipFill>
        <p:spPr>
          <a:xfrm>
            <a:off x="1908000" y="189000"/>
            <a:ext cx="460872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24000" y="4292640"/>
            <a:ext cx="8353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valueer behandelingen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 uw dieren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is van belang voor toekomstige behande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ld bijwerkingen aan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vdgmge10"/>
          <p:cNvPicPr/>
          <p:nvPr/>
        </p:nvPicPr>
        <p:blipFill>
          <a:blip r:embed="rId1"/>
          <a:stretch/>
        </p:blipFill>
        <p:spPr>
          <a:xfrm>
            <a:off x="250920" y="333360"/>
            <a:ext cx="6480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vdgmge11"/>
          <p:cNvPicPr/>
          <p:nvPr/>
        </p:nvPicPr>
        <p:blipFill>
          <a:blip r:embed="rId1"/>
          <a:stretch/>
        </p:blipFill>
        <p:spPr>
          <a:xfrm>
            <a:off x="611280" y="260280"/>
            <a:ext cx="4680000" cy="390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4500720" y="3933720"/>
            <a:ext cx="43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 op de verpakking en/of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eer de aanprikdatum op de fl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erk de voorr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waar buiten het bereik van ki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716360" y="69228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waaradviezen 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24000" y="5877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keerd bewaren kan de werkzaamheid en de diergezondheid nadelig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een lijst met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z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h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smal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bree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, breedspectrum, gereserveerd voor humaan gebruik (bijv: baytril en cobact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vab.knmvd.nl/wvab/formularia/formu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gezondheids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orboekje voor diergezondheid op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ruk op prev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behandel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gm bij welke ziektebeel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DD: dagdosering antibiotica per dier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1979640" y="119700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>
                <a:solidFill>
                  <a:srgbClr val="660066"/>
                </a:solidFill>
                <a:latin typeface="Berlin Sans FB Demi"/>
              </a:rPr>
              <a:t>EIND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1512720" cy="60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gescherpt belei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: AB gebruik in ja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1 20 % om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3 gehalvee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3213000"/>
            <a:ext cx="89996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aal de ziekteverwekker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zijn verschillende soorten; virussen, bacterië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paras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m behandeling op de ziekteverwekker 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ntibiotica werken alleen tegen bacteri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Niet alle antibiotica werken tegen alle bacteriën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een gevoeligheidsbepaling do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an belang voor toekomstige behandeli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eck de andere risicofactoren zoal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limaat, huisvesting en vo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handel alleen als dat nodig 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dgmge1"/>
          <p:cNvPicPr/>
          <p:nvPr/>
        </p:nvPicPr>
        <p:blipFill>
          <a:blip r:embed="rId1"/>
          <a:stretch/>
        </p:blipFill>
        <p:spPr>
          <a:xfrm>
            <a:off x="1979640" y="765000"/>
            <a:ext cx="4319640" cy="3030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5280" y="260280"/>
            <a:ext cx="836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 goede behandeling begint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 juist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11280" y="436572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oleer het REG NL 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s en bewaar de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het bedrijfsbehandelplan o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 over het in te zetten 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vdgmge2"/>
          <p:cNvPicPr/>
          <p:nvPr/>
        </p:nvPicPr>
        <p:blipFill>
          <a:blip r:embed="rId1"/>
          <a:stretch/>
        </p:blipFill>
        <p:spPr>
          <a:xfrm>
            <a:off x="250920" y="333360"/>
            <a:ext cx="489744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447120" y="108000"/>
            <a:ext cx="8679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leen geregistreer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vdgmge3"/>
          <p:cNvPicPr/>
          <p:nvPr/>
        </p:nvPicPr>
        <p:blipFill>
          <a:blip r:embed="rId1"/>
          <a:stretch/>
        </p:blipFill>
        <p:spPr>
          <a:xfrm>
            <a:off x="539640" y="333360"/>
            <a:ext cx="4969080" cy="3559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684360" y="3716280"/>
            <a:ext cx="806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la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ns op onvoldoende resultaat en resistentiev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ho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gelijk gevaar voor het dier en/of een langere wachtt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voer of drinkwatermedicati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seer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992920" y="63972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651640" y="765000"/>
            <a:ext cx="279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jk niet af van de aanbevolen do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vdgmge4"/>
          <p:cNvPicPr/>
          <p:nvPr/>
        </p:nvPicPr>
        <p:blipFill>
          <a:blip r:embed="rId1"/>
          <a:stretch/>
        </p:blipFill>
        <p:spPr>
          <a:xfrm>
            <a:off x="5867280" y="189000"/>
            <a:ext cx="2880000" cy="2359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723960"/>
            <a:ext cx="91440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oudt u aan de aanbevo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oedieningswij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 de juiste injectieplaats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M (Intramusculair) = in de s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 (Subcutaan) = onder de h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ek een schoon stuk huid en werk hygië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wegwerpmateriaal of schone spu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scherpe naalden. Botte naalden veroorzaken meer pijn en vee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efsel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inig en desinfecteer de speenpunt g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de korte punt van de in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aal (via voer of drink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em de juiste dosering (per kg lichaamsgewic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voer voor goede m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drinkwater voor volledig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Topicaal (op de hu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afdruipen naar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971640" y="4292640"/>
            <a:ext cx="7848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ak de behandeling altijd a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ok al lijkt het dier b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 kort behandelen kan leiden to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rugkeer van het ziekte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/of resistentie-ontwikk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onvoldoende resultaat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dgmge5"/>
          <p:cNvPicPr/>
          <p:nvPr/>
        </p:nvPicPr>
        <p:blipFill>
          <a:blip r:embed="rId1"/>
          <a:stretch/>
        </p:blipFill>
        <p:spPr>
          <a:xfrm>
            <a:off x="1547640" y="115920"/>
            <a:ext cx="5112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619280" y="400536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aties kun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erking opheffen of juist verst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schadelijk z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achttijd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vdgmge6"/>
          <p:cNvPicPr/>
          <p:nvPr/>
        </p:nvPicPr>
        <p:blipFill>
          <a:blip r:embed="rId1"/>
          <a:stretch/>
        </p:blipFill>
        <p:spPr>
          <a:xfrm>
            <a:off x="468360" y="115920"/>
            <a:ext cx="4032360" cy="3610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840200" y="250920"/>
            <a:ext cx="369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alleen combinaties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w dierenarts dit advise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26920" y="4508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zelf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inslikken en/of inademen, gebruik beschermingsmidd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s uw handen na toediening of draag handsch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vdgmge7"/>
          <p:cNvPicPr/>
          <p:nvPr/>
        </p:nvPicPr>
        <p:blipFill>
          <a:blip r:embed="rId1"/>
          <a:stretch/>
        </p:blipFill>
        <p:spPr>
          <a:xfrm>
            <a:off x="971640" y="115920"/>
            <a:ext cx="3909960" cy="4392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272200" y="539640"/>
            <a:ext cx="239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nk aan uw 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8:29:31Z</dcterms:created>
  <dc:creator>Wiel van den Ekker</dc:creator>
  <dc:description/>
  <dc:language>en-US</dc:language>
  <cp:lastModifiedBy>Administrator</cp:lastModifiedBy>
  <dcterms:modified xsi:type="dcterms:W3CDTF">2014-01-08T10:05:20Z</dcterms:modified>
  <cp:revision>14</cp:revision>
  <dc:subject/>
  <dc:title>Verantwoord gebruik van diergeneesmiddelen</dc:title>
</cp:coreProperties>
</file>