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AFC-C333-4B79-A9C0-E1AFBFA4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3BF0-0CC5-4B55-80C4-E8FA4F6F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B34-FE38-48B5-869E-C3F5AE16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7CA7-4C41-46F6-AE95-095BEFA4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490-18E9-4649-9CBA-4204C295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B7E0-FD9C-4EC1-9020-202F2470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D1FD-5FE5-45CB-A527-00C2C1BF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D8BD-A285-46D8-BE4D-14A62A9A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5F9-3D41-40A4-A831-023588BE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42E-D69A-4AAC-ABD2-E4FB5B6A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748A-68F0-45C8-9638-1561D455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D1FA-4431-415C-9C73-B53CEBD0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338B-1205-4EA0-BCE7-4820BF611EE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heer veterinaire apoth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Beheren medicij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raadbehe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oleren en administreren van ontvangen goede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deringssystemen, opbergen en beste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tour van 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voeren van 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-geregistreerde diergeneesmiddelen en humane 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Controleren en administreren van ontvangen goeder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 alles gelev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uiste hoeveelheden geleve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valdatu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raadadministr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kbonn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iumwe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Coderingssystemen, opbergen en bestell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ductgro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fab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de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tiketten, insteekkaartjes, magneetkaartj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cann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tour van genee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met goede re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keerde beste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schadi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valdat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voeren genee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val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retourneerde geneesmiddelen door klan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gebroken verpa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de verpa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ekenhuisaf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et geregistreerde diergeneesmiddelen en humane geneesmidde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is niet toegestaan om niet-geregistreerde diergeneesmiddelen op voorraad te heb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l toegestaan is een kleine werkvoorraad humane 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waarvoorschrif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udbaar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anprik- of aanbreek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udbaarhei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fname werkz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Vorming toxische afbraakprodu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Veranderingen in smaak, geur of kle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Ook kwaliteitsvermindering hulp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Droog langer houdbaar dan n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vriesdroogd vaccin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ntioxida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onserveringsmiddel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Bewaarconditie van groot bel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ic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uchtvochtigehei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Verpak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ube ↔ p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ontrole vervaldatu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ontrole aanprikdatum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09600" y="1859040"/>
            <a:ext cx="672480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pakking en etiket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pak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tike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po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leveren van diergenee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Inrichting van de veterinaire apothe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renontvangst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slag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elruim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vaarlijke stof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reekkamervoorra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genvoorra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pakk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Houdbaarhei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Visitekaartj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De verpakking moet zodanig zijn da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tegen normale behandeling bestand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s van de inhoud kan ontsnap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samenstelling en zuiverheid van de diergeneesmiddelen gewaarborgd zijn gedurende de aangegeven houdbaarheidstermijn en onder de aangegeven bewaaromstandighed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Ook voor uitponden en magistraal bereiden!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tiket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Print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Minimale informati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ie besluit “Verpakking en etikettering” uit de Diergeneesmiddelenw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Praktijketike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am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aam clië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atum afgif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erso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ventueel aangevuld m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m van het d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Uitpon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 grote hoeveelheid naar kleine hoeveelhe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als uitponden bij registratie is aangege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ó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pakking hiertoe aanleiding gee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slu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ti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Uitpon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abletten uitponden inspreekka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verige toedieningsvormen in aparte ruimte uitponden of in zuurk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met blote handen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648320" y="2324160"/>
            <a:ext cx="40384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leveren diergeneesmidde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udbaarheidsda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tiket goed lees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jsluiter goed lees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seerhulp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aan kinderen onder 12 j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giften &gt; 18 j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Magistraal bereiden van diergeneesmiddele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waarden magistrale berei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nodigdhe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rei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otjes - Latij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waa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geregistreerd diergeneesmid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ander diergeneesmid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humaan mid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or één ziektegev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een voorra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oor dierenarts of onder toezicht van dierenar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anpassen hoeveelheid werkzame sto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ablet → suspen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orwaa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ruim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uurk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ministratie grondstoff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chttijd maxim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aarlijks opgave bij Ministerie van Landbou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nodigdhed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a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rt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aatcilin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ijz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peciaal pap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aps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pakkingsmateri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reidingsprotoc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me st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ulpsto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oederenontvangstruim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en sluitende ingangscontr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voor klanten toegankel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in doorlo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el bewaren” direct in koelk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pslagruim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makkelijk syste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Productgroep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Op alfabe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iddelen opiumw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Aparte afsluitbare ka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iet toegankelijk voor publi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eilighei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Beschadig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Hygiën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iet direct grenzen aan toiletruim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en door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scheiden van opslag andere goede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ntilat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rlicht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nstante temperatu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Minimum en maximum registrati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kkelijk schoon te mak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Gladde vloeren/wand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Calibri"/>
              </a:rPr>
              <a:t>Vloer vrij houd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FIF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dministrati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43000" y="2000160"/>
            <a:ext cx="67723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oelruim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acc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ommige aangebroken/aangeprikte verpak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gemene 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ie opslagruim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voor opslag 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voor etenswa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voor kada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648320" y="234648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evaarlijke stoff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giften en bestrijdingsmid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aparte afsluitbare k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arschuwingstek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ymbool gevaarlijke 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boden toegang voor onbevoeg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reekkamervoorraa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raad zo klein mogel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ine apotheek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ms gehele apotheek in spreekka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agenvoorraa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aktijkauto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adenkast met ko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ó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oel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2:15:07Z</dcterms:created>
  <dc:creator>Annemarie</dc:creator>
  <dc:description/>
  <dc:language>en-US</dc:language>
  <cp:lastModifiedBy>Administrator</cp:lastModifiedBy>
  <dcterms:modified xsi:type="dcterms:W3CDTF">2014-01-18T20:01:08Z</dcterms:modified>
  <cp:revision>12</cp:revision>
  <dc:subject/>
  <dc:title>Beheer veterinaire apotheek</dc:title>
</cp:coreProperties>
</file>