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32.jpeg" ContentType="image/jpeg"/>
  <Override PartName="/ppt/media/image36.png" ContentType="image/pn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11.jpeg" ContentType="image/jpeg"/>
  <Override PartName="/ppt/media/image9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31.png" ContentType="image/png"/>
  <Override PartName="/ppt/media/image47.jpeg" ContentType="image/jpeg"/>
  <Override PartName="/ppt/media/image48.jpeg" ContentType="image/jpeg"/>
  <Override PartName="/ppt/media/image39.jpeg" ContentType="image/jpeg"/>
  <Override PartName="/ppt/media/image8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6.jpeg" ContentType="image/jpeg"/>
  <Override PartName="/ppt/media/image35.jpeg" ContentType="image/jpeg"/>
  <Override PartName="/ppt/media/image1.jpeg" ContentType="image/jpeg"/>
  <Override PartName="/ppt/media/image10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F734-BE27-4E0F-ABE6-CB090F70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B7F-2D12-44AA-B435-CD2184A9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4DD-2CC5-477B-B590-7952EDD4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982-F3C5-44EF-91AF-5B11E555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CDA-6D8F-4C3F-8541-902B0764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412-53F6-4C1F-AAF5-BEF2C573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FBB2-0ACF-4306-8DE4-EF3085F4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3BC-D4FE-44E1-8B02-28C5FE93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CCA9-44B1-4D97-B4C7-8C7A3E36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3333-D2B7-4622-A70A-7C416EC7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40E-50F9-4B65-9A43-A196452F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2FD-CFEC-4E35-82C8-7C1A5238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4CF5-D581-4EFF-85AA-3F750A844A3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vorming van nucleïnezuren, waardoor de vorming van DNA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NA wordt gere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celwandsyn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oring van de permeabiliteit van de celwand, waardoor de cel kapot ga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van de eiwitvorming van bacterië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minoglycos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eiwitvorm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de permeabiliteit van het cytoplasmatisch membra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cteriostatisch en bacterici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 oorontstekingen en oogontstekinge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jwerkingen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frotoxis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ring gehoor en evenwic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verdosering:circulatieproble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mbi met penicilline: synergistisch eff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eomycine + gent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auribiotic_20ml"/>
          <p:cNvPicPr/>
          <p:nvPr/>
        </p:nvPicPr>
        <p:blipFill>
          <a:blip r:embed="rId1"/>
          <a:stretch/>
        </p:blipFill>
        <p:spPr>
          <a:xfrm>
            <a:off x="6786720" y="25718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gentapolycort_5ml"/>
          <p:cNvPicPr/>
          <p:nvPr/>
        </p:nvPicPr>
        <p:blipFill>
          <a:blip r:embed="rId2"/>
          <a:stretch/>
        </p:blipFill>
        <p:spPr>
          <a:xfrm>
            <a:off x="6786720" y="457200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acroliden, tiamulin, lincosam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erstoren eiwitsynthe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acteriostatisch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Bij geïnfecteerde wonden, abcess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en infecties mondhol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t bij leverproblem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delijke colitis door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rythromycin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groei clostridiu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efselirritat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Tiamul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v is leth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croliden: erythromycine,tylomycine,spir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cosamiden: lincomycine,clindamyc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7219800" y="5072040"/>
            <a:ext cx="1924200" cy="162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://www.vetuk.co.uk/images/stomorgyl.JPG"/>
          <p:cNvPicPr/>
          <p:nvPr/>
        </p:nvPicPr>
        <p:blipFill>
          <a:blip r:embed="rId2"/>
          <a:stretch/>
        </p:blipFill>
        <p:spPr>
          <a:xfrm>
            <a:off x="6429240" y="1571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imethoprim+sulfonami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emmen de synthese van het door bacteriën gemaakte foliumzu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Infecties veroorzaakt door micro-organismen: respiratoire infecties, urogenitale infecties, huid- en wondinfec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lfa’s vaak in combi met trimethoprim → dosering sulfa’s dan lager → dus minder bijwerkin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erkinge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ndei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rkauwers 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evoeligheidsreac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v: neurologische verschijnse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T bij lever-nierafwijkin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Trimethoprim en sulfadiaz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357960" y="4214880"/>
            <a:ext cx="19764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Fluoroquinolonen: 3</a:t>
            </a:r>
            <a:r>
              <a:rPr b="0" lang="nl-NL" sz="36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 keus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Remmend effect op de DNA-synthe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nge dieren:afwijking kraakbe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gevoeligheidsreac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dosering → neurologisch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 met aminoglycosiden → synergistisch effec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G BIJ KNAAGDIE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Enrofloxacin, marbofloxac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643800" y="4857840"/>
            <a:ext cx="203040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www.animaldrugsonline.co.uk/media/gbu0/prodlg/marbocyltablets.jpg"/>
          <p:cNvPicPr/>
          <p:nvPr/>
        </p:nvPicPr>
        <p:blipFill>
          <a:blip r:embed="rId2"/>
          <a:stretch/>
        </p:blipFill>
        <p:spPr>
          <a:xfrm>
            <a:off x="6572160" y="2000160"/>
            <a:ext cx="19195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Nitro-imidazol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reukvorming in het DNA van de bacterië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arminfecties, infectie van de mondholte, infecties van anaerobe bacterië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Irritatie maagslijmv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braak andere medicijnen ↓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eurologische verschijnsele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etrodinaz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Stomorgyl_1"/>
          <p:cNvPicPr/>
          <p:nvPr/>
        </p:nvPicPr>
        <p:blipFill>
          <a:blip r:embed="rId1"/>
          <a:stretch/>
        </p:blipFill>
        <p:spPr>
          <a:xfrm>
            <a:off x="5643720" y="421488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Polymyx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toring celmembra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ing toxinen bacteriën versto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tterige en niet-etterige otitis externa (oorontsteking) en oogontstek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lymycine-B sulfa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929120" y="4643280"/>
            <a:ext cx="183204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surolan_1_small"/>
          <p:cNvPicPr/>
          <p:nvPr/>
        </p:nvPicPr>
        <p:blipFill>
          <a:blip r:embed="rId2"/>
          <a:stretch/>
        </p:blipFill>
        <p:spPr>
          <a:xfrm>
            <a:off x="6715080" y="450072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hlooramfenic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rijwel alleen nog te vinden in oogzalf, namelijk CAF-zalf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ontstoken en geïrriteerde o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rcinoge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me st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hlooramfenico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Tijdelijke aanduiding voor inhoud 5" descr="cavasan.jpg"/>
          <p:cNvPicPr/>
          <p:nvPr/>
        </p:nvPicPr>
        <p:blipFill>
          <a:blip r:embed="rId1"/>
          <a:stretch/>
        </p:blipFill>
        <p:spPr>
          <a:xfrm>
            <a:off x="5586480" y="278280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ontline spot-on + spray; alleen tegen vlooi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rontline Combo; ook tegen teken, bijtende luizen. Ook voor de omgev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frontline"/>
          <p:cNvPicPr/>
          <p:nvPr/>
        </p:nvPicPr>
        <p:blipFill>
          <a:blip r:embed="rId1"/>
          <a:stretch/>
        </p:blipFill>
        <p:spPr>
          <a:xfrm>
            <a:off x="4859280" y="3716280"/>
            <a:ext cx="2368440" cy="2592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FRONTLINE%20SPRAY%20250ML"/>
          <p:cNvPicPr/>
          <p:nvPr/>
        </p:nvPicPr>
        <p:blipFill>
          <a:blip r:embed="rId2"/>
          <a:stretch/>
        </p:blipFill>
        <p:spPr>
          <a:xfrm>
            <a:off x="1547640" y="3716280"/>
            <a:ext cx="23767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dvantage spot on; werkzaam tegen vlooie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Imidaclopr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5" descr="BAYER%20ADVANTAGE%20KAT%204%20PIPETTEN%2080-4%20KG"/>
          <p:cNvPicPr/>
          <p:nvPr/>
        </p:nvPicPr>
        <p:blipFill>
          <a:blip r:embed="rId1"/>
          <a:stretch/>
        </p:blipFill>
        <p:spPr>
          <a:xfrm>
            <a:off x="6084720" y="3429000"/>
            <a:ext cx="1779840" cy="259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dvantage-4-D--NDL-gr"/>
          <p:cNvPicPr/>
          <p:nvPr/>
        </p:nvPicPr>
        <p:blipFill>
          <a:blip r:embed="rId2"/>
          <a:stretch/>
        </p:blipFill>
        <p:spPr>
          <a:xfrm>
            <a:off x="1547640" y="4076640"/>
            <a:ext cx="3143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eris: voor katten, effectief in het bestrijden van bestaande vlooienplagen en voorkomen van vloo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meris DUO: voor honden, ook tegen vlooien en teken. Bevat amitra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: Metaflumiz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Promeris%20kat%20%204kg%20en%20meer"/>
          <p:cNvPicPr/>
          <p:nvPr/>
        </p:nvPicPr>
        <p:blipFill>
          <a:blip r:embed="rId1"/>
          <a:stretch/>
        </p:blipFill>
        <p:spPr>
          <a:xfrm>
            <a:off x="6372360" y="458136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promerisduo_72_f4777"/>
          <p:cNvPicPr/>
          <p:nvPr/>
        </p:nvPicPr>
        <p:blipFill>
          <a:blip r:embed="rId2"/>
          <a:stretch/>
        </p:blipFill>
        <p:spPr>
          <a:xfrm>
            <a:off x="2268360" y="4653000"/>
            <a:ext cx="149724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ectr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tegen veel bacterië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malspectru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tegen aantal bacterië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uitkomen van vlooieneitjes en de ontwikkeling van larven wordt verhinderd, zodat een vlooienbesmetting in het huis wordt voorkomen; het werkt niet tegen de vlooien op het di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6" descr="winkelprogram"/>
          <p:cNvPicPr/>
          <p:nvPr/>
        </p:nvPicPr>
        <p:blipFill>
          <a:blip r:embed="rId1"/>
          <a:stretch/>
        </p:blipFill>
        <p:spPr>
          <a:xfrm>
            <a:off x="4788000" y="4869000"/>
            <a:ext cx="252072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ronghold pakt bijna alle stadia van de vlooiencyclus aan. Het doodt de volwassen vlo, de larven en de eieren op het huisdier en in de omgeving, oormijt. spoelworm, huidmijtinfecties,hartw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Selamec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stronghold2"/>
          <p:cNvPicPr/>
          <p:nvPr/>
        </p:nvPicPr>
        <p:blipFill>
          <a:blip r:embed="rId1"/>
          <a:stretch/>
        </p:blipFill>
        <p:spPr>
          <a:xfrm>
            <a:off x="6156360" y="4508640"/>
            <a:ext cx="237168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Vlooi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fencare shampoo is een snelwerkende anti-parasitaire wassing tegen vlooien en teken bij de ho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: permethrin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Niet bij de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474"/>
          <p:cNvPicPr/>
          <p:nvPr/>
        </p:nvPicPr>
        <p:blipFill>
          <a:blip r:embed="rId1"/>
          <a:stretch/>
        </p:blipFill>
        <p:spPr>
          <a:xfrm>
            <a:off x="3780000" y="3933720"/>
            <a:ext cx="1266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rectrum ontwormingsmiddel, actief tegen rond- en lintwormen in een toediening per behandel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Pyrantelembonaat en Praziquant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Drontal-Cat%20G"/>
          <p:cNvPicPr/>
          <p:nvPr/>
        </p:nvPicPr>
        <p:blipFill>
          <a:blip r:embed="rId1"/>
          <a:stretch/>
        </p:blipFill>
        <p:spPr>
          <a:xfrm>
            <a:off x="5364000" y="4292640"/>
            <a:ext cx="214020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Drontal-Dog%20G"/>
          <p:cNvPicPr/>
          <p:nvPr/>
        </p:nvPicPr>
        <p:blipFill>
          <a:blip r:embed="rId2"/>
          <a:stretch/>
        </p:blipFill>
        <p:spPr>
          <a:xfrm>
            <a:off x="1619280" y="4292640"/>
            <a:ext cx="2055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reedsprectrum ontwormingsmiddel tegen hartworminfecties, zweepworm, haakworm, spoelworm en lintworm bij de h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oelworm, haakworm en lintworm bij de k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me stof; milbemyc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xime en 125mg praziquant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MilbemaxDispencer1"/>
          <p:cNvPicPr/>
          <p:nvPr/>
        </p:nvPicPr>
        <p:blipFill>
          <a:blip r:embed="rId1"/>
          <a:stretch/>
        </p:blipFill>
        <p:spPr>
          <a:xfrm>
            <a:off x="6300720" y="4292640"/>
            <a:ext cx="2087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erkzaam tegen zweepworm, haakworm, spoelworm en lintworm bij de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Flubendaz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5" descr="flubenol"/>
          <p:cNvPicPr/>
          <p:nvPr/>
        </p:nvPicPr>
        <p:blipFill>
          <a:blip r:embed="rId1"/>
          <a:stretch/>
        </p:blipFill>
        <p:spPr>
          <a:xfrm>
            <a:off x="2124000" y="4076640"/>
            <a:ext cx="446580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Anthelminth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rondworm en lintworm bij de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emodepside en praziquant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profender_packung3251de"/>
          <p:cNvPicPr/>
          <p:nvPr/>
        </p:nvPicPr>
        <p:blipFill>
          <a:blip r:embed="rId1"/>
          <a:stretch/>
        </p:blipFill>
        <p:spPr>
          <a:xfrm>
            <a:off x="2627280" y="3933720"/>
            <a:ext cx="40384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teken, zandvliegen en hartworm bij de hond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et bij de ka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deltameth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krijgbaar in halsband en shamp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scalibor"/>
          <p:cNvPicPr/>
          <p:nvPr/>
        </p:nvPicPr>
        <p:blipFill>
          <a:blip r:embed="rId1"/>
          <a:stretch/>
        </p:blipFill>
        <p:spPr>
          <a:xfrm>
            <a:off x="2195640" y="4076640"/>
            <a:ext cx="4680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am tegen teken voor de h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permeth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IM001503-1"/>
          <p:cNvPicPr/>
          <p:nvPr/>
        </p:nvPicPr>
        <p:blipFill>
          <a:blip r:embed="rId1"/>
          <a:stretch/>
        </p:blipFill>
        <p:spPr>
          <a:xfrm>
            <a:off x="3348000" y="3213000"/>
            <a:ext cx="201132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-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Tek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or het verwijderen van teken bij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kzame stof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kracht en 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iste techni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OTOM-AD"/>
          <p:cNvPicPr/>
          <p:nvPr/>
        </p:nvPicPr>
        <p:blipFill>
          <a:blip r:embed="rId1"/>
          <a:stretch/>
        </p:blipFill>
        <p:spPr>
          <a:xfrm>
            <a:off x="4716360" y="2421000"/>
            <a:ext cx="2951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ctericide ↔ bacteriostat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den ↔ vermeerdering rem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sist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gevoelig worden van bacteriën voor een antibiotic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ynerg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ntagonis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5"/>
          <p:cNvGrpSpPr/>
          <p:nvPr/>
        </p:nvGrpSpPr>
        <p:grpSpPr>
          <a:xfrm>
            <a:off x="4643280" y="2500200"/>
            <a:ext cx="4038840" cy="1946160"/>
            <a:chOff x="4643280" y="2500200"/>
            <a:chExt cx="4038840" cy="1946160"/>
          </a:xfrm>
        </p:grpSpPr>
        <p:sp>
          <p:nvSpPr>
            <p:cNvPr id="48" name="Rectangle 6"/>
            <p:cNvSpPr/>
            <p:nvPr/>
          </p:nvSpPr>
          <p:spPr>
            <a:xfrm>
              <a:off x="4643280" y="3668040"/>
              <a:ext cx="1062720" cy="7783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7" descr="abg021"/>
            <p:cNvPicPr/>
            <p:nvPr/>
          </p:nvPicPr>
          <p:blipFill>
            <a:blip r:embed="rId1"/>
            <a:stretch/>
          </p:blipFill>
          <p:spPr>
            <a:xfrm>
              <a:off x="5068440" y="2500200"/>
              <a:ext cx="3613680" cy="179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tiparasitic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FTI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 op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TTE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kunne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eg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linda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amitraz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ectodex, promeris du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permethr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scalib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arbamate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exil,kiltix,prevent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s op: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LL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unnen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nie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ivermec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elamec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promeris du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parasi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GIFTI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s op: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hihuahu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kan niet tegen amitraz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as op: geen producten die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rganis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fosfat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bevatten (bv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yfle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mbineren met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carbamaten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b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kiltix,preventic,exil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antidoot van org. fosf. is </a:t>
            </a:r>
            <a:r>
              <a:rPr b="1" i="1" lang="nl-NL" sz="3200" spc="-1" strike="noStrike">
                <a:solidFill>
                  <a:srgbClr val="000000"/>
                </a:solidFill>
                <a:latin typeface="Calibri"/>
              </a:rPr>
              <a:t>atrop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eslachtshormonen hond en k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reu + ka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Wanneer een reu niet operatief gecastreerd kan/wil worde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Hypersexualiteit (ka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Prostaathypertrofi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Goedaardig perianaal adenoo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tadin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ogesteronderivaat</a:t>
            </a: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elmadinonaceta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ijwerk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romegali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7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d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Delmadinonacetaa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Calibri"/>
              </a:rPr>
              <a:t>Na 8 weken weer paring mogelijk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ijwerk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romegali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erkleuring vach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143760" y="3143160"/>
            <a:ext cx="1925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sheidprev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olsheidprev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vost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ezenp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roxo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voster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oestrog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jwe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estrus niet teru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andeling in prooestrus: nog week vruchtba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t bij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est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c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mmatumo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71_94842"/>
          <p:cNvPicPr/>
          <p:nvPr/>
        </p:nvPicPr>
        <p:blipFill>
          <a:blip r:embed="rId1"/>
          <a:stretch/>
        </p:blipFill>
        <p:spPr>
          <a:xfrm>
            <a:off x="6000840" y="3929040"/>
            <a:ext cx="2448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oezenp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gestrolaceta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Poezepil® (minidosis)"/>
          <p:cNvPicPr/>
          <p:nvPr/>
        </p:nvPicPr>
        <p:blipFill>
          <a:blip r:embed="rId1"/>
          <a:stretch/>
        </p:blipFill>
        <p:spPr>
          <a:xfrm>
            <a:off x="4643280" y="2500200"/>
            <a:ext cx="35053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roxo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droxyprogesteronaceta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: p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uspensie: te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Medroxoral® tabletten"/>
          <p:cNvPicPr/>
          <p:nvPr/>
        </p:nvPicPr>
        <p:blipFill>
          <a:blip r:embed="rId1"/>
          <a:stretch/>
        </p:blipFill>
        <p:spPr>
          <a:xfrm>
            <a:off x="5715000" y="1928880"/>
            <a:ext cx="2509920" cy="180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Medroxoral® susp. pro inj."/>
          <p:cNvPicPr/>
          <p:nvPr/>
        </p:nvPicPr>
        <p:blipFill>
          <a:blip r:embed="rId2"/>
          <a:stretch/>
        </p:blipFill>
        <p:spPr>
          <a:xfrm>
            <a:off x="5929200" y="4071960"/>
            <a:ext cx="2308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gewenste dek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iz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ot dag 45 na dek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e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http://diergeneesmiddelen.info/images/Alizin.jpg"/>
          <p:cNvPicPr/>
          <p:nvPr/>
        </p:nvPicPr>
        <p:blipFill>
          <a:blip r:embed="rId1"/>
          <a:stretch/>
        </p:blipFill>
        <p:spPr>
          <a:xfrm>
            <a:off x="5715000" y="2357280"/>
            <a:ext cx="1962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slachtshormonen teef + p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ijnzwangersch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mming afgifte prolac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alas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bergo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actaf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romocript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ntrala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ergol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Contralac5"/>
          <p:cNvPicPr/>
          <p:nvPr/>
        </p:nvPicPr>
        <p:blipFill>
          <a:blip r:embed="rId1"/>
          <a:stretch/>
        </p:blipFill>
        <p:spPr>
          <a:xfrm>
            <a:off x="5724360" y="3429000"/>
            <a:ext cx="16290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euze antibiotic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acterie gevoelig ja/n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ntibiogr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omt antibioticum op juiste pl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rsoo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voorbeeld konijnen/knaagdieren → dysbacteri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gistr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chttij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Schildkli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childkli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icijnen die de schildklier onderdrukken. Deze werken door de productie en afgifte  van het schildklierhormoon uit de schildklieren te verminder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dicijnen die schildklierhormoon beva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erthyreoidie k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elimaz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hiamaz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tabilisatie voor chirurg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nge termijn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trole bij langdur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matolog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4 tota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anneer controle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 behande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3-6-10-20 wek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arna om de 3 m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perthyreoidie k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limaz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mindert de glomerulaire filtr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ico-voordeel afwegen bij nierpatien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ire leveraandoen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immuunziek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ornis witte,rode bloedc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cht en lacta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ypothyreoidie hond en k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orthyron/ L-Thyrox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vothyroxine natri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rimaire en secundaire hypothyreoïdi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forthyronp20packshot"/>
          <p:cNvPicPr/>
          <p:nvPr/>
        </p:nvPicPr>
        <p:blipFill>
          <a:blip r:embed="rId1"/>
          <a:stretch/>
        </p:blipFill>
        <p:spPr>
          <a:xfrm>
            <a:off x="5429160" y="4143240"/>
            <a:ext cx="30974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Bijn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Ziekte van cus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tory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lost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kkeert synthese van cortis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stell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juiste dosering dm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H- stimulatiete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bij lever- en nierinsufficien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Vetoryl 60 mg 30 capsules &lt;b&gt;(Rx)&lt;/b&gt;"/>
          <p:cNvPicPr/>
          <p:nvPr/>
        </p:nvPicPr>
        <p:blipFill>
          <a:blip r:embed="rId1"/>
          <a:stretch/>
        </p:blipFill>
        <p:spPr>
          <a:xfrm>
            <a:off x="5364000" y="4437000"/>
            <a:ext cx="27910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Wat doen corticosteroïde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orticosteroïden hebben invloed op vele verschillende lichaamsfunc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tstekingsremm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ijnstill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Jeukonderdrukk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nderdrukking afw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5" descr="Cortalone® susp. pro inj."/>
          <p:cNvPicPr/>
          <p:nvPr/>
        </p:nvPicPr>
        <p:blipFill>
          <a:blip r:embed="rId1"/>
          <a:stretch/>
        </p:blipFill>
        <p:spPr>
          <a:xfrm>
            <a:off x="5429160" y="3357720"/>
            <a:ext cx="280836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dnison, dexamethason, triamcinol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ucocorticoide we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ica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umatolog./orthoped. aando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ergische bronch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andoening achterste oogseg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ronische actieve hepat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immuunziek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ergische huidaandoen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Prednoral®  tabletten"/>
          <p:cNvPicPr/>
          <p:nvPr/>
        </p:nvPicPr>
        <p:blipFill>
          <a:blip r:embed="rId1"/>
          <a:stretch/>
        </p:blipFill>
        <p:spPr>
          <a:xfrm>
            <a:off x="6143760" y="4000680"/>
            <a:ext cx="27032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dnison- dexamethas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r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name we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steopor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/p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name thyroidsynthe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ncreat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lceraties MD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idatrofie/spieratrofie (incl. har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5" descr="Dexoral® tabletten"/>
          <p:cNvPicPr/>
          <p:nvPr/>
        </p:nvPicPr>
        <p:blipFill>
          <a:blip r:embed="rId1"/>
          <a:stretch/>
        </p:blipFill>
        <p:spPr>
          <a:xfrm>
            <a:off x="5500800" y="2643120"/>
            <a:ext cx="28796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biot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Groep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Cefalospor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etracycli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minoglycos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acroliden, tiamulin en lincosam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rimetroprim en sulfonami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Fluoroquinol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itri-imidazo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Polymixin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rticosteroid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ij -virusinfec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iabetes melli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osteopor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hartafwij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nierafwij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schimmelinfec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cornea ulce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brandwo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drac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rmoonpreparat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Diabetes mell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Hormoonpreparat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aninsul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zaam bestanddeel; per ml: 40 I.E gezuiverd varkensinsuline (30% amorf, 70% kristallijn zinkinsuli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dica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abetis Mellitus (suikerziek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eld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nd en k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6215040" y="3929040"/>
            <a:ext cx="20098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voornamelijk Gram-posi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penicillinase vormende stafylococc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Smalspectrum penicillinen met werking tegen voornamelijk Gram-nega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reedspectrum penicillinen met werking tegen zowel Gram-positieve als Gram-negatieve bacterië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reedspectrum penicillinen met een specifiek toepassingsgebied (infecties door Pseudomonas species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enicillin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toren vorming celwand bacter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vergevoeligheid/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BIJ KNAAGDIER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moxicilline/ampicillin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reedspectrum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amoxoral_50mg"/>
          <p:cNvPicPr/>
          <p:nvPr/>
        </p:nvPicPr>
        <p:blipFill>
          <a:blip r:embed="rId1"/>
          <a:stretch/>
        </p:blipFill>
        <p:spPr>
          <a:xfrm>
            <a:off x="5429160" y="25718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2"/>
          <a:stretch/>
        </p:blipFill>
        <p:spPr>
          <a:xfrm>
            <a:off x="3643200" y="4929120"/>
            <a:ext cx="1509840" cy="180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Albipen LA 200 ml, 1 flesje"/>
          <p:cNvPicPr/>
          <p:nvPr/>
        </p:nvPicPr>
        <p:blipFill>
          <a:blip r:embed="rId3"/>
          <a:stretch/>
        </p:blipFill>
        <p:spPr>
          <a:xfrm>
            <a:off x="5429160" y="4929120"/>
            <a:ext cx="24051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Cefalosporin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toren celwand bacterië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cid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met tetracyclines (antagonis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n braken en diarrhee gev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s allergie/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r behandeling van huid- urine- en luchtweginfec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efalex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IET BIJ KNAAGD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4786200" y="4857840"/>
            <a:ext cx="1808280" cy="180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pfizerah.com/PAHimages/OverviewImages/Convenia.jpg"/>
          <p:cNvPicPr/>
          <p:nvPr/>
        </p:nvPicPr>
        <p:blipFill>
          <a:blip r:embed="rId2"/>
          <a:stretch/>
        </p:blipFill>
        <p:spPr>
          <a:xfrm>
            <a:off x="7000920" y="4929120"/>
            <a:ext cx="19051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Antibiotica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etracyclin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mmen eiwitvor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cteriostatis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et name bij luchtweginfecties en bijvoorbeeld kennelhoest en niesziek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iet bij lever- en nierpatien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ysbacteri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kleuring en verzwakking van gebit bij jonge di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be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xytetracycline, tetracycline, doxycyc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 GESCHIKT VOOR KNAAGD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630840" y="357120"/>
            <a:ext cx="25131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8:57:54Z</dcterms:created>
  <dc:creator>Annemarie</dc:creator>
  <dc:description/>
  <dc:language>en-US</dc:language>
  <cp:lastModifiedBy>Administrator</cp:lastModifiedBy>
  <dcterms:modified xsi:type="dcterms:W3CDTF">2014-01-12T00:03:22Z</dcterms:modified>
  <cp:revision>27</cp:revision>
  <dc:subject/>
  <dc:title>Antibiotica</dc:title>
</cp:coreProperties>
</file>