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0B15-8506-4514-B176-54B07831C3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igenlijk is een combinatie van diergeneesmiddelen altijd een “nieuw” diergeneesmiddel. De wachttijden zijn dan ook de wachttijden voor off label use: 28 dagen voor vlees, 7 dagen voor m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1346-B5BF-49B4-815A-AD58B93E8AB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v micotil: ernstige schade! Met dood als gevolg bij mens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EF83-0EB8-43D6-AA3B-474617054D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329-7756-4D86-9C8B-472A3F8A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1D59-3B3F-468A-8FA5-ED8FE109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1EF-194F-441D-B333-644BAEA71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3634-DC5B-4A2E-9B54-C2C8836CC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6915-F978-4BA8-897B-FA6E77CC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A83E-D825-46A7-9BBF-CC2E1107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1E2-8FB1-4F1F-B1A7-15A64C22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F2A-3685-4852-8C8F-A8400769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634-B664-4001-86E2-0202D2AC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AC1-FF30-4D14-9938-6506CFF2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C63-3BB4-4BE0-A413-B732D53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1D3-89C9-43D9-AD84-10791E87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1BA3-ED0E-4CED-A1F0-40ADB19C1F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vab.knmvd.nl/wvab/formularia/formularia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3534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erantwoord gebruik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van</a:t>
            </a:r>
            <a:br>
              <a:rPr sz="6600"/>
            </a:br>
            <a:r>
              <a:rPr b="1" lang="nl-NL" sz="6600" spc="-1" strike="noStrike">
                <a:solidFill>
                  <a:srgbClr val="660066"/>
                </a:solidFill>
                <a:latin typeface="Berlin Sans FB Demi"/>
              </a:rPr>
              <a:t>diergeneesmiddele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324000" y="6048360"/>
            <a:ext cx="1879560" cy="80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68360" y="378936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de bijsluiter en de instructie van de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ak behandelde dieren goed herkenbaar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pootbanden, elektronisch, lijs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melkstal) en melk behandelde koeien als laat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de melk onderzoeken bij twij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: ook andere diergeneesmiddel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als wormmiddelen en pijnstillers kunnen residuen veroorza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vdgmge8"/>
          <p:cNvPicPr/>
          <p:nvPr/>
        </p:nvPicPr>
        <p:blipFill>
          <a:blip r:embed="rId1"/>
          <a:stretch/>
        </p:blipFill>
        <p:spPr>
          <a:xfrm>
            <a:off x="395280" y="260280"/>
            <a:ext cx="4103640" cy="3627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767120" y="42372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076720" y="907920"/>
            <a:ext cx="32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kom oversch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an de residun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042920" y="3716280"/>
            <a:ext cx="6462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moet u no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diergeneesmiddel, REG NL nummer en batch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atum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te hoeveel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aam en nummer d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koppelbehandeling: afdeling en aantal behandelde d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nde wachttijd na laatste toedi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di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verancier van het diergenees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vdgmge9"/>
          <p:cNvPicPr/>
          <p:nvPr/>
        </p:nvPicPr>
        <p:blipFill>
          <a:blip r:embed="rId1"/>
          <a:stretch/>
        </p:blipFill>
        <p:spPr>
          <a:xfrm>
            <a:off x="1908000" y="189000"/>
            <a:ext cx="4608720" cy="35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24000" y="4292640"/>
            <a:ext cx="8353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valueer behandelingen regelmat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t uw dieren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it is van belang voor toekomstige behande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ld bijwerkingen aan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vdgmge10"/>
          <p:cNvPicPr/>
          <p:nvPr/>
        </p:nvPicPr>
        <p:blipFill>
          <a:blip r:embed="rId1"/>
          <a:stretch/>
        </p:blipFill>
        <p:spPr>
          <a:xfrm>
            <a:off x="250920" y="333360"/>
            <a:ext cx="6480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vdgmge11"/>
          <p:cNvPicPr/>
          <p:nvPr/>
        </p:nvPicPr>
        <p:blipFill>
          <a:blip r:embed="rId1"/>
          <a:stretch/>
        </p:blipFill>
        <p:spPr>
          <a:xfrm>
            <a:off x="611280" y="260280"/>
            <a:ext cx="4680000" cy="390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4500720" y="3933720"/>
            <a:ext cx="439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ijk op de verpakking en/of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oteer de aanprikdatum op de fl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erk de voorra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waar buiten het bereik van ki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716360" y="6922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waaradviezen 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24000" y="5877000"/>
            <a:ext cx="81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eerd bewaren kan de werkzaamheid en de diergezondheid nadelig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een lijst met 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z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h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smal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: bree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keus, breedspectrum, gereserveerd voor humaan gebruik (bijv: baytril en cobact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vab.knmvd.nl/wvab/formularia/formul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gezondheids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G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orboekje voor diergezondheid op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ruk op prev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drijfsbehandelpla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lke dgm bij welke ziektebeel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,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en 3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DD: dagdosering antibiotica per dierj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boerderij%20tjerk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76248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"/>
          <p:cNvSpPr/>
          <p:nvPr/>
        </p:nvSpPr>
        <p:spPr>
          <a:xfrm>
            <a:off x="1979640" y="119700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>
                <a:solidFill>
                  <a:srgbClr val="660066"/>
                </a:solidFill>
                <a:latin typeface="Berlin Sans FB Demi"/>
              </a:rPr>
              <a:t>EIND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24000" y="6093000"/>
            <a:ext cx="1512720" cy="60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knmvd logo PMS 2603"/>
          <p:cNvPicPr/>
          <p:nvPr/>
        </p:nvPicPr>
        <p:blipFill>
          <a:blip r:embed="rId3"/>
          <a:stretch/>
        </p:blipFill>
        <p:spPr>
          <a:xfrm>
            <a:off x="7696080" y="5105520"/>
            <a:ext cx="1190880" cy="1752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gescherpt bele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: AB gebruik in ja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1 20 % om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B gebruik in 2013 gehalveer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3213000"/>
            <a:ext cx="89996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paal de ziekteverwekker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r zijn verschillende soorten; virussen, bacterië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 parasi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em behandeling op de ziekteverwekker 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ntibiotica werken alleen tegen bacteri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Niet alle antibiotica werken tegen alle bacteriën.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aat een gevoeligheidsbepaling doen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van belang voor toekomstige behandeli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eck de andere risicofactoren zoals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klimaat, huisvesting en voe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handel alleen als dat nodig 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vdgmge1"/>
          <p:cNvPicPr/>
          <p:nvPr/>
        </p:nvPicPr>
        <p:blipFill>
          <a:blip r:embed="rId1"/>
          <a:stretch/>
        </p:blipFill>
        <p:spPr>
          <a:xfrm>
            <a:off x="1979640" y="765000"/>
            <a:ext cx="4319640" cy="3030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95280" y="260280"/>
            <a:ext cx="836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en goede behandeling begint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 juist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ag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611280" y="43657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ntroleer het REG NL n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s en bewaar de bijslu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udt u aan het bedrijfsbehandelplan of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 over het in te zetten mid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vdgmge2"/>
          <p:cNvPicPr/>
          <p:nvPr/>
        </p:nvPicPr>
        <p:blipFill>
          <a:blip r:embed="rId1"/>
          <a:stretch/>
        </p:blipFill>
        <p:spPr>
          <a:xfrm>
            <a:off x="250920" y="333360"/>
            <a:ext cx="4897440" cy="4076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447120" y="108000"/>
            <a:ext cx="8679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leen geregistreer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vdgmge3"/>
          <p:cNvPicPr/>
          <p:nvPr/>
        </p:nvPicPr>
        <p:blipFill>
          <a:blip r:embed="rId1"/>
          <a:stretch/>
        </p:blipFill>
        <p:spPr>
          <a:xfrm>
            <a:off x="539640" y="333360"/>
            <a:ext cx="4969080" cy="3559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684360" y="3716280"/>
            <a:ext cx="806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la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ns op onvoldoende resultaat en resistentievor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te hoge doser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ogelijk gevaar voor het dier en/of een langere wachttij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voer of drinkwatermedicati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oseer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992920" y="639720"/>
            <a:ext cx="268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651640" y="765000"/>
            <a:ext cx="279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jk niet af van de aanbevolen dos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vdgmge4"/>
          <p:cNvPicPr/>
          <p:nvPr/>
        </p:nvPicPr>
        <p:blipFill>
          <a:blip r:embed="rId1"/>
          <a:stretch/>
        </p:blipFill>
        <p:spPr>
          <a:xfrm>
            <a:off x="5867280" y="189000"/>
            <a:ext cx="2880000" cy="23590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723960"/>
            <a:ext cx="914400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oudt u aan de aanbevol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oedieningswij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t op de juiste injectieplaats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M (Intramusculair) = in de sp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C (Subcutaan) = onder de h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ek een schoon stuk huid en werk hygië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wegwerpmateriaal of schone spu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scherpe naalden. Botte naalden veroorzaken meer pijn en veel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efselsch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inig en desinfecteer de speenpunt g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bruik de korte punt van de in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aal (via voer of drink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Neem de juiste dosering (per kg lichaamsgewic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voer voor goede me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rg in drinkwater voor volledig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Topicaal (op de hu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afdruipen naar het u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971640" y="4292640"/>
            <a:ext cx="784836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ak de behandeling altijd af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ok al lijkt het dier b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 kort behandelen kan leiden to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rugkeer van het ziekte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n/of resistentie-ontwikk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ij onvoldoende resultaat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erleg met uw dieren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vdgmge5"/>
          <p:cNvPicPr/>
          <p:nvPr/>
        </p:nvPicPr>
        <p:blipFill>
          <a:blip r:embed="rId1"/>
          <a:stretch/>
        </p:blipFill>
        <p:spPr>
          <a:xfrm>
            <a:off x="1547640" y="115920"/>
            <a:ext cx="5112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1619280" y="4005360"/>
            <a:ext cx="583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aties kun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erking opheffen of juist verst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schadelijk z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elkaars wachttijd beïnvlo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vdgmge6"/>
          <p:cNvPicPr/>
          <p:nvPr/>
        </p:nvPicPr>
        <p:blipFill>
          <a:blip r:embed="rId1"/>
          <a:stretch/>
        </p:blipFill>
        <p:spPr>
          <a:xfrm>
            <a:off x="468360" y="115920"/>
            <a:ext cx="4032360" cy="36100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840200" y="250920"/>
            <a:ext cx="369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bruik alleen combinaties v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ergeneesmiddelen 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w dierenarts dit advise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826920" y="4508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zelfinjec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orkom inslikken en/of inademen, gebruik beschermingsmidd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as uw handen na toediening of draag handscho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vdgmge7"/>
          <p:cNvPicPr/>
          <p:nvPr/>
        </p:nvPicPr>
        <p:blipFill>
          <a:blip r:embed="rId1"/>
          <a:stretch/>
        </p:blipFill>
        <p:spPr>
          <a:xfrm>
            <a:off x="971640" y="115920"/>
            <a:ext cx="3909960" cy="4392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5272200" y="539640"/>
            <a:ext cx="239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nk aan uw 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08:29:31Z</dcterms:created>
  <dc:creator>Wiel van den Ekker</dc:creator>
  <dc:description/>
  <dc:language>en-US</dc:language>
  <cp:lastModifiedBy>Administrator</cp:lastModifiedBy>
  <dcterms:modified xsi:type="dcterms:W3CDTF">2014-01-08T10:05:20Z</dcterms:modified>
  <cp:revision>14</cp:revision>
  <dc:subject/>
  <dc:title>Verantwoord gebruik van diergeneesmiddelen</dc:title>
</cp:coreProperties>
</file>