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A6F0-49F6-43E7-B30A-4B4CBEC46E5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377A-E640-4062-9C24-DCD7EA69354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125C-5078-4C04-A368-A180539CE1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uur voor alle gevaarlijke stoffen zoals toxische stoffen,..., welke in het bloed kunnen ronddrijv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1338-055A-4865-9C61-172A12B7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EABD-9231-48BE-9CC4-DE653953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BF5-49C3-429B-8B86-9A8D0004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BE2-DCB6-4E82-AB30-B4F81788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720-AF95-4EA2-8225-A50E1683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2E0-FC0E-4EDB-847D-52A74299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FC3-432A-4B4E-A4E4-357A63B2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FEF-387F-42D3-8F3C-7E17205B3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CED3-1B29-4E0E-B9F7-73BAE3A4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A86-038C-45F4-B065-7E35C75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953F-C4A4-4F6C-9BEA-94C1E1CB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F3A-1EF7-414D-BE9A-CDED9A94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1371-1222-492C-A111-A18BCEBB9022}" type="slidenum">
              <a:rPr b="0" lang="nl-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fass.se/LIF/RootMedia/Pfizer20AB/Media/Microlax/microl7e15fimage002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fass.se/LIF/RootMedia/Pfizer20AB/Media/Microlax/microl7e15fimage001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legemiddelsiden.no/bilder/tablettbilder/P1120_Stesolid_stikkp10mg_R10_L.jpg" TargetMode="External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terinaire apoth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Farmacokinetie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C – minimaal effectieve concentr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TC – minimaal toxische concentrat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herapeutische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chil tussen MEC en 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reed ↔ s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nelheid van omzetting/uitschei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door verschil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tal mg/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seringsinterv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osering bereken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het gewicht van het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het doseringsvoorschrift van het medicijn: vaak mg werkzame stof/ kg dier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g werkzame stof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a) x (b) </a:t>
            </a:r>
            <a:r>
              <a:rPr b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(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Kijk naar de hoeveelheid werkzame stof in het medicijn: vb. dit middel bevat ….mg werkzame stof/ml oplossing 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(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paal nu hoeveel ml het dier nodig heef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c)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: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rekenen"/>
          <p:cNvPicPr/>
          <p:nvPr/>
        </p:nvPicPr>
        <p:blipFill>
          <a:blip r:embed="rId1"/>
          <a:stretch/>
        </p:blipFill>
        <p:spPr>
          <a:xfrm>
            <a:off x="7199280" y="4913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emeen Dagblad:14-11-0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krantenartikel verplegers    toevoegen"/>
          <p:cNvPicPr/>
          <p:nvPr/>
        </p:nvPicPr>
        <p:blipFill>
          <a:blip r:embed="rId1"/>
          <a:stretch/>
        </p:blipFill>
        <p:spPr>
          <a:xfrm>
            <a:off x="1600200" y="914400"/>
            <a:ext cx="5811840" cy="57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Toedienings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so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aantal) Patiënt(e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nelheid werk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iergeneesmidde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orzaak van de ziek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zondheidstoe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Hoeveelheid medicij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raktisch uit te voeren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kuikens"/>
          <p:cNvPicPr/>
          <p:nvPr/>
        </p:nvPicPr>
        <p:blipFill>
          <a:blip r:embed="rId1"/>
          <a:stretch/>
        </p:blipFill>
        <p:spPr>
          <a:xfrm>
            <a:off x="4572000" y="2000160"/>
            <a:ext cx="40384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edieningswijz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langrijke vra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Lokaal (topic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ystemisch (oraal, rectaal, parentera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Hoe komen medicijnen op de plaats waar ze moeten werke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opicaal: direct op de p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aal: uit darm naar het bloed (maagzuur, eiwitsplitsende enzymen, poortader, l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ecta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arenteraal: via het bloed overal (eiwitsplitsende enzymen), behalve waar geen bloedvaten zijn en waar barrière’s zij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kaal / Topic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en op huid, oor of oo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vetaderm_60ml"/>
          <p:cNvPicPr/>
          <p:nvPr/>
        </p:nvPicPr>
        <p:blipFill>
          <a:blip r:embed="rId1"/>
          <a:stretch/>
        </p:blipFill>
        <p:spPr>
          <a:xfrm>
            <a:off x="6000840" y="3286080"/>
            <a:ext cx="2881080" cy="2881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avasan"/>
          <p:cNvPicPr/>
          <p:nvPr/>
        </p:nvPicPr>
        <p:blipFill>
          <a:blip r:embed="rId2"/>
          <a:stretch/>
        </p:blipFill>
        <p:spPr>
          <a:xfrm>
            <a:off x="3429000" y="3643200"/>
            <a:ext cx="2664000" cy="2664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packshot_dermiel_spray"/>
          <p:cNvPicPr/>
          <p:nvPr/>
        </p:nvPicPr>
        <p:blipFill>
          <a:blip r:embed="rId3"/>
          <a:stretch/>
        </p:blipFill>
        <p:spPr>
          <a:xfrm>
            <a:off x="1000080" y="3286080"/>
            <a:ext cx="1784520" cy="2421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Surolan"/>
          <p:cNvPicPr/>
          <p:nvPr/>
        </p:nvPicPr>
        <p:blipFill>
          <a:blip r:embed="rId4"/>
          <a:stretch/>
        </p:blipFill>
        <p:spPr>
          <a:xfrm>
            <a:off x="6929280" y="428760"/>
            <a:ext cx="1516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hu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r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zame stof + drijfgas + soms kleurstof (waarom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s goed de gebruiksaanwijzing! (hoeveel, afstand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vetaderm_60ml"/>
          <p:cNvPicPr/>
          <p:nvPr/>
        </p:nvPicPr>
        <p:blipFill>
          <a:blip r:embed="rId1"/>
          <a:stretch/>
        </p:blipFill>
        <p:spPr>
          <a:xfrm>
            <a:off x="5357880" y="221472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name is afhankelijk v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kt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pen van de werkzame stof (lipofiele karakt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eratoly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ate van hydratie van de hu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mperatuur en vochtigheid van de omge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b4ac25e30f"/>
          <p:cNvPicPr/>
          <p:nvPr/>
        </p:nvPicPr>
        <p:blipFill>
          <a:blip r:embed="rId1"/>
          <a:stretch/>
        </p:blipFill>
        <p:spPr>
          <a:xfrm>
            <a:off x="0" y="5170320"/>
            <a:ext cx="2209680" cy="16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e wordt een geneesmiddel opgenomen, omgezet en uitgescheiden door het lichaa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large_369451"/>
          <p:cNvPicPr/>
          <p:nvPr/>
        </p:nvPicPr>
        <p:blipFill>
          <a:blip r:embed="rId1"/>
          <a:stretch/>
        </p:blipFill>
        <p:spPr>
          <a:xfrm>
            <a:off x="0" y="3552840"/>
            <a:ext cx="4429080" cy="330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5441400" y="3500280"/>
            <a:ext cx="32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ergebonden vari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ierso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Leef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Ziektepro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Condi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Gesl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ré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mulsi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ngsel olie en 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mulgator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lie-in-water-emulsie – O/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oob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-in-olie-emulie – W/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verdunnen met ol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ydrofi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en v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estal bij droge huidaando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ekt minder snel in dan crè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ijft langer aanwezi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houdende za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olvet en vase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melvli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totoxicite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al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5" descr="Surolan"/>
          <p:cNvPicPr/>
          <p:nvPr/>
        </p:nvPicPr>
        <p:blipFill>
          <a:blip r:embed="rId1"/>
          <a:stretch/>
        </p:blipFill>
        <p:spPr>
          <a:xfrm>
            <a:off x="5500800" y="2071800"/>
            <a:ext cx="1557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opicaal – oo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irriter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eri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upp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a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loeiba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okaal – uierinject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lkkoei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s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oogzett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chttijd mel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ma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s de gewenste dosis bereik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raken, opname in de darmen, ziek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emt een ziek dier minder o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storing darmflo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or welke groep medicijn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bunte_pillen_BM_Lif_536511g"/>
          <p:cNvPicPr/>
          <p:nvPr/>
        </p:nvPicPr>
        <p:blipFill>
          <a:blip r:embed="rId1"/>
          <a:stretch/>
        </p:blipFill>
        <p:spPr>
          <a:xfrm>
            <a:off x="5715000" y="1357200"/>
            <a:ext cx="307800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ormen van or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/bolus: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amengeperst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ge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blet met coa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sule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atine-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os poe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nulaa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orrels (isogel</a:t>
            </a:r>
            <a:r>
              <a:rPr b="0" lang="nl-NL" sz="2400" spc="-1" strike="noStrike" baseline="30000">
                <a:solidFill>
                  <a:srgbClr val="000000"/>
                </a:solidFill>
                <a:latin typeface="Calibri"/>
              </a:rPr>
              <a:t>®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loeistof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rank/siroop/pasta (voordelen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asta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oeder in emulsi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voer (voorbeeld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het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pillen"/>
          <p:cNvPicPr/>
          <p:nvPr/>
        </p:nvPicPr>
        <p:blipFill>
          <a:blip r:embed="rId1"/>
          <a:stretch/>
        </p:blipFill>
        <p:spPr>
          <a:xfrm>
            <a:off x="6486480" y="1341360"/>
            <a:ext cx="2657520" cy="279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pillen"/>
          <p:cNvPicPr/>
          <p:nvPr/>
        </p:nvPicPr>
        <p:blipFill>
          <a:blip r:embed="rId2"/>
          <a:stretch/>
        </p:blipFill>
        <p:spPr>
          <a:xfrm>
            <a:off x="6486480" y="4067280"/>
            <a:ext cx="265752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A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   B: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  <a:ea typeface="Arial"/>
              </a:rPr>
              <a:t>  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2491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VRAG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Bij welk medicijn is de kans op maagklachten het grootst?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gebruikt worden voor het toedienen van medicijnen die anders bijvoorbeeld in de maag worden verteerd?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Welk medicijn kan eventueel gebruikt worden voor het toedienen van medicijnen die anders door de lever worden afgebroke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020000" y="13032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5003640" y="12682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2916360" y="1268280"/>
            <a:ext cx="685800" cy="684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611280" y="260280"/>
            <a:ext cx="877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Keuze van de toedieningsv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000000"/>
                </a:solidFill>
                <a:latin typeface="Calibri"/>
                <a:ea typeface="Arial"/>
              </a:rPr>
              <a:t>Medicijn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ille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/tabletten</a:t>
            </a: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medicinale stof en bind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bittere bijsm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capsu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edicinale stof in omhul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mhulsel lost </a:t>
            </a:r>
            <a:r>
              <a:rPr b="0" lang="nl-BE" sz="2400" spc="-1" strike="noStrike">
                <a:solidFill>
                  <a:srgbClr val="0000ff"/>
                </a:solidFill>
                <a:latin typeface="Calibri"/>
                <a:ea typeface="Arial"/>
              </a:rPr>
              <a:t>onder bepaalde omstandigheden</a:t>
            </a: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Calibri"/>
                <a:ea typeface="Arial"/>
              </a:rPr>
              <a:t>zetpill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Zetpillen medicinale stof en wasachtige stof die gemakkelijk smelt in een warmer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Calibri"/>
                <a:ea typeface="Arial"/>
              </a:rPr>
              <a:t>Rectaal/anaal (via de anus) toedien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tal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ly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tpil (Stesol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®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tiool: vb Microlax (lax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microl7e15fimage0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8800" y="5132520"/>
            <a:ext cx="3805200" cy="172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microl7e15fimage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5100480"/>
            <a:ext cx="3876840" cy="175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1120_Stesolid_stikkp10mg_R10_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16360" y="3860640"/>
            <a:ext cx="1563840" cy="91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microlax"/>
          <p:cNvPicPr/>
          <p:nvPr/>
        </p:nvPicPr>
        <p:blipFill>
          <a:blip r:embed="rId7"/>
          <a:stretch/>
        </p:blipFill>
        <p:spPr>
          <a:xfrm>
            <a:off x="6732720" y="2816280"/>
            <a:ext cx="241128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langrijkste transportmedium medicijnen in het licha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oe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bloed_365x243"/>
          <p:cNvPicPr/>
          <p:nvPr/>
        </p:nvPicPr>
        <p:blipFill>
          <a:blip r:embed="rId1"/>
          <a:stretch/>
        </p:blipFill>
        <p:spPr>
          <a:xfrm>
            <a:off x="4929120" y="2706840"/>
            <a:ext cx="347652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ctale toedi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5" descr="veterinary nurse cartoons, veterinary nurse cartoon, veterinary nurse picture, veterinary nurse pictures, veterinary nurse image, veterinary nurse images, veterinary nurse illustration, veterinary nurse illustrations "/>
          <p:cNvPicPr/>
          <p:nvPr/>
        </p:nvPicPr>
        <p:blipFill>
          <a:blip r:embed="rId1"/>
          <a:stretch/>
        </p:blipFill>
        <p:spPr>
          <a:xfrm>
            <a:off x="2428920" y="1857240"/>
            <a:ext cx="420192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roepsmedicat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pdr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rinkwater medic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ëroso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25c703e109"/>
          <p:cNvPicPr/>
          <p:nvPr/>
        </p:nvPicPr>
        <p:blipFill>
          <a:blip r:embed="rId1"/>
          <a:stretch/>
        </p:blipFill>
        <p:spPr>
          <a:xfrm>
            <a:off x="0" y="4186080"/>
            <a:ext cx="4427640" cy="267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Packshot-Vetdiarree1"/>
          <p:cNvPicPr/>
          <p:nvPr/>
        </p:nvPicPr>
        <p:blipFill>
          <a:blip r:embed="rId2"/>
          <a:stretch/>
        </p:blipFill>
        <p:spPr>
          <a:xfrm>
            <a:off x="5580000" y="2060640"/>
            <a:ext cx="31780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Parenterale toedieningsvorm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uiten maagdarmkanaal 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.c. / i.d. / i.m. / i.v. / i.p. / i.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e gebruik ik de spu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oe snel wordt het medicijn opgenom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beeld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or- en nadele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ar op het licha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spuit"/>
          <p:cNvPicPr/>
          <p:nvPr/>
        </p:nvPicPr>
        <p:blipFill>
          <a:blip r:embed="rId1"/>
          <a:stretch/>
        </p:blipFill>
        <p:spPr>
          <a:xfrm>
            <a:off x="2627280" y="3429000"/>
            <a:ext cx="60674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jectieplaats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jectieplaat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399280" cy="3520800"/>
          </a:xfrm>
          <a:prstGeom prst="rect">
            <a:avLst/>
          </a:prstGeom>
          <a:ln w="0">
            <a:noFill/>
          </a:ln>
        </p:spPr>
      </p:pic>
      <p:sp>
        <p:nvSpPr>
          <p:cNvPr id="141" name="Line 5"/>
          <p:cNvSpPr/>
          <p:nvPr/>
        </p:nvSpPr>
        <p:spPr>
          <a:xfrm flipH="1" flipV="1">
            <a:off x="7308360" y="5660640"/>
            <a:ext cx="142920" cy="289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4500720" y="4653000"/>
            <a:ext cx="431640" cy="288720"/>
          </a:xfrm>
          <a:prstGeom prst="line">
            <a:avLst/>
          </a:prstGeom>
          <a:ln w="93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5292720" y="3284640"/>
            <a:ext cx="431640" cy="649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 flipV="1">
            <a:off x="4716000" y="5444640"/>
            <a:ext cx="7164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1979640" y="2276640"/>
            <a:ext cx="504720" cy="0"/>
          </a:xfrm>
          <a:prstGeom prst="line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1979640" y="2492280"/>
            <a:ext cx="5047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1908000" y="292428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erige injectie-technie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= toediening in epidurale ruim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dermaal/intracut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Epidura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ardiaal  = toediening in het h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erebraal  = toediening in de hersen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craniaal  = toediening binnen de sched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racheaal  = toediening in de trachea (luchtpij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Calibri"/>
              </a:rPr>
              <a:t>Intrathoracaal  = toediening in de borsthol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230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6095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ijwerkin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Ongewenste of niet bedoelde effecten die optreden         bij een medische behandel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ategorieë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Toxisch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beschadiging van het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 ototoxiciteit (gentamycine), nefrotoxiciteit, tand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Allergische werking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t allergische reacties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melding in paspoor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rstorende werking: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adelij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lichaamseigen stoff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orden verstoord, bv maagdarmflo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1f49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ntra-ind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Bij sommige aandoeningen kan het gebruik van geneesmiddelen de situatie vererger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geneesmiddelen mogen dan juist </a:t>
            </a:r>
            <a:r>
              <a:rPr b="0" lang="nl-NL" sz="2800" spc="-1" strike="noStrike">
                <a:solidFill>
                  <a:srgbClr val="0000ff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en toegepast bij deze patiënten. Dit heet een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"contra-indicati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voorbeel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uikerzie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slechterde lever- of nier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wangersch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eftijdsgroep (jonge dieren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puppy-vet-doctor-insurance"/>
          <p:cNvPicPr/>
          <p:nvPr/>
        </p:nvPicPr>
        <p:blipFill>
          <a:blip r:embed="rId1"/>
          <a:stretch/>
        </p:blipFill>
        <p:spPr>
          <a:xfrm>
            <a:off x="5614920" y="4516560"/>
            <a:ext cx="3529080" cy="23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9"/>
          <p:cNvSpPr/>
          <p:nvPr/>
        </p:nvSpPr>
        <p:spPr>
          <a:xfrm>
            <a:off x="5257800" y="64008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omplica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ersoort en rasspecifieke 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gevoeligheid, allerg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oseringsfout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Abcesvorm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/ spuitpl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e toediening (IV in plaats van I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oudbaarheidsproblem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erkeerd geneesmidde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ikbaarheid diergeneesmiddel hangt af van opnamesnelhe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wij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V, IM, ora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edieningsv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evoegingen geneesmid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renaline vertraagt opname na i.m. inject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methylsulfoxyde aan huidpreparaat versnelt op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ringsinterv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deling stof over het lichaam 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geneesmid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ipofiel → ophoping in vetweef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genschap van het 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pH ↓ bij ontste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-hersenbarri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ère (BH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649600" y="1600200"/>
            <a:ext cx="3844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abolie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toffen die in het lichaam worden gevormd als het diergeneesmiddel wordt omg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“het medicijn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prednison→prednisol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ms is de metaboliet juist niet meer werkz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Farmacokinetie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itschei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langrijke rol voor lever en nie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ohepatische kringloop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hankelijk 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losbaarheid (vet, w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peling in v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lfwaardetij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nterohepatische kringlo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enterohepatischelus"/>
          <p:cNvPicPr/>
          <p:nvPr/>
        </p:nvPicPr>
        <p:blipFill>
          <a:blip r:embed="rId1"/>
          <a:stretch/>
        </p:blipFill>
        <p:spPr>
          <a:xfrm>
            <a:off x="2714760" y="2000160"/>
            <a:ext cx="350496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7:26:15Z</dcterms:created>
  <dc:creator>Paling</dc:creator>
  <dc:description/>
  <dc:language>en-US</dc:language>
  <cp:lastModifiedBy>Administrator</cp:lastModifiedBy>
  <dcterms:modified xsi:type="dcterms:W3CDTF">2014-01-12T00:13:36Z</dcterms:modified>
  <cp:revision>60</cp:revision>
  <dc:subject/>
  <dc:title>Veterinaire apothee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Locatie">
    <vt:lpwstr>Dordrecht</vt:lpwstr>
  </property>
  <property fmtid="{D5CDD505-2E9C-101B-9397-08002B2CF9AE}" pid="4" name="Niveau">
    <vt:lpwstr>Niveau 4</vt:lpwstr>
  </property>
  <property fmtid="{D5CDD505-2E9C-101B-9397-08002B2CF9AE}" pid="5" name="Status">
    <vt:lpwstr>Concept</vt:lpwstr>
  </property>
</Properties>
</file>