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AB16-F9AF-476C-95EA-37D32213666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igenlijk is een combinatie van diergeneesmiddelen altijd een “nieuw” diergeneesmiddel. De wachttijden zijn dan ook de wachttijden voor off label use: 28 dagen voor vlees, 7 dagen voor me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8FB0-51E7-4C00-9923-594BC48AF36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v micotil: ernstige schade! Met dood als gevolg bij mens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60E4-E150-4C92-AA8F-09D9474382C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D70-DBE4-4B44-A017-34DBF968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A11-4F53-4BCA-B1D2-7A26BF25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DB1-D55C-4C8D-93E3-37FB230E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49C-B867-43D6-9F09-BB9E7E2E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9D0-CB4D-469C-BDD5-D4FCED3F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CDE-3DDD-4F06-9246-A61FCF95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D612-4ED9-4B81-BB2F-D638B780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AC8-316F-4AB8-AC47-231C4378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6C3-876C-4052-B075-4951D561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F4F-EBE3-477C-ADDA-6E6324DA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49F-DE06-405C-AD5A-EC5536C3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E13-A73C-41F2-B713-E4BFB46F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EDFA-E416-4BDC-BEA1-AF7A4A2279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vab.knmvd.nl/wvab/formularia/formularia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boerderij%20tjerk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762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Verantwoord gebruik</a:t>
            </a:r>
            <a:br>
              <a:rPr sz="6600"/>
            </a:b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van</a:t>
            </a:r>
            <a:br>
              <a:rPr sz="6600"/>
            </a:b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diergeneesmiddel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324000" y="6048360"/>
            <a:ext cx="1879560" cy="80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knmvd logo PMS 2603"/>
          <p:cNvPicPr/>
          <p:nvPr/>
        </p:nvPicPr>
        <p:blipFill>
          <a:blip r:embed="rId3"/>
          <a:stretch/>
        </p:blipFill>
        <p:spPr>
          <a:xfrm>
            <a:off x="7696080" y="5105520"/>
            <a:ext cx="1190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68360" y="378936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udt u aan de bijsluiter en de instructie van de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ak behandelde dieren goed herkenbaa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pootbanden, elektronisch, lijs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melkstal) en melk behandelde koeien als laat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at de melk onderzoeken bij twijf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t op: ook andere diergeneesmiddel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als wormmiddelen en pijnstillers kunnen residuen veroorzak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vdgmge8"/>
          <p:cNvPicPr/>
          <p:nvPr/>
        </p:nvPicPr>
        <p:blipFill>
          <a:blip r:embed="rId1"/>
          <a:stretch/>
        </p:blipFill>
        <p:spPr>
          <a:xfrm>
            <a:off x="395280" y="260280"/>
            <a:ext cx="4103640" cy="3627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767120" y="42372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5076720" y="907920"/>
            <a:ext cx="324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kom overschrij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an de residun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042920" y="3716280"/>
            <a:ext cx="6462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t moet u not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am diergeneesmiddel, REG NL nummer en batch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atum toedi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te hoeveel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am en nummer 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koppelbehandeling: afdeling en aantal behandelde d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nde wachttijd na laatste toedi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di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verancier van het diergenees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vdgmge9"/>
          <p:cNvPicPr/>
          <p:nvPr/>
        </p:nvPicPr>
        <p:blipFill>
          <a:blip r:embed="rId1"/>
          <a:stretch/>
        </p:blipFill>
        <p:spPr>
          <a:xfrm>
            <a:off x="1908000" y="189000"/>
            <a:ext cx="460872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24000" y="4292640"/>
            <a:ext cx="8353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valueer behandelingen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t uw dieren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is van belang voor toekomstige behande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ld bijwerkingen aan uw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vdgmge10"/>
          <p:cNvPicPr/>
          <p:nvPr/>
        </p:nvPicPr>
        <p:blipFill>
          <a:blip r:embed="rId1"/>
          <a:stretch/>
        </p:blipFill>
        <p:spPr>
          <a:xfrm>
            <a:off x="250920" y="333360"/>
            <a:ext cx="6480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vdgmge11"/>
          <p:cNvPicPr/>
          <p:nvPr/>
        </p:nvPicPr>
        <p:blipFill>
          <a:blip r:embed="rId1"/>
          <a:stretch/>
        </p:blipFill>
        <p:spPr>
          <a:xfrm>
            <a:off x="611280" y="260280"/>
            <a:ext cx="4680000" cy="390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4500720" y="3933720"/>
            <a:ext cx="439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jk op de verpakking en/of bijslu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teer de aanprikdatum op de fla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perk de voorra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waar buiten het bereik van kind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716360" y="69228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ewaaradviezen diergenee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24000" y="5877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keerd bewaren kan de werkzaamheid en de diergezondheid nadelig beïnvlo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a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een lijst met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euz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h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: smal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: breed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, breedspectrum, gereserveerd voor humaan gebruik (bijv: baytril en cobact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vab.knmvd.nl/wvab/formularia/formul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drijfsgezondheidspla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oorboekje voor diergezondheid op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druk op prev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drijfsbehandelpla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B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dgm bij welke ziektebeel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DD: dagdosering antibiotica per dier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boerderij%20tjerk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7624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1979640" y="119700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600" spc="-1" strike="noStrike">
                <a:solidFill>
                  <a:srgbClr val="660066"/>
                </a:solidFill>
                <a:latin typeface="Berlin Sans FB Demi"/>
              </a:rPr>
              <a:t>EIND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24000" y="6093000"/>
            <a:ext cx="1512720" cy="60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knmvd logo PMS 2603"/>
          <p:cNvPicPr/>
          <p:nvPr/>
        </p:nvPicPr>
        <p:blipFill>
          <a:blip r:embed="rId3"/>
          <a:stretch/>
        </p:blipFill>
        <p:spPr>
          <a:xfrm>
            <a:off x="7696080" y="5105520"/>
            <a:ext cx="1190880" cy="1752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gescherpt belei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: AB gebruik in ja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B gebruik in 2011 20 % om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B gebruik in 2013 gehalvee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3213000"/>
            <a:ext cx="89996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paal de ziekteverwekker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zijn verschillende soorten; virussen, bacterië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parasi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em behandeling op de ziekteverwekker 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Antibiotica werken alleen tegen bacterië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Niet alle antibiotica werken tegen alle bacteriën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at een gevoeligheidsbepaling do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an belang voor toekomstige behandeli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eck de andere risicofactoren zoal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limaat, huisvesting en vo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handel alleen als dat nodig 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dgmge1"/>
          <p:cNvPicPr/>
          <p:nvPr/>
        </p:nvPicPr>
        <p:blipFill>
          <a:blip r:embed="rId1"/>
          <a:stretch/>
        </p:blipFill>
        <p:spPr>
          <a:xfrm>
            <a:off x="1979640" y="765000"/>
            <a:ext cx="4319640" cy="3030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95280" y="260280"/>
            <a:ext cx="836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en goede behandeling begint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 juist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ag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11280" y="436572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troleer het REG NL 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s en bewaar de bijslu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udt u aan het bedrijfsbehandelplan o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leg met uw dierenarts over het in te zetten 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vdgmge2"/>
          <p:cNvPicPr/>
          <p:nvPr/>
        </p:nvPicPr>
        <p:blipFill>
          <a:blip r:embed="rId1"/>
          <a:stretch/>
        </p:blipFill>
        <p:spPr>
          <a:xfrm>
            <a:off x="250920" y="333360"/>
            <a:ext cx="4897440" cy="4076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447120" y="108000"/>
            <a:ext cx="8679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leen geregistreer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ergenee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vdgmge3"/>
          <p:cNvPicPr/>
          <p:nvPr/>
        </p:nvPicPr>
        <p:blipFill>
          <a:blip r:embed="rId1"/>
          <a:stretch/>
        </p:blipFill>
        <p:spPr>
          <a:xfrm>
            <a:off x="539640" y="333360"/>
            <a:ext cx="4969080" cy="3559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684360" y="3716280"/>
            <a:ext cx="806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te lage dose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ns op onvoldoende resultaat en resistentievo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te hoge dose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gelijk gevaar voor het dier en/of een langere wachtti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voer of drinkwatermedicati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seer per kg lichaamsgew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992920" y="63972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651640" y="765000"/>
            <a:ext cx="279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jk niet af van de aanbevolen dos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vdgmge4"/>
          <p:cNvPicPr/>
          <p:nvPr/>
        </p:nvPicPr>
        <p:blipFill>
          <a:blip r:embed="rId1"/>
          <a:stretch/>
        </p:blipFill>
        <p:spPr>
          <a:xfrm>
            <a:off x="5867280" y="189000"/>
            <a:ext cx="2880000" cy="2359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723960"/>
            <a:ext cx="91440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oudt u aan de aanbevo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oedieningswij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je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t op de juiste injectieplaats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M (Intramusculair) = in de sp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C (Subcutaan) = onder de h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ek een schoon stuk huid en werk hygië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wegwerpmateriaal of schone spu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scherpe naalden. Botte naalden veroorzaken meer pijn en vee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efselsch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 het u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inig en desinfecteer de speenpunt g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de korte punt van de inj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raal (via voer of drinkw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eem de juiste dosering (per kg lichaamsgewic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in voer voor goede me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in drinkwater voor volledig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Topicaal (op de hu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afdruipen naar het u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971640" y="4292640"/>
            <a:ext cx="78483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ak de behandeling altijd a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ok al lijkt het dier b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 kort behandelen kan leiden to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rugkeer van het ziekte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/of resistentie-ontwikk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onvoldoende resultaat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leg met uw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vdgmge5"/>
          <p:cNvPicPr/>
          <p:nvPr/>
        </p:nvPicPr>
        <p:blipFill>
          <a:blip r:embed="rId1"/>
          <a:stretch/>
        </p:blipFill>
        <p:spPr>
          <a:xfrm>
            <a:off x="1547640" y="115920"/>
            <a:ext cx="5112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1619280" y="4005360"/>
            <a:ext cx="58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aties kun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elkaars werking opheffen of juist verst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schadelijk z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elkaars wachttijd beïnvlo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vdgmge6"/>
          <p:cNvPicPr/>
          <p:nvPr/>
        </p:nvPicPr>
        <p:blipFill>
          <a:blip r:embed="rId1"/>
          <a:stretch/>
        </p:blipFill>
        <p:spPr>
          <a:xfrm>
            <a:off x="468360" y="115920"/>
            <a:ext cx="4032360" cy="3610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4840200" y="250920"/>
            <a:ext cx="369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bruik alleen combinaties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ergeneesmiddelen 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w dierenarts dit advise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826920" y="4508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zelfinje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inslikken en/of inademen, gebruik beschermingsmidd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s uw handen na toediening of draag handscho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vdgmge7"/>
          <p:cNvPicPr/>
          <p:nvPr/>
        </p:nvPicPr>
        <p:blipFill>
          <a:blip r:embed="rId1"/>
          <a:stretch/>
        </p:blipFill>
        <p:spPr>
          <a:xfrm>
            <a:off x="971640" y="115920"/>
            <a:ext cx="3909960" cy="4392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5272200" y="539640"/>
            <a:ext cx="239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nk aan uw 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8:29:31Z</dcterms:created>
  <dc:creator>Wiel van den Ekker</dc:creator>
  <dc:description/>
  <dc:language>en-US</dc:language>
  <cp:lastModifiedBy>Administrator</cp:lastModifiedBy>
  <dcterms:modified xsi:type="dcterms:W3CDTF">2014-01-08T10:05:20Z</dcterms:modified>
  <cp:revision>14</cp:revision>
  <dc:subject/>
  <dc:title>Verantwoord gebruik van diergeneesmiddelen</dc:title>
</cp:coreProperties>
</file>