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32.jpeg" ContentType="image/jpeg"/>
  <Override PartName="/ppt/media/image36.png" ContentType="image/png"/>
  <Override PartName="/ppt/media/image37.jpeg" ContentType="image/jpeg"/>
  <Override PartName="/ppt/media/image13.png" ContentType="image/png"/>
  <Override PartName="/ppt/media/image40.jpeg" ContentType="image/jpeg"/>
  <Override PartName="/ppt/media/image44.jpeg" ContentType="image/jpeg"/>
  <Override PartName="/ppt/media/image11.jpeg" ContentType="image/jpeg"/>
  <Override PartName="/ppt/media/image9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31.png" ContentType="image/png"/>
  <Override PartName="/ppt/media/image47.jpeg" ContentType="image/jpeg"/>
  <Override PartName="/ppt/media/image48.jpeg" ContentType="image/jpeg"/>
  <Override PartName="/ppt/media/image39.jpeg" ContentType="image/jpeg"/>
  <Override PartName="/ppt/media/image8.jpeg" ContentType="image/jpeg"/>
  <Override PartName="/ppt/media/image38.jpeg" ContentType="image/jpeg"/>
  <Override PartName="/ppt/media/image28.png" ContentType="image/png"/>
  <Override PartName="/ppt/media/image5.png" ContentType="image/png"/>
  <Override PartName="/ppt/media/image43.jpeg" ContentType="image/jpeg"/>
  <Override PartName="/ppt/media/image12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6.jpeg" ContentType="image/jpeg"/>
  <Override PartName="/ppt/media/image35.jpeg" ContentType="image/jpeg"/>
  <Override PartName="/ppt/media/image1.jpeg" ContentType="image/jpeg"/>
  <Override PartName="/ppt/media/image10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6550-4740-41B0-B7D5-AC768CC4B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B36C-756D-4FFA-BEA0-578A7A0C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9007-C7F5-438A-82E1-69769A09D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FC3F-44E9-462A-89EE-23B002067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265A-FC4D-4626-B8A6-FED886DE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2086-F63C-4641-9B34-96182BF2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D931-86D5-498B-934C-404B6BC6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AEC9-FF32-464E-8309-A6172428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58AE-D3A0-4F44-8A3F-7DACB169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6245-9050-497F-A642-C047C04F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B82B-396C-48EE-9EA6-8ADC99F4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B54D-E09C-49CE-A4B0-5FCBD03B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28A5-02D5-4DDF-A3F9-078665132438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ntibiotic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emming van de vorming van nucleïnezuren, waardoor de vorming van DNA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NA wordt gere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emming van de celwandsynth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storing van de permeabiliteit van de celwand, waardoor de cel kapot ga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emming van de eiwitvorming van bacterië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minoglycosid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erstoren eiwitvorm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erstoren de permeabiliteit van het cytoplasmatisch membraa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cteriostatisch en bactericid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or oorontstekingen en oogontstekinge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ijwerkingen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frotoxis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oring gehoor en evenwich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verdosering:circulatieproblem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mbi met penicilline: synergistisch eff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orbe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Neomycine + gentamyc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auribiotic_20ml"/>
          <p:cNvPicPr/>
          <p:nvPr/>
        </p:nvPicPr>
        <p:blipFill>
          <a:blip r:embed="rId1"/>
          <a:stretch/>
        </p:blipFill>
        <p:spPr>
          <a:xfrm>
            <a:off x="6786720" y="257184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gentapolycort_5ml"/>
          <p:cNvPicPr/>
          <p:nvPr/>
        </p:nvPicPr>
        <p:blipFill>
          <a:blip r:embed="rId2"/>
          <a:stretch/>
        </p:blipFill>
        <p:spPr>
          <a:xfrm>
            <a:off x="6786720" y="457200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Macroliden, tiamulin, lincosamid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erstoren eiwitsynthe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cteriostatisch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ij geïnfecteerde wonden, abcesse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n infecties mondhol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ijwerkinge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iet bij leverproblem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odelijke colitis door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erythromycin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groei clostridium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efselirritati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iamuli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v is letha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orbe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croliden: erythromycine,tylomycine,spiramyc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ncosamiden: lincomycine,clindamyc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7219800" y="5072040"/>
            <a:ext cx="1924200" cy="1620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http://www.vetuk.co.uk/images/stomorgyl.JPG"/>
          <p:cNvPicPr/>
          <p:nvPr/>
        </p:nvPicPr>
        <p:blipFill>
          <a:blip r:embed="rId2"/>
          <a:stretch/>
        </p:blipFill>
        <p:spPr>
          <a:xfrm>
            <a:off x="6429240" y="157176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rimethoprim+sulfonamid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Remmen de synthese van het door bacteriën gemaakte foliumzu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nfecties veroorzaakt door micro-organismen: respiratoire infecties, urogenitale infecties, huid- en wondinfecti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lfa’s vaak in combi met trimethoprim → dosering sulfa’s dan lager → dus minder bijwerking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ijwerkinge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ndeier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rkauwers dysbacteri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vergevoeligheidsreact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v: neurologische verschijnsel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IET bij lever-nierafwijking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oorbeel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Trimethoprim en sulfadiazin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6357960" y="4214880"/>
            <a:ext cx="19764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Fluoroquinolonen: 3</a:t>
            </a:r>
            <a:r>
              <a:rPr b="0" lang="nl-NL" sz="36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 keus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Remmend effect op de DNA-synthe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Bactericid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ijwerking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Jonge dieren:afwijking kraakbe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vergevoeligheidsreac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verdosering → neurologisch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bi met aminoglycosiden → synergistisch effec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G BIJ KNAAGDIER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Voorbeel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Enrofloxacin, marbofloxaci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6643800" y="4857840"/>
            <a:ext cx="2030400" cy="1800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http://www.animaldrugsonline.co.uk/media/gbu0/prodlg/marbocyltablets.jpg"/>
          <p:cNvPicPr/>
          <p:nvPr/>
        </p:nvPicPr>
        <p:blipFill>
          <a:blip r:embed="rId2"/>
          <a:stretch/>
        </p:blipFill>
        <p:spPr>
          <a:xfrm>
            <a:off x="6572160" y="2000160"/>
            <a:ext cx="19195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Nitro-imidazol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Breukvorming in het DNA van de bacterië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Bactericid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Darminfecties, infectie van de mondholte, infecties van anaerobe bacterië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Bijwerking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Irritatie maagslijmv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Afbraak andere medicijnen ↓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neurologische verschijnsele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Voorbeel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Metrodinaz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Stomorgyl_1"/>
          <p:cNvPicPr/>
          <p:nvPr/>
        </p:nvPicPr>
        <p:blipFill>
          <a:blip r:embed="rId1"/>
          <a:stretch/>
        </p:blipFill>
        <p:spPr>
          <a:xfrm>
            <a:off x="5643720" y="421488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olymyx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storing celmembra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ing toxinen bacteriën verstor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acterici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tterige en niet-etterige otitis externa (oorontsteking) en oogontstekin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be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olymycine-B sulfa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4929120" y="4643280"/>
            <a:ext cx="1832040" cy="180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surolan_1_small"/>
          <p:cNvPicPr/>
          <p:nvPr/>
        </p:nvPicPr>
        <p:blipFill>
          <a:blip r:embed="rId2"/>
          <a:stretch/>
        </p:blipFill>
        <p:spPr>
          <a:xfrm>
            <a:off x="6715080" y="4500720"/>
            <a:ext cx="1800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Chlooramfenico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rijwel alleen nog te vinden in oogzalf, namelijk CAF-zalf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ij ontstoken en geïrriteerde og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arcinoge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erkzame sto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hlooramfenico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Tijdelijke aanduiding voor inhoud 5" descr="cavasan.jpg"/>
          <p:cNvPicPr/>
          <p:nvPr/>
        </p:nvPicPr>
        <p:blipFill>
          <a:blip r:embed="rId1"/>
          <a:stretch/>
        </p:blipFill>
        <p:spPr>
          <a:xfrm>
            <a:off x="5586480" y="2782800"/>
            <a:ext cx="21621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Vlooi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rontline spot-on + spray; alleen tegen vlooi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rontline Combo; ook tegen teken, bijtende luizen. Ook voor de omgev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frontline"/>
          <p:cNvPicPr/>
          <p:nvPr/>
        </p:nvPicPr>
        <p:blipFill>
          <a:blip r:embed="rId1"/>
          <a:stretch/>
        </p:blipFill>
        <p:spPr>
          <a:xfrm>
            <a:off x="4859280" y="3716280"/>
            <a:ext cx="2368440" cy="2592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FRONTLINE%20SPRAY%20250ML"/>
          <p:cNvPicPr/>
          <p:nvPr/>
        </p:nvPicPr>
        <p:blipFill>
          <a:blip r:embed="rId2"/>
          <a:stretch/>
        </p:blipFill>
        <p:spPr>
          <a:xfrm>
            <a:off x="1547640" y="3716280"/>
            <a:ext cx="2376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Vlooi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dvantage spot on; werkzaam tegen vlooien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zame stof; Imidaclopri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BAYER%20ADVANTAGE%20KAT%204%20PIPETTEN%2080-4%20KG"/>
          <p:cNvPicPr/>
          <p:nvPr/>
        </p:nvPicPr>
        <p:blipFill>
          <a:blip r:embed="rId1"/>
          <a:stretch/>
        </p:blipFill>
        <p:spPr>
          <a:xfrm>
            <a:off x="6084720" y="3429000"/>
            <a:ext cx="1779840" cy="2592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advantage-4-D--NDL-gr"/>
          <p:cNvPicPr/>
          <p:nvPr/>
        </p:nvPicPr>
        <p:blipFill>
          <a:blip r:embed="rId2"/>
          <a:stretch/>
        </p:blipFill>
        <p:spPr>
          <a:xfrm>
            <a:off x="1547640" y="4076640"/>
            <a:ext cx="31435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Vlooi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romeris: voor katten, effectief in het bestrijden van bestaande vlooienplagen en voorkomen van vlooi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romeris DUO: voor honden, ook tegen vlooien en teken. Bevat amitraz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zame stof: Metaflumi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Promeris%20kat%20%204kg%20en%20meer"/>
          <p:cNvPicPr/>
          <p:nvPr/>
        </p:nvPicPr>
        <p:blipFill>
          <a:blip r:embed="rId1"/>
          <a:stretch/>
        </p:blipFill>
        <p:spPr>
          <a:xfrm>
            <a:off x="6372360" y="458136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promerisduo_72_f4777"/>
          <p:cNvPicPr/>
          <p:nvPr/>
        </p:nvPicPr>
        <p:blipFill>
          <a:blip r:embed="rId2"/>
          <a:stretch/>
        </p:blipFill>
        <p:spPr>
          <a:xfrm>
            <a:off x="2268360" y="4653000"/>
            <a:ext cx="149724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ntibiotic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reedspectru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erkzaam tegen veel bacterië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malspectru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erkzaam tegen aantal bacterië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Vlooi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t uitkomen van vlooieneitjes en de ontwikkeling van larven wordt verhinderd, zodat een vlooienbesmetting in het huis wordt voorkomen; het werkt niet tegen de vlooien op het di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6" descr="winkelprogram"/>
          <p:cNvPicPr/>
          <p:nvPr/>
        </p:nvPicPr>
        <p:blipFill>
          <a:blip r:embed="rId1"/>
          <a:stretch/>
        </p:blipFill>
        <p:spPr>
          <a:xfrm>
            <a:off x="4788000" y="4869000"/>
            <a:ext cx="252072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Vlooi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tronghold pakt bijna alle stadia van de vlooiencyclus aan. Het doodt de volwassen vlo, de larven en de eieren op het huisdier en in de omgeving, oormijt. spoelworm, huidmijtinfecties,hartw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zame stof; Selamect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5" descr="stronghold2"/>
          <p:cNvPicPr/>
          <p:nvPr/>
        </p:nvPicPr>
        <p:blipFill>
          <a:blip r:embed="rId1"/>
          <a:stretch/>
        </p:blipFill>
        <p:spPr>
          <a:xfrm>
            <a:off x="6156360" y="4508640"/>
            <a:ext cx="237168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Vlooi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fencare shampoo is een snelwerkende anti-parasitaire wassing tegen vlooien en teken bij de hon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zame stof: permethrin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Niet bij de k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5" descr="474"/>
          <p:cNvPicPr/>
          <p:nvPr/>
        </p:nvPicPr>
        <p:blipFill>
          <a:blip r:embed="rId1"/>
          <a:stretch/>
        </p:blipFill>
        <p:spPr>
          <a:xfrm>
            <a:off x="3780000" y="3933720"/>
            <a:ext cx="12668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helminth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reedsprectrum ontwormingsmiddel, actief tegen rond- en lintwormen in een toediening per behandel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zame stof; Pyrantelembonaat en Praziquant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5" descr="Drontal-Cat%20G"/>
          <p:cNvPicPr/>
          <p:nvPr/>
        </p:nvPicPr>
        <p:blipFill>
          <a:blip r:embed="rId1"/>
          <a:stretch/>
        </p:blipFill>
        <p:spPr>
          <a:xfrm>
            <a:off x="5364000" y="4292640"/>
            <a:ext cx="2140200" cy="2160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Drontal-Dog%20G"/>
          <p:cNvPicPr/>
          <p:nvPr/>
        </p:nvPicPr>
        <p:blipFill>
          <a:blip r:embed="rId2"/>
          <a:stretch/>
        </p:blipFill>
        <p:spPr>
          <a:xfrm>
            <a:off x="1619280" y="4292640"/>
            <a:ext cx="20559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 Anthelminth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reedsprectrum ontwormingsmiddel tegen hartworminfecties, zweepworm, haakworm, spoelworm en lintworm bij de h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poelworm, haakworm en lintworm bij de k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zame stof; milbemyc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xime en 125mg praziquant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MilbemaxDispencer1"/>
          <p:cNvPicPr/>
          <p:nvPr/>
        </p:nvPicPr>
        <p:blipFill>
          <a:blip r:embed="rId1"/>
          <a:stretch/>
        </p:blipFill>
        <p:spPr>
          <a:xfrm>
            <a:off x="6300720" y="4292640"/>
            <a:ext cx="208764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 Anthelminth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zaam tegen zweepworm, haakworm, spoelworm en lintworm bij de hond en k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kzame stof; Flubendaz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5" descr="flubenol"/>
          <p:cNvPicPr/>
          <p:nvPr/>
        </p:nvPicPr>
        <p:blipFill>
          <a:blip r:embed="rId1"/>
          <a:stretch/>
        </p:blipFill>
        <p:spPr>
          <a:xfrm>
            <a:off x="2124000" y="4076640"/>
            <a:ext cx="4465800" cy="11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 Anthelminth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kzaam tegen rondworm en lintworm bij de k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kzame stof; emodepside en praziquant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5" descr="profender_packung3251de"/>
          <p:cNvPicPr/>
          <p:nvPr/>
        </p:nvPicPr>
        <p:blipFill>
          <a:blip r:embed="rId1"/>
          <a:stretch/>
        </p:blipFill>
        <p:spPr>
          <a:xfrm>
            <a:off x="2627280" y="3933720"/>
            <a:ext cx="40384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Tek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kzaam tegen teken, zandvliegen en hartworm bij de hond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et bij de ka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kzame stof; deltamethr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krijgbaar in halsband en shamp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5" descr="scalibor"/>
          <p:cNvPicPr/>
          <p:nvPr/>
        </p:nvPicPr>
        <p:blipFill>
          <a:blip r:embed="rId1"/>
          <a:stretch/>
        </p:blipFill>
        <p:spPr>
          <a:xfrm>
            <a:off x="2195640" y="4076640"/>
            <a:ext cx="468000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Tek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kzaam tegen teken voor de h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kzame stof; permethr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5" descr="IM001503-1"/>
          <p:cNvPicPr/>
          <p:nvPr/>
        </p:nvPicPr>
        <p:blipFill>
          <a:blip r:embed="rId1"/>
          <a:stretch/>
        </p:blipFill>
        <p:spPr>
          <a:xfrm>
            <a:off x="3348000" y="3213000"/>
            <a:ext cx="201132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Tek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or het verwijderen van teken bij hond en k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kzame stof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kracht en 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iste techni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5" descr="OTOM-AD"/>
          <p:cNvPicPr/>
          <p:nvPr/>
        </p:nvPicPr>
        <p:blipFill>
          <a:blip r:embed="rId1"/>
          <a:stretch/>
        </p:blipFill>
        <p:spPr>
          <a:xfrm>
            <a:off x="4716360" y="2421000"/>
            <a:ext cx="2951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ntibiotic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actericide ↔ bacteriostat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oden ↔ vermeerdering rem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esisten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ngevoelig worden van bacteriën voor een antibiotic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ynergis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ntagonis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Group 5"/>
          <p:cNvGrpSpPr/>
          <p:nvPr/>
        </p:nvGrpSpPr>
        <p:grpSpPr>
          <a:xfrm>
            <a:off x="4643280" y="2500200"/>
            <a:ext cx="4038840" cy="1946160"/>
            <a:chOff x="4643280" y="2500200"/>
            <a:chExt cx="4038840" cy="1946160"/>
          </a:xfrm>
        </p:grpSpPr>
        <p:sp>
          <p:nvSpPr>
            <p:cNvPr id="48" name="Rectangle 6"/>
            <p:cNvSpPr/>
            <p:nvPr/>
          </p:nvSpPr>
          <p:spPr>
            <a:xfrm>
              <a:off x="4643280" y="3668040"/>
              <a:ext cx="1062720" cy="7783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Picture 7" descr="abg021"/>
            <p:cNvPicPr/>
            <p:nvPr/>
          </p:nvPicPr>
          <p:blipFill>
            <a:blip r:embed="rId1"/>
            <a:stretch/>
          </p:blipFill>
          <p:spPr>
            <a:xfrm>
              <a:off x="5068440" y="2500200"/>
              <a:ext cx="3613680" cy="179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tiparasitic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IFTIG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s op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ATTE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kunnen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ni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eg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linda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amitraz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ectodex, promeris du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permethri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scalibo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carbamate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exil,kiltix,preventi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s op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LLI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unnen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nie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ivermect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selamect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promeris du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GIFTI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as op: 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chihuahua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kan niet tegen amitraz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as op: geen producten die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organis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fosfate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bevatten (bv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cyflee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mbineren met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carbamat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b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kiltix,preventic,exil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antidoot van org. fosf. is </a:t>
            </a:r>
            <a:r>
              <a:rPr b="1" i="1" lang="nl-NL" sz="3200" spc="-1" strike="noStrike">
                <a:solidFill>
                  <a:srgbClr val="000000"/>
                </a:solidFill>
                <a:latin typeface="Calibri"/>
              </a:rPr>
              <a:t>atrop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eslachtshormonen hond en k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slachtshormonen reu + kat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ndica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Wanneer een reu niet operatief gecastreerd kan/wil worde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Hypersexualiteit (ka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Prostaathypertrofi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Goedaardig perianaal adenoom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tadin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ogesteronderivaat</a:t>
            </a: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delmadinonacetaa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ijwerking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romegali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iabetes mellitu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rd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Delmadinonacetaa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Na 8 weken weer paring mogelijk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ijwerking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romegali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iabetes mellitu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erkleuring vach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6143760" y="3143160"/>
            <a:ext cx="19256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slachtshormonen teef + po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c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opsheidpreven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rolsheidpreven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voste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ezenp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droxor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slachtshormonen teef + po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voster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tioestrog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jwer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estrus niet teru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handeling in prooestrus: nog week vruchtba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iet bij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estr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ac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mmatumo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abetes mellit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5" descr="71_94842"/>
          <p:cNvPicPr/>
          <p:nvPr/>
        </p:nvPicPr>
        <p:blipFill>
          <a:blip r:embed="rId1"/>
          <a:stretch/>
        </p:blipFill>
        <p:spPr>
          <a:xfrm>
            <a:off x="6000840" y="3929040"/>
            <a:ext cx="244800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slachtshormonen teef + po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oezenp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egestrolacetaa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oeld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Po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5" descr="Poezepil® (minidosis)"/>
          <p:cNvPicPr/>
          <p:nvPr/>
        </p:nvPicPr>
        <p:blipFill>
          <a:blip r:embed="rId1"/>
          <a:stretch/>
        </p:blipFill>
        <p:spPr>
          <a:xfrm>
            <a:off x="4643280" y="2500200"/>
            <a:ext cx="350532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slachtshormonen teef + po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drox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edroxyprogesteronaceta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oeld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ablet: po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uspensie: tee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5" descr="Medroxoral® tabletten"/>
          <p:cNvPicPr/>
          <p:nvPr/>
        </p:nvPicPr>
        <p:blipFill>
          <a:blip r:embed="rId1"/>
          <a:stretch/>
        </p:blipFill>
        <p:spPr>
          <a:xfrm>
            <a:off x="5715000" y="1928880"/>
            <a:ext cx="2509920" cy="1800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Medroxoral® susp. pro inj."/>
          <p:cNvPicPr/>
          <p:nvPr/>
        </p:nvPicPr>
        <p:blipFill>
          <a:blip r:embed="rId2"/>
          <a:stretch/>
        </p:blipFill>
        <p:spPr>
          <a:xfrm>
            <a:off x="5929200" y="4071960"/>
            <a:ext cx="23083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slachtshormonen teef + po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dic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ngewenste dek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liz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ot dag 45 na dek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e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http://diergeneesmiddelen.info/images/Alizin.jpg"/>
          <p:cNvPicPr/>
          <p:nvPr/>
        </p:nvPicPr>
        <p:blipFill>
          <a:blip r:embed="rId1"/>
          <a:stretch/>
        </p:blipFill>
        <p:spPr>
          <a:xfrm>
            <a:off x="5715000" y="2357280"/>
            <a:ext cx="1962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slachtshormonen teef + po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ijnzwangersch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emming afgifte prolact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Galast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abergol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Lactaf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romocript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ontralac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Metergol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5" descr="Contralac5"/>
          <p:cNvPicPr/>
          <p:nvPr/>
        </p:nvPicPr>
        <p:blipFill>
          <a:blip r:embed="rId1"/>
          <a:stretch/>
        </p:blipFill>
        <p:spPr>
          <a:xfrm>
            <a:off x="5724360" y="3429000"/>
            <a:ext cx="162900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ntibiotic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euze antibiotic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acterie gevoelig ja/n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ntibiogra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Komt antibioticum op juiste pl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rsoo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ijvoorbeeld konijnen/knaagdieren → dysbacterio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Registrat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achttij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childkli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childkl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dicijnen die de schildklier onderdrukken. Deze werken door de productie en afgifte  van het schildklierhormoon uit de schildklieren te verminder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dicijnen die schildklierhormoon bevat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yperthyreoidie k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Felimazo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Thiamaz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abilisatie voor chirurg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nge termijn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trole bij langdur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matologi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iochemi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4 tota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nneer control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oor behandel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 3-6-10-20 wek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arna om de 3 m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yperthyreoidie k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limaz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jwerkin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mindert de glomerulaire filtrat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ico-voordeel afwegen bij nierpatien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i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i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maire leveraandoen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abetes mellit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utoimmuunziek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oornis witte,rode bloedc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acht en lactat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ypothyreoidie hond en k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orthyron/ L-Thyrox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levothyroxine natriu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Indica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Primaire en secundaire hypothyreoïdi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5" descr="forthyronp20packshot"/>
          <p:cNvPicPr/>
          <p:nvPr/>
        </p:nvPicPr>
        <p:blipFill>
          <a:blip r:embed="rId1"/>
          <a:stretch/>
        </p:blipFill>
        <p:spPr>
          <a:xfrm>
            <a:off x="5429160" y="4143240"/>
            <a:ext cx="3097440" cy="20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Bijn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Ziekte van cush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tory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ilosta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okkeert synthese van cortis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stell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ontro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juiste dosering dm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H- stimulatiete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iet bij lever- en nierinsufficient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5" descr="Vetoryl 60 mg 30 capsules &lt;b&gt;(Rx)&lt;/b&gt;"/>
          <p:cNvPicPr/>
          <p:nvPr/>
        </p:nvPicPr>
        <p:blipFill>
          <a:blip r:embed="rId1"/>
          <a:stretch/>
        </p:blipFill>
        <p:spPr>
          <a:xfrm>
            <a:off x="5364000" y="4437000"/>
            <a:ext cx="279108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rticosteroid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Wat doen corticosteroïden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orticosteroïden hebben invloed op vele verschillende lichaamsfunct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ntstekingsremm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ijnstill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Jeukonderdrukk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nderdrukking afwe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5" descr="Cortalone® susp. pro inj."/>
          <p:cNvPicPr/>
          <p:nvPr/>
        </p:nvPicPr>
        <p:blipFill>
          <a:blip r:embed="rId1"/>
          <a:stretch/>
        </p:blipFill>
        <p:spPr>
          <a:xfrm>
            <a:off x="5429160" y="3357720"/>
            <a:ext cx="280836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rticosteroid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dnison, dexamethason, triamcinol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ucocorticoide wer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ca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umatolog./orthoped. aandoe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ergische bronchit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andoening achterste oogseg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ronische actieve hepatit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utoimmuunziek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ergische huidaandoen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z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5" descr="Prednoral®  tabletten"/>
          <p:cNvPicPr/>
          <p:nvPr/>
        </p:nvPicPr>
        <p:blipFill>
          <a:blip r:embed="rId1"/>
          <a:stretch/>
        </p:blipFill>
        <p:spPr>
          <a:xfrm>
            <a:off x="6143760" y="4000680"/>
            <a:ext cx="27032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rticosteroid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dnison- dexamethas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jwerk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ort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name weerst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steopor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/p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name thyroidsynthe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sh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ncreatit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abetes mellit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lceraties MD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uidatrofie/spieratrofie (incl. har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5" descr="Dexoral® tabletten"/>
          <p:cNvPicPr/>
          <p:nvPr/>
        </p:nvPicPr>
        <p:blipFill>
          <a:blip r:embed="rId1"/>
          <a:stretch/>
        </p:blipFill>
        <p:spPr>
          <a:xfrm>
            <a:off x="5500800" y="2643120"/>
            <a:ext cx="287964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ntibiotic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Groep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Penicilli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Cefalospori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Tetracycli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Aminoglycos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Macroliden, tiamulin en lincosam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Trimetroprim en sulfonami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Fluoroquinol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Nitri-imidazo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Polymixin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rticosteroid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i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ij -virusinfec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diabetes melli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osteopor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hartafwijkin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nierafwijkin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schimmelinfec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cornea ulc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brandwon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drac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rmoonpreparat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iabetes melli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diabetes mellit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aninsul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erkzaam bestanddeel; per ml: 40 I.E gezuiverd varkensinsuline (30% amorf, 70% kristallijn zinkinsulin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Indica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iabetis Mellitus (suikerziekt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oeld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nd en k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1"/>
          <a:stretch/>
        </p:blipFill>
        <p:spPr>
          <a:xfrm>
            <a:off x="6215040" y="3929040"/>
            <a:ext cx="200988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Penicillin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malspectrum penicillinen met werking tegen voornamelijk Gram-positieve bacterië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malspectrum penicillinen met werking tegen penicillinase vormende stafylococce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malspectrum penicillinen met werking tegen voornamelijk Gram-negatieve bacterië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reedspectrum penicillinen met werking tegen zowel Gram-positieve als Gram-negatieve bacterië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reedspectrum penicillinen met een specifiek toepassingsgebied (infecties door Pseudomonas species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Penicillin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erstoren vorming celwand bacterië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actericid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jwerk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vergevoeligheid/dysbacteri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IET BIJ KNAAGDIER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oorbeel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moxicilline/ampicillin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reedspectrum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amoxoral_50mg"/>
          <p:cNvPicPr/>
          <p:nvPr/>
        </p:nvPicPr>
        <p:blipFill>
          <a:blip r:embed="rId1"/>
          <a:stretch/>
        </p:blipFill>
        <p:spPr>
          <a:xfrm>
            <a:off x="5429160" y="257184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"/>
          <p:cNvPicPr/>
          <p:nvPr/>
        </p:nvPicPr>
        <p:blipFill>
          <a:blip r:embed="rId2"/>
          <a:stretch/>
        </p:blipFill>
        <p:spPr>
          <a:xfrm>
            <a:off x="3643200" y="4929120"/>
            <a:ext cx="1509840" cy="180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Albipen LA 200 ml, 1 flesje"/>
          <p:cNvPicPr/>
          <p:nvPr/>
        </p:nvPicPr>
        <p:blipFill>
          <a:blip r:embed="rId3"/>
          <a:stretch/>
        </p:blipFill>
        <p:spPr>
          <a:xfrm>
            <a:off x="5429160" y="4929120"/>
            <a:ext cx="24051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Cefalosporin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erstoren celwand bacterië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actericid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iet met tetracyclines (antagonism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jwerk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an braken en diarrhee gev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s allergie/dysbacteri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r behandeling van huid- urine- en luchtweginfect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oorbee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efalex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IET BIJ KNAAGDI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4786200" y="4857840"/>
            <a:ext cx="1808280" cy="1800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http://www.pfizerah.com/PAHimages/OverviewImages/Convenia.jpg"/>
          <p:cNvPicPr/>
          <p:nvPr/>
        </p:nvPicPr>
        <p:blipFill>
          <a:blip r:embed="rId2"/>
          <a:stretch/>
        </p:blipFill>
        <p:spPr>
          <a:xfrm>
            <a:off x="7000920" y="4929120"/>
            <a:ext cx="19051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etracyclin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Remmen eiwitvorm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acteriostatisc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Met name bij luchtweginfecties en bijvoorbeeld kennelhoest en niesziek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iet bij lever- en nierpatien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jwerk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ysbacteri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kleuring en verzwakking van gebit bij jonge dier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oorbee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xytetracycline, tetracycline, doxycycl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L GESCHIKT VOOR KNAAGDI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6630840" y="357120"/>
            <a:ext cx="25131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8:57:54Z</dcterms:created>
  <dc:creator>Annemarie</dc:creator>
  <dc:description/>
  <dc:language>en-US</dc:language>
  <cp:lastModifiedBy>Administrator</cp:lastModifiedBy>
  <dcterms:modified xsi:type="dcterms:W3CDTF">2014-01-12T00:03:22Z</dcterms:modified>
  <cp:revision>27</cp:revision>
  <dc:subject/>
  <dc:title>Antibiotica</dc:title>
</cp:coreProperties>
</file>