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2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6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A18-11A8-4F18-84B8-0FA6826B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11F-083D-4301-A0ED-60F42534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93E-0D76-4358-A847-AEB83C6E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E2E-6BFD-4FC1-B64F-72DF654E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622-29FF-4065-B0E7-3012529D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15C-6845-466C-8E98-D98885E7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8BD-2BDF-406E-BCE9-B9E70CCF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44C-0EBE-4DFE-928B-70EE7F45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E8A-F97B-441B-BD69-8FA3CCA6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AD6-BA87-4050-90EA-C14C3C08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8B4-9B44-49FC-972D-06DCE2AC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9EB-86A7-49F8-9A55-0CCD47B1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CE8A-B700-41FE-BBC8-DBD553D1AF6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vorming van nucleïnezuren, waardoor de vorming van DNA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NA wordt gere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celwand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van de permeabiliteit van de celwand, waardoor de cel kapot g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eiwitvorming van bacteri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vorm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de permeabiliteit van het cytoplasmatisch membra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en bacterici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 oorontstekingen en oogontstekinge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frotoxi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ring gehoor en evenw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dosering:circulatie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bi met penicilline: synergistisch eff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eomycine + gent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auribiotic_20ml"/>
          <p:cNvPicPr/>
          <p:nvPr/>
        </p:nvPicPr>
        <p:blipFill>
          <a:blip r:embed="rId1"/>
          <a:stretch/>
        </p:blipFill>
        <p:spPr>
          <a:xfrm>
            <a:off x="6786720" y="2571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gentapolycort_5ml"/>
          <p:cNvPicPr/>
          <p:nvPr/>
        </p:nvPicPr>
        <p:blipFill>
          <a:blip r:embed="rId2"/>
          <a:stretch/>
        </p:blipFill>
        <p:spPr>
          <a:xfrm>
            <a:off x="6786720" y="457200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croliden, tiamulin, lincos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synthe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j geïnfecteerde wonden, abcess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n infecties mondhol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delijke colitis do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rythromycin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groei clostridiu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efselirrit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iamul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v is leth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croliden: erythromycine,tylomycine,spir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cosamiden: lincomycine,clind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219800" y="5072040"/>
            <a:ext cx="1924200" cy="162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vetuk.co.uk/images/stomorgyl.JPG"/>
          <p:cNvPicPr/>
          <p:nvPr/>
        </p:nvPicPr>
        <p:blipFill>
          <a:blip r:embed="rId2"/>
          <a:stretch/>
        </p:blipFill>
        <p:spPr>
          <a:xfrm>
            <a:off x="6429240" y="1571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imethoprim+sulfon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emmen de synthese van het door bacteriën gemaakte foliumz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nfecties veroorzaakt door micro-organismen: respiratoire infecties, urogenitale infecties, huid- en wondinfec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lfa’s vaak in combi met trimethoprim → dosering sulfa’s dan lager → dus minder bijwer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e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rkauwers 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srea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v: neurologische verschijnse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-nierafwij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imethoprim en sulfadiaz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357960" y="4214880"/>
            <a:ext cx="19764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Fluoroquinolonen: 3</a:t>
            </a:r>
            <a:r>
              <a:rPr b="0" lang="nl-NL" sz="3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keu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emmend effect op de DNA-synthe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nge dieren:afwijking kraakbe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gevoeligheidsreac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dosering → neurologisch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 met aminoglycosiden → synergistisch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G BIJ KNAAGDIE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Enrofloxacin, marbofloxac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643800" y="4857840"/>
            <a:ext cx="203040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www.animaldrugsonline.co.uk/media/gbu0/prodlg/marbocyltablets.jpg"/>
          <p:cNvPicPr/>
          <p:nvPr/>
        </p:nvPicPr>
        <p:blipFill>
          <a:blip r:embed="rId2"/>
          <a:stretch/>
        </p:blipFill>
        <p:spPr>
          <a:xfrm>
            <a:off x="6572160" y="2000160"/>
            <a:ext cx="1919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tro-imidazo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reukvorming in het DNA van de bacterië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arminfecties, infectie van de mondholte, infecties van anaerobe bacterië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Irritatie maagslijmv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braak andere medicijnen ↓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eurologische verschijnsele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etrodinaz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Stomorgyl_1"/>
          <p:cNvPicPr/>
          <p:nvPr/>
        </p:nvPicPr>
        <p:blipFill>
          <a:blip r:embed="rId1"/>
          <a:stretch/>
        </p:blipFill>
        <p:spPr>
          <a:xfrm>
            <a:off x="5643720" y="4214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olymyx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celmembra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ing toxinen bacteriën versto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terige en niet-etterige otitis externa (oorontsteking) en oogontstek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lymycine-B sulfa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929120" y="4643280"/>
            <a:ext cx="183204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urolan_1_small"/>
          <p:cNvPicPr/>
          <p:nvPr/>
        </p:nvPicPr>
        <p:blipFill>
          <a:blip r:embed="rId2"/>
          <a:stretch/>
        </p:blipFill>
        <p:spPr>
          <a:xfrm>
            <a:off x="6715080" y="4500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hlooramfenic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wel alleen nog te vinden in oogzalf, namelijk CAF-zal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ontstoken en geïrriteerde o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rcinoge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hlooramfenic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ijdelijke aanduiding voor inhoud 5" descr="cavasan.jpg"/>
          <p:cNvPicPr/>
          <p:nvPr/>
        </p:nvPicPr>
        <p:blipFill>
          <a:blip r:embed="rId1"/>
          <a:stretch/>
        </p:blipFill>
        <p:spPr>
          <a:xfrm>
            <a:off x="5586480" y="278280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spot-on + spray; alleen tegen vloo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Combo; ook tegen teken, bijtende luizen. Ook voor de omge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frontline"/>
          <p:cNvPicPr/>
          <p:nvPr/>
        </p:nvPicPr>
        <p:blipFill>
          <a:blip r:embed="rId1"/>
          <a:stretch/>
        </p:blipFill>
        <p:spPr>
          <a:xfrm>
            <a:off x="4859280" y="3716280"/>
            <a:ext cx="236844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RONTLINE%20SPRAY%20250ML"/>
          <p:cNvPicPr/>
          <p:nvPr/>
        </p:nvPicPr>
        <p:blipFill>
          <a:blip r:embed="rId2"/>
          <a:stretch/>
        </p:blipFill>
        <p:spPr>
          <a:xfrm>
            <a:off x="1547640" y="371628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vantage spot on; werkzaam tegen vlooie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Imidaclopr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BAYER%20ADVANTAGE%20KAT%204%20PIPETTEN%2080-4%20KG"/>
          <p:cNvPicPr/>
          <p:nvPr/>
        </p:nvPicPr>
        <p:blipFill>
          <a:blip r:embed="rId1"/>
          <a:stretch/>
        </p:blipFill>
        <p:spPr>
          <a:xfrm>
            <a:off x="6084720" y="3429000"/>
            <a:ext cx="17798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dvantage-4-D--NDL-gr"/>
          <p:cNvPicPr/>
          <p:nvPr/>
        </p:nvPicPr>
        <p:blipFill>
          <a:blip r:embed="rId2"/>
          <a:stretch/>
        </p:blipFill>
        <p:spPr>
          <a:xfrm>
            <a:off x="1547640" y="407664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: voor katten, effectief in het bestrijden van bestaande vlooienplagen en voorkomen van vloo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 DUO: voor honden, ook tegen vlooien en teken. Bevat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Metaflumi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Promeris%20kat%20%204kg%20en%20meer"/>
          <p:cNvPicPr/>
          <p:nvPr/>
        </p:nvPicPr>
        <p:blipFill>
          <a:blip r:embed="rId1"/>
          <a:stretch/>
        </p:blipFill>
        <p:spPr>
          <a:xfrm>
            <a:off x="6372360" y="4581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promerisduo_72_f4777"/>
          <p:cNvPicPr/>
          <p:nvPr/>
        </p:nvPicPr>
        <p:blipFill>
          <a:blip r:embed="rId2"/>
          <a:stretch/>
        </p:blipFill>
        <p:spPr>
          <a:xfrm>
            <a:off x="2268360" y="4653000"/>
            <a:ext cx="14972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vee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mal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aanta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uitkomen van vlooieneitjes en de ontwikkeling van larven wordt verhinderd, zodat een vlooienbesmetting in het huis wordt voorkomen; het werkt niet tegen de vlooien op het d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winkelprogram"/>
          <p:cNvPicPr/>
          <p:nvPr/>
        </p:nvPicPr>
        <p:blipFill>
          <a:blip r:embed="rId1"/>
          <a:stretch/>
        </p:blipFill>
        <p:spPr>
          <a:xfrm>
            <a:off x="4788000" y="4869000"/>
            <a:ext cx="2520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ronghold pakt bijna alle stadia van de vlooiencyclus aan. Het doodt de volwassen vlo, de larven en de eieren op het huisdier en in de omgeving, oormijt. spoelworm, huidmijtinfecties,hartw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Selame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stronghold2"/>
          <p:cNvPicPr/>
          <p:nvPr/>
        </p:nvPicPr>
        <p:blipFill>
          <a:blip r:embed="rId1"/>
          <a:stretch/>
        </p:blipFill>
        <p:spPr>
          <a:xfrm>
            <a:off x="6156360" y="4508640"/>
            <a:ext cx="2371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fencare shampoo is een snelwerkende anti-parasitaire wassing tegen vlooien en teken bij de ho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permethrin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iet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474"/>
          <p:cNvPicPr/>
          <p:nvPr/>
        </p:nvPicPr>
        <p:blipFill>
          <a:blip r:embed="rId1"/>
          <a:stretch/>
        </p:blipFill>
        <p:spPr>
          <a:xfrm>
            <a:off x="3780000" y="3933720"/>
            <a:ext cx="1266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, actief tegen rond- en lintwormen in een toediening per behand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Pyrantelembonaat en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Drontal-Cat%20G"/>
          <p:cNvPicPr/>
          <p:nvPr/>
        </p:nvPicPr>
        <p:blipFill>
          <a:blip r:embed="rId1"/>
          <a:stretch/>
        </p:blipFill>
        <p:spPr>
          <a:xfrm>
            <a:off x="5364000" y="4292640"/>
            <a:ext cx="214020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rontal-Dog%20G"/>
          <p:cNvPicPr/>
          <p:nvPr/>
        </p:nvPicPr>
        <p:blipFill>
          <a:blip r:embed="rId2"/>
          <a:stretch/>
        </p:blipFill>
        <p:spPr>
          <a:xfrm>
            <a:off x="1619280" y="4292640"/>
            <a:ext cx="2055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 tegen hartworminfecties, zweepworm, haakworm, spoelworm en lintworm bij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oelworm, haakworm en lintworm bij de k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milbemyc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xime en 125mg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MilbemaxDispencer1"/>
          <p:cNvPicPr/>
          <p:nvPr/>
        </p:nvPicPr>
        <p:blipFill>
          <a:blip r:embed="rId1"/>
          <a:stretch/>
        </p:blipFill>
        <p:spPr>
          <a:xfrm>
            <a:off x="6300720" y="4292640"/>
            <a:ext cx="2087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am tegen zweepworm, haakworm, spoelworm en lintworm bij de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Flubendaz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flubenol"/>
          <p:cNvPicPr/>
          <p:nvPr/>
        </p:nvPicPr>
        <p:blipFill>
          <a:blip r:embed="rId1"/>
          <a:stretch/>
        </p:blipFill>
        <p:spPr>
          <a:xfrm>
            <a:off x="2124000" y="4076640"/>
            <a:ext cx="44658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rondworm en lintworm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emodepside en praziquan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profender_packung3251de"/>
          <p:cNvPicPr/>
          <p:nvPr/>
        </p:nvPicPr>
        <p:blipFill>
          <a:blip r:embed="rId1"/>
          <a:stretch/>
        </p:blipFill>
        <p:spPr>
          <a:xfrm>
            <a:off x="2627280" y="3933720"/>
            <a:ext cx="4038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, zandvliegen en hartworm bij de hond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et bij de k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delta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krijgbaar in halsband en shamp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scalibor"/>
          <p:cNvPicPr/>
          <p:nvPr/>
        </p:nvPicPr>
        <p:blipFill>
          <a:blip r:embed="rId1"/>
          <a:stretch/>
        </p:blipFill>
        <p:spPr>
          <a:xfrm>
            <a:off x="2195640" y="4076640"/>
            <a:ext cx="4680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 voor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per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IM001503-1"/>
          <p:cNvPicPr/>
          <p:nvPr/>
        </p:nvPicPr>
        <p:blipFill>
          <a:blip r:embed="rId1"/>
          <a:stretch/>
        </p:blipFill>
        <p:spPr>
          <a:xfrm>
            <a:off x="3348000" y="3213000"/>
            <a:ext cx="20113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or het verwijderen van teken bij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kracht en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iste techni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OTOM-AD"/>
          <p:cNvPicPr/>
          <p:nvPr/>
        </p:nvPicPr>
        <p:blipFill>
          <a:blip r:embed="rId1"/>
          <a:stretch/>
        </p:blipFill>
        <p:spPr>
          <a:xfrm>
            <a:off x="4716360" y="2421000"/>
            <a:ext cx="29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cide ↔ bacteriostat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den ↔ vermeerdering rem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sist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gevoelig worden van bacteriën voor een antibiotic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erg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tagonis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4643280" y="2500200"/>
            <a:ext cx="4038840" cy="1946160"/>
            <a:chOff x="4643280" y="2500200"/>
            <a:chExt cx="4038840" cy="1946160"/>
          </a:xfrm>
        </p:grpSpPr>
        <p:sp>
          <p:nvSpPr>
            <p:cNvPr id="48" name="Rectangle 6"/>
            <p:cNvSpPr/>
            <p:nvPr/>
          </p:nvSpPr>
          <p:spPr>
            <a:xfrm>
              <a:off x="4643280" y="3668040"/>
              <a:ext cx="1062720" cy="7783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7" descr="abg021"/>
            <p:cNvPicPr/>
            <p:nvPr/>
          </p:nvPicPr>
          <p:blipFill>
            <a:blip r:embed="rId1"/>
            <a:stretch/>
          </p:blipFill>
          <p:spPr>
            <a:xfrm>
              <a:off x="5068440" y="2500200"/>
              <a:ext cx="36136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FTI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TT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g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linda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mitraz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ctodex, promeris du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ermethr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calib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arbamat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xil,kiltix,prevent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L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iver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ela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romeris du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GIFT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hihuahu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an niet tegen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geen producten die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rganis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osfat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bevatten (bv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yfle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bineren met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arbamat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iltix,preventic,exi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ntidoot van org. fosf. is </a:t>
            </a:r>
            <a:r>
              <a:rPr b="1" i="1" lang="nl-NL" sz="3200" spc="-1" strike="noStrike">
                <a:solidFill>
                  <a:srgbClr val="000000"/>
                </a:solidFill>
                <a:latin typeface="Calibri"/>
              </a:rPr>
              <a:t>atro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slachtshormonen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reu + k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Wanneer een reu niet operatief gecastreerd kan/wil word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Hypersexualiteit (ka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Prostaathypertrof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Goedaardig perianaal adenoo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tadi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gesteronderivaat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d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Na 8 weken weer paring mogelijk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erkleuring vach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143760" y="3143160"/>
            <a:ext cx="192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ol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roxo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oestrog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 niet teru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ndeling in prooestrus: nog week vruchtb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t bi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mmatumo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71_94842"/>
          <p:cNvPicPr/>
          <p:nvPr/>
        </p:nvPicPr>
        <p:blipFill>
          <a:blip r:embed="rId1"/>
          <a:stretch/>
        </p:blipFill>
        <p:spPr>
          <a:xfrm>
            <a:off x="6000840" y="3929040"/>
            <a:ext cx="2448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gestrolaceta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Poezepil® (minidosis)"/>
          <p:cNvPicPr/>
          <p:nvPr/>
        </p:nvPicPr>
        <p:blipFill>
          <a:blip r:embed="rId1"/>
          <a:stretch/>
        </p:blipFill>
        <p:spPr>
          <a:xfrm>
            <a:off x="4643280" y="2500200"/>
            <a:ext cx="35053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rox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droxyprogesteronaceta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: 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spensie: t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edroxoral® tabletten"/>
          <p:cNvPicPr/>
          <p:nvPr/>
        </p:nvPicPr>
        <p:blipFill>
          <a:blip r:embed="rId1"/>
          <a:stretch/>
        </p:blipFill>
        <p:spPr>
          <a:xfrm>
            <a:off x="5715000" y="1928880"/>
            <a:ext cx="2509920" cy="180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edroxoral® susp. pro inj."/>
          <p:cNvPicPr/>
          <p:nvPr/>
        </p:nvPicPr>
        <p:blipFill>
          <a:blip r:embed="rId2"/>
          <a:stretch/>
        </p:blipFill>
        <p:spPr>
          <a:xfrm>
            <a:off x="5929200" y="4071960"/>
            <a:ext cx="2308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gewenste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iz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t dag 45 na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diergeneesmiddelen.info/images/Alizin.jpg"/>
          <p:cNvPicPr/>
          <p:nvPr/>
        </p:nvPicPr>
        <p:blipFill>
          <a:blip r:embed="rId1"/>
          <a:stretch/>
        </p:blipFill>
        <p:spPr>
          <a:xfrm>
            <a:off x="5715000" y="2357280"/>
            <a:ext cx="1962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ijnzwangersch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afgifte prola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alas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b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actaf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romocript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trala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Contralac5"/>
          <p:cNvPicPr/>
          <p:nvPr/>
        </p:nvPicPr>
        <p:blipFill>
          <a:blip r:embed="rId1"/>
          <a:stretch/>
        </p:blipFill>
        <p:spPr>
          <a:xfrm>
            <a:off x="5724360" y="3429000"/>
            <a:ext cx="16290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ze antibiotic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e gevoelig ja/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gr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mt antibioticum op juist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voorbeeld konijnen/knaagdieren → dysbacteri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gis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chttij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childkli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ildkl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de schildklier onderdrukken. Deze werken door de productie en afgifte  van het schildklierhormoon uit de schildklieren te verminde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schildklierhormoon beva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hiam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bilisatie voor chirurg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nge termijn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ole bij langdur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mat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4 tot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neer contro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 behande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3-6-10-20 we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arna om de 3 m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mindert de glomerulaire fil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ico-voordeel afwegen bij nierpati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ire lever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ornis witte,rode bloedc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 en lact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ypothyreoidie hond en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rthyron/ L-Thyrox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vothyroxine natri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rimaire en secundaire hypothyreoïd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forthyronp20packshot"/>
          <p:cNvPicPr/>
          <p:nvPr/>
        </p:nvPicPr>
        <p:blipFill>
          <a:blip r:embed="rId1"/>
          <a:stretch/>
        </p:blipFill>
        <p:spPr>
          <a:xfrm>
            <a:off x="5429160" y="4143240"/>
            <a:ext cx="30974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ijn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ekte van cu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ry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lost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kkeert synthese van cortis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stell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uiste dosering dm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H- stimulatie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insufficien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Vetoryl 60 mg 30 capsules &lt;b&gt;(Rx)&lt;/b&gt;"/>
          <p:cNvPicPr/>
          <p:nvPr/>
        </p:nvPicPr>
        <p:blipFill>
          <a:blip r:embed="rId1"/>
          <a:stretch/>
        </p:blipFill>
        <p:spPr>
          <a:xfrm>
            <a:off x="5364000" y="4437000"/>
            <a:ext cx="2791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at doen corticosteroïde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rticosteroïden hebben invloed op vele verschillende lichaamsfunc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tstekingsremm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ijnstill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Jeukonderdrukk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derdrukking afw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Cortalone® susp. pro inj."/>
          <p:cNvPicPr/>
          <p:nvPr/>
        </p:nvPicPr>
        <p:blipFill>
          <a:blip r:embed="rId1"/>
          <a:stretch/>
        </p:blipFill>
        <p:spPr>
          <a:xfrm>
            <a:off x="5429160" y="3357720"/>
            <a:ext cx="2808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nison, dexamethason, triamcinol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corticoide 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matolog./orthoped. aando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bronch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andoening achterste oog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sche actieve hep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huid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Prednoral®  tabletten"/>
          <p:cNvPicPr/>
          <p:nvPr/>
        </p:nvPicPr>
        <p:blipFill>
          <a:blip r:embed="rId1"/>
          <a:stretch/>
        </p:blipFill>
        <p:spPr>
          <a:xfrm>
            <a:off x="6143760" y="4000680"/>
            <a:ext cx="27032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nison- dexamethas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r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we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teopor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/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thyroidsynth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lceraties MD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idatrofie/spieratrofie (incl. ha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5" descr="Dexoral® tabletten"/>
          <p:cNvPicPr/>
          <p:nvPr/>
        </p:nvPicPr>
        <p:blipFill>
          <a:blip r:embed="rId1"/>
          <a:stretch/>
        </p:blipFill>
        <p:spPr>
          <a:xfrm>
            <a:off x="5500800" y="2643120"/>
            <a:ext cx="28796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roep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acroliden, tiamulin en lincosam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rimetroprim en sulfonami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Fluoroquinol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itri-imidazo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olymixin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 -virus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iabetes mell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osteopor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hart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nier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chimmel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rnea ulc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randw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rac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ninsul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bestanddeel; per ml: 40 I.E gezuiverd varkensinsuline (30% amorf, 70% kristallijn zinkinsu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abetis Mellitus (suiker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nd en k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215040" y="3929040"/>
            <a:ext cx="20098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posi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penicillinase vormende stafylococc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werking tegen zowel Gram-positieve als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een specifiek toepassingsgebied (infecties door Pseudomonas specie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vorming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moxicilline/ampicill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reedspectru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amoxoral_50mg"/>
          <p:cNvPicPr/>
          <p:nvPr/>
        </p:nvPicPr>
        <p:blipFill>
          <a:blip r:embed="rId1"/>
          <a:stretch/>
        </p:blipFill>
        <p:spPr>
          <a:xfrm>
            <a:off x="5429160" y="2571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3643200" y="4929120"/>
            <a:ext cx="15098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Albipen LA 200 ml, 1 flesje"/>
          <p:cNvPicPr/>
          <p:nvPr/>
        </p:nvPicPr>
        <p:blipFill>
          <a:blip r:embed="rId3"/>
          <a:stretch/>
        </p:blipFill>
        <p:spPr>
          <a:xfrm>
            <a:off x="5429160" y="4929120"/>
            <a:ext cx="240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met tetracyclines (antagonis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n braken en diarrhee gev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s allergie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 behandeling van huid- urine- en luchtweginfec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efalex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786200" y="4857840"/>
            <a:ext cx="180828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pfizerah.com/PAHimages/OverviewImages/Convenia.jpg"/>
          <p:cNvPicPr/>
          <p:nvPr/>
        </p:nvPicPr>
        <p:blipFill>
          <a:blip r:embed="rId2"/>
          <a:stretch/>
        </p:blipFill>
        <p:spPr>
          <a:xfrm>
            <a:off x="7000920" y="4929120"/>
            <a:ext cx="19051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mmen eiwitvo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name bij luchtweginfecties en bijvoorbeeld kennelhoest en niesziek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patien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kleuring en verzwakking van gebit bij jonge d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xytetracycline, tetracycline, doxycyc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GESCHIKT VOOR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630840" y="357120"/>
            <a:ext cx="2513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8:57:54Z</dcterms:created>
  <dc:creator>Annemarie</dc:creator>
  <dc:description/>
  <dc:language>en-US</dc:language>
  <cp:lastModifiedBy>Administrator</cp:lastModifiedBy>
  <dcterms:modified xsi:type="dcterms:W3CDTF">2014-01-12T00:03:22Z</dcterms:modified>
  <cp:revision>27</cp:revision>
  <dc:subject/>
  <dc:title>Antibiotica</dc:title>
</cp:coreProperties>
</file>