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71B-B632-45D3-AABB-5C113422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E5A-957D-4FE3-84B1-8BBD8A51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048-276D-4FC8-B397-286C0F0E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B11-0A37-4BFE-A7A5-EBA9E32F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7C2-BED3-4E5D-9C7C-E7D18EAB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AD6-EBC4-412C-A5EA-190E99FD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41D-DDDE-4890-8605-721C519D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FF8-31D0-4883-9110-2605D524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168-59AD-41C2-BE26-48F25011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336-D467-402C-B882-FDB4C539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DB6-9BCB-4DD4-8FE6-90A3C18C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29C-576B-4FC0-B38D-D20E700F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6E13-2E53-48A5-9A63-5618AD93955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heer veterinaire apoth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Beheren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raadbehe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ren en administreren van ontvangen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deringssystemen, opbergen en beste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tour van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voeren van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-geregistreerde diergeneesmiddelen en humane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Controleren en administreren van ontvangen goeder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 alles gelev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uiste hoeveelheden gelev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valdat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raadadminist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kbonn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iumw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Coderingssystemen, opbergen en bestell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fab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de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iketten, insteekkaartjes, magneetkaartj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cann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tour van 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met goede re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keerde beste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schadi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valda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voeren 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val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retourneerde geneesmiddelen door klan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gebroken verpa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de verpa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kenhuisaf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et geregistreerde diergeneesmiddelen en humane geneesmidde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is niet toegestaan om niet-geregistreerde diergeneesmiddelen op voorraad te heb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l toegestaan is een kleine werkvoorraad humane 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waarvoorschrif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prik- of aanbreek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udbaarhe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name werkz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orming toxische afbraakprodu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eranderingen in smaak, geur of kle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ok kwaliteitsvermindering hulp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Droog langer houdbaar dan n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vriesdroogd vaccin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ntioxida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serveringsmiddel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Bewaarconditie van groot bel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uchtvochtigehe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erpak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be ↔ p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trole vervaldat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trole aanprikdatu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09600" y="1859040"/>
            <a:ext cx="67248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pakking en etiket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pak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ik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po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leveren van dier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Inrichting van de veterinaire apothe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renontvangst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slag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aarlijke 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reekkamervoorra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genvoorra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pakk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oudbaarhe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Visitekaart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 verpakking moet zodanig zijn da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tegen normale behandeling bestand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s van de inhoud kan ontsnap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samenstelling en zuiverheid van de diergeneesmiddelen gewaarborgd zijn gedurende de aangegeven houdbaarheidstermijn en onder de aangegeven bewaaromstandighed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ok voor uitponden en magistraal bereiden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tiket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rint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Minimale inform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ie besluit “Verpakking en etikettering” uit de Diergeneesmiddelenw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raktijketik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am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am clië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tum afgif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erso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ntueel aangevuld m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 van het d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itpon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 grote hoeveelheid naar kleine hoeveel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als uitponden bij registratie is aangege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ó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pakking hiertoe aanleiding ge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slu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i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itpon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abletten uitponden inspreekka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verige toedieningsvormen in aparte ruimte uitponden of in zuurk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met blote handen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40384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leveren dier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s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iket goed lee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sluiter goed lee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seerhulp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aan kinderen onder 12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iften &gt; 18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Magistraal bereiden van diergeneesmiddel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waarden magistrale be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nodigdhe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r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tjes - Latij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geregistreerd diergenees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ander diergenees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humaan 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 één ziektege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voorra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or dierenarts of onder toezicht van dierenar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anpassen hoeveelheid werkzame sto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ablet → suspen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ruim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uurk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ministratie grond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chttijd maxim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aarlijks opgave bij Ministerie van Landbou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nodigdhe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rt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atcili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ijz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eciaal pap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ps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pakkingsmateri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reidingsprotoc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me st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ulpst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oederenontvangstruim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en sluitende ingangscont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voor klanten toegank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in door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 bewaren” direct in koelk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slagruim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makkelijk syste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Productgroep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Op alfabe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ddelen opiumw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Aparte afsluitbare ka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iet toegankelijk voor publi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eilighei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Beschadig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Hygië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iet direct grenzen aan toiletruim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en door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scheiden van opslag andere goede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ntil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lich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nstante temperat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Minimum en maximum registrat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kkelijk schoon te ma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Gladde vloeren/wan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loer vrij hou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IF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dministrati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67723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elruim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cc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ommige aangebroken/aangeprikte verpak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gemene 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ie opslagruim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opslag 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etenswa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kada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48320" y="234648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vaarlijke stoff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iften en bestrijding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aparte afsluitbare k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arschuwingste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ymbool gevaarlijke 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boden toegang voor onbevoeg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reekkamervoorra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raad zo klein mog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ine apothee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ms gehele apotheek in spreekka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genvoorra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aktijkaut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denkast met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ó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2:15:07Z</dcterms:created>
  <dc:creator>Annemarie</dc:creator>
  <dc:description/>
  <dc:language>en-US</dc:language>
  <cp:lastModifiedBy>Administrator</cp:lastModifiedBy>
  <dcterms:modified xsi:type="dcterms:W3CDTF">2014-01-18T20:01:08Z</dcterms:modified>
  <cp:revision>12</cp:revision>
  <dc:subject/>
  <dc:title>Beheer veterinaire apotheek</dc:title>
</cp:coreProperties>
</file>