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C16-4D7D-4AF7-8205-C8349E68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79A-37B3-44A8-8550-0CA0F2B3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FF8-278A-4001-B5BD-186E154E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6E2-5E01-464C-8EB4-1F2A65BD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AFC-D3CC-479F-B792-C8240819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928-B481-4452-AB84-1C65C01D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4EA-C76E-43CA-830C-57B99967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0CC-75B7-4541-9086-F08E770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F2A-0C30-44E4-9894-89E41FBB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3CB-786C-4212-B1AF-C4E9D5A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1E0-5AED-4B90-A040-21F27AA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8F7-4D1B-4E52-ACAB-87B9AA1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0F0-1A72-4087-ACB6-7F05D4DB1FE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eer 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eheren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raadbehe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-geregistreerde diergeneesmiddelen en humane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alles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iste hoeveelheden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adminis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kbo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iumw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fab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ten, insteekkaartjes, magneetkaartj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cann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met goede r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keerde best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voere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retourneerde geneesmiddelen door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ebroken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de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enhuisaf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geregistreerde diergeneesmiddelen en humane geneesmidde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is niet toegestaan om niet-geregistreerde diergeneesmiddelen op voorraad te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 toegestaan is een kleine werkvoorraad humane 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waarvoorschrif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prik- of aanbreek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udbaarhe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name werkz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orming toxische afbraakprodu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anderingen in smaak, geur of kle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k kwaliteitsvermindering hulp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Droog langer houdbaar dan 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vriesdroogd vacc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ntioxida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serveringsmiddel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ewaarconditie van groot be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uchtvochtigehe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be ↔ p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vervaldat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aanprikdatu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9600" y="1859040"/>
            <a:ext cx="6724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en etik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p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leveren van dier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richting van de veterinaire apoth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slag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reekkamer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gen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isitekaar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 verpakking moet zodanig zijn da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tegen normale behandeling bestan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s van de inhoud kan ontsnap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samenstelling en zuiverheid van de diergeneesmiddelen gewaarborgd zijn gedurende de aangegeven houdbaarheidstermijn en onder de aangegeven bewaaromstandighe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ok voor uitponden en magistraal bereiden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tiket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in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inimale inform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besluit “Verpakking en etikettering” uit de Diergeneesmiddelenw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aktijketi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clië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tum afgi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ntueel aangevuld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 van het d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 grote hoeveelheid naar kleine 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als uitponden bij registratie is aange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 hiertoe aanleiding ge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slu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bletten uitponden inspreekka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verige toedieningsvormen in aparte ruimte uitponden of in zuur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met blote handen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leveren dier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sluiter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seerhulp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an kinderen onder 12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&gt; 18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Magistraal bereiden van diergeneesmidd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waarden magistrale be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odigdh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r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tjes - Lat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geregistreerd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ander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humaan 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 één ziekteg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voorra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or dierenarts of onder toezicht van dierenar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passen hoeveelheid werkzame st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ablet → suspen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rui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uurk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ministratie grond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axim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arlijks opgave bij Ministerie van Land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nodigdhe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r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tcili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ij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ciaal pap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ps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pakk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reidings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ulp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en sluitende ingangsc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oor klanten toegank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n doo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 bewaren” direct in koel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slag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makkelijk syste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Productgroe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p alfab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ddelen opiumw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parte afsluitbare k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toegankelijk voor publi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eilighe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direct grenzen aan toiletruim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en door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scheiden van opslag andere goede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ntil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nstante 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Minimum en maximum registrat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kkelijk schoon te ma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Gladde vloeren/wan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loer vrij hou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dministrati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7723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el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cc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mmige aangebroken/aangeprikte verpak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gemene 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opslagruim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opslag 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etensw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kad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en bestrijding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aparte afsluitbare 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schuwingste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ymbool gevaarlijke 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toegang voor onbevoeg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reekkamer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 zo kle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ine apothee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ms gehele apotheek in spreekka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gen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ktijkaut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denkast met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5:07Z</dcterms:created>
  <dc:creator>Annemarie</dc:creator>
  <dc:description/>
  <dc:language>en-US</dc:language>
  <cp:lastModifiedBy>Administrator</cp:lastModifiedBy>
  <dcterms:modified xsi:type="dcterms:W3CDTF">2014-01-18T20:01:08Z</dcterms:modified>
  <cp:revision>12</cp:revision>
  <dc:subject/>
  <dc:title>Beheer veterinaire apotheek</dc:title>
</cp:coreProperties>
</file>