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33B5-25EA-422F-81DD-B0181AC4708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DBE0-7D59-4704-9A9C-09E0E24E1CC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B650-1988-4C5D-B89C-E788C057264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uur voor alle gevaarlijke stoffen zoals toxische stoffen,..., welke in het bloed kunnen ronddrijv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634-03B8-4189-8014-78EFE4A6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66A-49BF-468E-9091-4A94AD5F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EB7-EBB1-44FF-BBC8-461A057D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187-5CF0-42D3-89AB-577BFEFA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6EE-455A-45D3-979C-F5F52BB3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B60-C892-4844-B1B7-0B1D8AC6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5592-ED9A-40F3-A080-FBCD29D7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A0E-EC2F-4ED8-B665-9E357126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9C0-8CC4-4254-AFAC-68DFD363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17F-264F-4D2B-9C0A-185274EC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430-58E5-4F37-8AD6-77C041C2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588-14F3-4F8F-911C-CDA543C2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A9FD-3BC6-42F8-ACF9-DABC1BBB6C68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fass.se/LIF/RootMedia/Pfizer20AB/Media/Microlax/microl7e15fimage002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fass.se/LIF/RootMedia/Pfizer20AB/Media/Microlax/microl7e15fimage001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legemiddelsiden.no/bilder/tablettbilder/P1120_Stesolid_stikkp10mg_R10_L.jpg" TargetMode="External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terinaire apoth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armacokineti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C – minimaal effectieve concentr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TC – minimaal toxische concentra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herapeutische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schil tussen MEC en M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reed ↔ s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nelheid van omzetting/uitschei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erdoor verschil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tal mg/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seringsinterv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osering bereken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het gewicht van het dier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ijk naar het doseringsvoorschrift van het medicijn: vaak mg werkzame stof/ kg dier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nu hoeveel mg werkzame stof het dier nodig heef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a) x (b)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(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ijk naar de hoeveelheid werkzame stof in het medicijn: vb. dit middel bevat ….mg werkzame stof/ml oplossing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nu hoeveel ml het dier nodig heef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c)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d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rekenen"/>
          <p:cNvPicPr/>
          <p:nvPr/>
        </p:nvPicPr>
        <p:blipFill>
          <a:blip r:embed="rId1"/>
          <a:stretch/>
        </p:blipFill>
        <p:spPr>
          <a:xfrm>
            <a:off x="7199280" y="49132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emeen Dagblad:14-11-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krantenartikel verplegers    toevoegen"/>
          <p:cNvPicPr/>
          <p:nvPr/>
        </p:nvPicPr>
        <p:blipFill>
          <a:blip r:embed="rId1"/>
          <a:stretch/>
        </p:blipFill>
        <p:spPr>
          <a:xfrm>
            <a:off x="1600200" y="914400"/>
            <a:ext cx="5811840" cy="57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edieningswij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oedienings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erso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aantal) Patiënt(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nelheid wer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ergeneesmidde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orzaak van de ziek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zondheidstoest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eveelheid medicij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raktisch uit te voere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kuikens"/>
          <p:cNvPicPr/>
          <p:nvPr/>
        </p:nvPicPr>
        <p:blipFill>
          <a:blip r:embed="rId1"/>
          <a:stretch/>
        </p:blipFill>
        <p:spPr>
          <a:xfrm>
            <a:off x="4572000" y="2000160"/>
            <a:ext cx="40384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edieningswij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langrijke vraa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okaal (topica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ystemisch (oraal, rectaal, parentera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oe komen medicijnen op de plaats waar ze moeten werk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opicaal: direct op de pl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aal: uit darm naar het bloed (maagzuur, eiwitsplitsende enzymen, poortader, le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ct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arenteraal: via het bloed overal (eiwitsplitsende enzymen), behalve waar geen bloedvaten zijn en waar barrière’s zij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kaal / Topic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en op huid, oor of oo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vetaderm_60ml"/>
          <p:cNvPicPr/>
          <p:nvPr/>
        </p:nvPicPr>
        <p:blipFill>
          <a:blip r:embed="rId1"/>
          <a:stretch/>
        </p:blipFill>
        <p:spPr>
          <a:xfrm>
            <a:off x="6000840" y="328608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avasan"/>
          <p:cNvPicPr/>
          <p:nvPr/>
        </p:nvPicPr>
        <p:blipFill>
          <a:blip r:embed="rId2"/>
          <a:stretch/>
        </p:blipFill>
        <p:spPr>
          <a:xfrm>
            <a:off x="3429000" y="36432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packshot_dermiel_spray"/>
          <p:cNvPicPr/>
          <p:nvPr/>
        </p:nvPicPr>
        <p:blipFill>
          <a:blip r:embed="rId3"/>
          <a:stretch/>
        </p:blipFill>
        <p:spPr>
          <a:xfrm>
            <a:off x="1000080" y="3286080"/>
            <a:ext cx="1784520" cy="242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Surolan"/>
          <p:cNvPicPr/>
          <p:nvPr/>
        </p:nvPicPr>
        <p:blipFill>
          <a:blip r:embed="rId4"/>
          <a:stretch/>
        </p:blipFill>
        <p:spPr>
          <a:xfrm>
            <a:off x="6929280" y="428760"/>
            <a:ext cx="1516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hu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rè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p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rkzame stof + drijfgas + soms kleurstof (waarom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ees goed de gebruiksaanwijzing! (hoeveel, afstand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upp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vetaderm_60ml"/>
          <p:cNvPicPr/>
          <p:nvPr/>
        </p:nvPicPr>
        <p:blipFill>
          <a:blip r:embed="rId1"/>
          <a:stretch/>
        </p:blipFill>
        <p:spPr>
          <a:xfrm>
            <a:off x="5357880" y="221472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al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name is afhankelijk v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kte van de hu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pen van de werkzame stof (lipofiele karak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eratoly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te van hydratie van de hu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emperatuur en vochtigheid van de omge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b4ac25e30f"/>
          <p:cNvPicPr/>
          <p:nvPr/>
        </p:nvPicPr>
        <p:blipFill>
          <a:blip r:embed="rId1"/>
          <a:stretch/>
        </p:blipFill>
        <p:spPr>
          <a:xfrm>
            <a:off x="0" y="5170320"/>
            <a:ext cx="2209680" cy="16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e wordt een geneesmiddel opgenomen, omgezet en uitgescheiden door het lichaa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large_369451"/>
          <p:cNvPicPr/>
          <p:nvPr/>
        </p:nvPicPr>
        <p:blipFill>
          <a:blip r:embed="rId1"/>
          <a:stretch/>
        </p:blipFill>
        <p:spPr>
          <a:xfrm>
            <a:off x="0" y="3552840"/>
            <a:ext cx="4429080" cy="330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5441400" y="3500280"/>
            <a:ext cx="32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ergebonden vari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Dierso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Leef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Ziektepr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Condi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Gesl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ré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muls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ngsel olie en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mulgator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lie-in-water-emulsie – O/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dunnen met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ydrofoo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-in-olie-emulie – W/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dunnen met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ydrofi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alf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v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estal bij droge huidaando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ekt minder snel in dan crè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lijft langer aanwezi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zond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houdende z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olvet en vase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o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ommelvli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totoxicite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upp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al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5" descr="Surolan"/>
          <p:cNvPicPr/>
          <p:nvPr/>
        </p:nvPicPr>
        <p:blipFill>
          <a:blip r:embed="rId1"/>
          <a:stretch/>
        </p:blipFill>
        <p:spPr>
          <a:xfrm>
            <a:off x="5500800" y="2071800"/>
            <a:ext cx="1557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oo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irriter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ri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a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loeiba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okaal – uierinject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lkkoei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s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oogzet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chttijd mel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r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m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a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s de gewenste dosis bereik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braken, opname in de darmen, ziek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eemt een ziek dier minder o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storing darmflo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or welke groep medicijn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bunte_pillen_BM_Lif_536511g"/>
          <p:cNvPicPr/>
          <p:nvPr/>
        </p:nvPicPr>
        <p:blipFill>
          <a:blip r:embed="rId1"/>
          <a:stretch/>
        </p:blipFill>
        <p:spPr>
          <a:xfrm>
            <a:off x="5715000" y="1357200"/>
            <a:ext cx="307800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rmen van or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/bolus: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amengeperst po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ragee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 met co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psule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latine-omhu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der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os po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ranulaa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orrels (isogel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loeistof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rank/siroop/pasta (voordelen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sta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der in emulsi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het voer (voorbeeld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het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opdr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pillen"/>
          <p:cNvPicPr/>
          <p:nvPr/>
        </p:nvPicPr>
        <p:blipFill>
          <a:blip r:embed="rId1"/>
          <a:stretch/>
        </p:blipFill>
        <p:spPr>
          <a:xfrm>
            <a:off x="6486480" y="1341360"/>
            <a:ext cx="2657520" cy="279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pillen"/>
          <p:cNvPicPr/>
          <p:nvPr/>
        </p:nvPicPr>
        <p:blipFill>
          <a:blip r:embed="rId2"/>
          <a:stretch/>
        </p:blipFill>
        <p:spPr>
          <a:xfrm>
            <a:off x="6486480" y="4067280"/>
            <a:ext cx="265752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A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   B: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  C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VRAG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Bij welk medicijn is de kans op maagklachten het grootst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Welk medicijn kan gebruikt worden voor het toedienen van medicijnen die anders bijvoorbeeld in de maag worden verteerd?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Welk medicijn kan eventueel gebruikt worden voor het toedienen van medicijnen die anders door de lever worden afgebrok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7020000" y="13032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685800" cy="684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611280" y="260280"/>
            <a:ext cx="877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Keuze van de toedieningsv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0000"/>
                </a:solidFill>
                <a:latin typeface="Calibri"/>
                <a:ea typeface="Arial"/>
              </a:rPr>
              <a:t>Medicijn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ille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/tabletten</a:t>
            </a: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medicinale stof en bindmid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bittere bijsma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capsu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edicinale stof in omhu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mhulsel lost </a:t>
            </a:r>
            <a:r>
              <a:rPr b="0" lang="nl-BE" sz="2400" spc="-1" strike="noStrike">
                <a:solidFill>
                  <a:srgbClr val="0000ff"/>
                </a:solidFill>
                <a:latin typeface="Calibri"/>
                <a:ea typeface="Arial"/>
              </a:rPr>
              <a:t>onder bepaalde omstandigheden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zetpill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Zetpillen medicinale stof en wasachtige stof die gemakkelijk smelt in een warmer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Rectaal/anaal (via de anus) toedien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tal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ys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tpil (Stesol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®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tiool: vb Microlax (lax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microl7e15fimage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8800" y="5132520"/>
            <a:ext cx="3805200" cy="172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microl7e15fimage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5100480"/>
            <a:ext cx="3876840" cy="175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P1120_Stesolid_stikkp10mg_R10_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6360" y="3860640"/>
            <a:ext cx="1563840" cy="91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microlax"/>
          <p:cNvPicPr/>
          <p:nvPr/>
        </p:nvPicPr>
        <p:blipFill>
          <a:blip r:embed="rId7"/>
          <a:stretch/>
        </p:blipFill>
        <p:spPr>
          <a:xfrm>
            <a:off x="6732720" y="2816280"/>
            <a:ext cx="2411280" cy="21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langrijkste transportmedium medicijnen in het licha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loe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bloed_365x243"/>
          <p:cNvPicPr/>
          <p:nvPr/>
        </p:nvPicPr>
        <p:blipFill>
          <a:blip r:embed="rId1"/>
          <a:stretch/>
        </p:blipFill>
        <p:spPr>
          <a:xfrm>
            <a:off x="4929120" y="2706840"/>
            <a:ext cx="34765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ct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veterinary nurse cartoons, veterinary nurse cartoon, veterinary nurse picture, veterinary nurse pictures, veterinary nurse image, veterinary nurse images, veterinary nurse illustration, veterinary nurse illustrations "/>
          <p:cNvPicPr/>
          <p:nvPr/>
        </p:nvPicPr>
        <p:blipFill>
          <a:blip r:embed="rId1"/>
          <a:stretch/>
        </p:blipFill>
        <p:spPr>
          <a:xfrm>
            <a:off x="2428920" y="1857240"/>
            <a:ext cx="42019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roepsmedica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pdr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inkwater me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ëros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25c703e109"/>
          <p:cNvPicPr/>
          <p:nvPr/>
        </p:nvPicPr>
        <p:blipFill>
          <a:blip r:embed="rId1"/>
          <a:stretch/>
        </p:blipFill>
        <p:spPr>
          <a:xfrm>
            <a:off x="0" y="4186080"/>
            <a:ext cx="4427640" cy="267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ackshot-Vetdiarree1"/>
          <p:cNvPicPr/>
          <p:nvPr/>
        </p:nvPicPr>
        <p:blipFill>
          <a:blip r:embed="rId2"/>
          <a:stretch/>
        </p:blipFill>
        <p:spPr>
          <a:xfrm>
            <a:off x="5580000" y="2060640"/>
            <a:ext cx="31780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renterale toedieningsvorm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uiten maagdarmkanaal 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.c. / i.d. / i.m. / i.v. / i.p. / i.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e gebruik ik de spu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oe snel wordt het medicijn opgenom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beeld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- en na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ar op het lichaa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spuit"/>
          <p:cNvPicPr/>
          <p:nvPr/>
        </p:nvPicPr>
        <p:blipFill>
          <a:blip r:embed="rId1"/>
          <a:stretch/>
        </p:blipFill>
        <p:spPr>
          <a:xfrm>
            <a:off x="2627280" y="3429000"/>
            <a:ext cx="60674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jectieplaats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jectieplaat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5399280" cy="3520800"/>
          </a:xfrm>
          <a:prstGeom prst="rect">
            <a:avLst/>
          </a:prstGeom>
          <a:ln w="0">
            <a:noFill/>
          </a:ln>
        </p:spPr>
      </p:pic>
      <p:sp>
        <p:nvSpPr>
          <p:cNvPr id="141" name="Line 5"/>
          <p:cNvSpPr/>
          <p:nvPr/>
        </p:nvSpPr>
        <p:spPr>
          <a:xfrm flipH="1" flipV="1">
            <a:off x="7308360" y="5660640"/>
            <a:ext cx="142920" cy="289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4500720" y="4653000"/>
            <a:ext cx="431640" cy="28872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5292720" y="3284640"/>
            <a:ext cx="431640" cy="649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H="1" flipV="1">
            <a:off x="4716000" y="5444640"/>
            <a:ext cx="7164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1979640" y="2276640"/>
            <a:ext cx="504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1979640" y="249228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1908000" y="292428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ige injectie-technie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Epiduraal = toediening in epidurale ruim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dermaal/intracuta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Epidura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ardiaal  = toediening in het h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erebraal  = toediening in de herse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raniaal  = toediening binnen de sche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tracheaal  = toediening in de trachea (luchtpij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thoracaal  = toediening in de borsthol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230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6095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Ongewenste of niet bedoelde effecten die optreden         bij een medische behandeling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tegorieë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xische werking: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t beschadiging van het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 ototoxiciteit (gentamycine), nefrotoxiciteit, tand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Allergische werking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t allergische reacties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melding in paspoor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storende werking: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adelij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lichaamseigen stoffe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orden verstoord, bv maagdarmfl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f49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tra-ind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Bij sommige aandoeningen kan het gebruik van geneesmiddelen de situatie vererger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ze geneesmiddelen mogen dan juist </a:t>
            </a: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en toegepast bij deze patiënten. Dit heet een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"contra-indicati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voorbee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uikerzie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lechterde lever- of nierfunc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wangersch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eeftijdsgroep (jonge diere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puppy-vet-doctor-insurance"/>
          <p:cNvPicPr/>
          <p:nvPr/>
        </p:nvPicPr>
        <p:blipFill>
          <a:blip r:embed="rId1"/>
          <a:stretch/>
        </p:blipFill>
        <p:spPr>
          <a:xfrm>
            <a:off x="5614920" y="4516560"/>
            <a:ext cx="352908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9"/>
          <p:cNvSpPr/>
          <p:nvPr/>
        </p:nvSpPr>
        <p:spPr>
          <a:xfrm>
            <a:off x="5257800" y="64008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ersoort en rasspecifieke proble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gevoeligheid, allerg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oseringsfout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bcesvorm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/ spuitpl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keerde toediening (IV in plaats van I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Houdbaarheidsproble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keerd geneesmiddel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ikbaarheid diergeneesmiddel hangt af van opnamesnelhe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ingswij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, IM, 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ingsvo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evoegingen geneesmid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renaline vertraagt opname na i.m. inject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methylsulfoxyde aan huidpreparaat versnelt op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ringsinter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deling stof over het lichaam afhankelijk 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 geneesmid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ipofiel → ophoping in vetweef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 van het weef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H ↓ bij ontste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-hersenbarr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ère (BH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649600" y="1600200"/>
            <a:ext cx="3844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abolie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offen die in het lichaam worden gevormd als het diergeneesmiddel wordt omgez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is de metaboliet “het medicij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voorbeeld prednison→prednisol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is de metaboliet juist niet meer werkz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itschei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angrijke rol voor lever en ni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ohepatische kringloop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losbaarheid (vet, wa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peling in v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fwaardetij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nterohepatische kring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enterohepatischelus"/>
          <p:cNvPicPr/>
          <p:nvPr/>
        </p:nvPicPr>
        <p:blipFill>
          <a:blip r:embed="rId1"/>
          <a:stretch/>
        </p:blipFill>
        <p:spPr>
          <a:xfrm>
            <a:off x="2714760" y="2000160"/>
            <a:ext cx="350496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7:26:15Z</dcterms:created>
  <dc:creator>Paling</dc:creator>
  <dc:description/>
  <dc:language>en-US</dc:language>
  <cp:lastModifiedBy>Administrator</cp:lastModifiedBy>
  <dcterms:modified xsi:type="dcterms:W3CDTF">2014-01-12T00:13:36Z</dcterms:modified>
  <cp:revision>60</cp:revision>
  <dc:subject/>
  <dc:title>Veterinaire apothee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Locatie">
    <vt:lpwstr>Dordrecht</vt:lpwstr>
  </property>
  <property fmtid="{D5CDD505-2E9C-101B-9397-08002B2CF9AE}" pid="4" name="Niveau">
    <vt:lpwstr>Niveau 4</vt:lpwstr>
  </property>
  <property fmtid="{D5CDD505-2E9C-101B-9397-08002B2CF9AE}" pid="5" name="Status">
    <vt:lpwstr>Concept</vt:lpwstr>
  </property>
</Properties>
</file>