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91723-4F86-4E72-AACD-7B9D612B0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B8E06-FE43-4255-92D5-67A106820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0DF225-277F-4E21-AEF7-1C6DBF1D9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C5DD2-F5AA-4B07-A09F-13976C76FB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61567-40FD-4314-B29D-2ABD261F4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836BF-997D-47BA-9E34-8460B1B70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A7A9D-DDDB-4E1B-A4C0-1DD70FB01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62B59-F68F-4822-AEBE-066CA51FA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70ABF-2245-49DC-8F13-169CC97FB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03728-2037-47F1-A3E8-79EB00516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46C46-9F88-4551-AFBC-56E76658D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81D64-10EC-44AD-993E-10F494B59D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74FA3-92C1-42F3-B8E1-8CD6316D01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fidin.nl/2660/Lijst-identieke-URA-diergeneesmiddelen.pdf"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cbg-meb.nl/cbg/nl"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Wetgeving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Beheren medicijne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istratie</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doende informatie over</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eldier</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cati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a-indicati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serin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jwerkinge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waarcondit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chttijden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f-label use: voor andere indicatie/diersoort</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principe verboden maar…….</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analisatie</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ncipe:</a:t>
            </a:r>
            <a:endParaRPr b="0" lang="en-US" sz="4000" spc="-1" strike="noStrike">
              <a:solidFill>
                <a:srgbClr val="000000"/>
              </a:solidFill>
              <a:latin typeface="Calibri"/>
            </a:endParaRPr>
          </a:p>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Alle middelen zijn vrij te verhandelen, behalve diegene die zonder tussenkomst van d’arts gevaar opleveren voor gezondheid</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analisatie</a:t>
            </a: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DD: uitsluitend door dierenarts toe te pass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DA: op voorschrift van een dierenarts, door dierenartsen of apotheek afgeleverd, dierhouder mag toedien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RA: op voorschrift van een dierenarts, door dierenartsen, apothekers of erkende handelaren afgeleverd, dierhouder mag toedien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RIJ: zonder recept van dierenarts, door dierenarts, apotheker en houder afleververgunning afgegeven</a:t>
            </a:r>
            <a:r>
              <a:rPr b="0" lang="en-US" sz="2800" spc="-1" strike="noStrike">
                <a:solidFill>
                  <a:srgbClr val="000000"/>
                </a:solidFill>
                <a:latin typeface="Arial"/>
              </a:rPr>
              <a:t>.</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URA</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3300"/>
                </a:solidFill>
                <a:latin typeface="Calibri"/>
              </a:rPr>
              <a:t>Tot voorkort was een groot aantal middelen vrij verkrijgbaar en kon een paardenhouder naar eigen inzicht bv. een wormkuur bestellen.</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3300"/>
                </a:solidFill>
                <a:latin typeface="Calibri"/>
              </a:rPr>
              <a:t>	</a:t>
            </a:r>
            <a:r>
              <a:rPr b="0" lang="nl-NL" sz="2200" spc="-1" strike="noStrike">
                <a:solidFill>
                  <a:srgbClr val="003300"/>
                </a:solidFill>
                <a:latin typeface="Calibri"/>
              </a:rPr>
              <a:t>Per 1 juli 2008 is voor het verkrijgen van bepaalde diergeneesmiddelen de receptplicht ingevoerd. Het gaat om geneesmiddelen voor voedselproducerende dieren, inclusief paarden.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00"/>
                </a:solidFill>
                <a:latin typeface="Calibri"/>
              </a:rPr>
              <a:t>Waarom?</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3300"/>
                </a:solidFill>
                <a:latin typeface="Calibri"/>
              </a:rPr>
              <a:t>	</a:t>
            </a:r>
            <a:r>
              <a:rPr b="0" lang="nl-NL" sz="2200" spc="-1" strike="noStrike">
                <a:solidFill>
                  <a:srgbClr val="003300"/>
                </a:solidFill>
                <a:latin typeface="Calibri"/>
              </a:rPr>
              <a:t>Met deze regelgeving wil men de hoeveelheid residuen van diergeneesmiddelen van behandelde dieren afkomstige levensmiddelen verminderen en zodoende de consument meer bescherming bieden en tevens het risico van optreden van resistentie tegen diergeneesmiddelen verkleinen. </a:t>
            </a:r>
            <a:endParaRPr b="0" lang="en-US" sz="2200" spc="-1" strike="noStrike">
              <a:solidFill>
                <a:srgbClr val="000000"/>
              </a:solidFill>
              <a:latin typeface="Calibri"/>
            </a:endParaRPr>
          </a:p>
          <a:p>
            <a:pPr marL="343080" indent="-343080">
              <a:lnSpc>
                <a:spcPct val="80000"/>
              </a:lnSpc>
              <a:spcBef>
                <a:spcPts val="55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RA</a:t>
            </a: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eselproducerende diere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twormingsmiddele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ddelen tegen parasiete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ddelen tegen schimme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almeringmiddele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SAID’s</a:t>
            </a:r>
            <a:endParaRPr b="0" lang="en-US" sz="28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URA</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Recept dierenar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Datum van uitschrijv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Naam + registratienummer diergeneesmiddel</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Bepaald dier(en) en bepaalde therapi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Naam en adres van de ontvange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Ondertekene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Hoeveelheid voor maximaal1 maand</a:t>
            </a:r>
            <a:endParaRPr b="0" lang="en-US" sz="2600" spc="-1" strike="noStrike">
              <a:solidFill>
                <a:srgbClr val="000000"/>
              </a:solidFill>
              <a:latin typeface="Calibri"/>
            </a:endParaRPr>
          </a:p>
          <a:p>
            <a:pPr lvl="2" marL="1143000" indent="-228600">
              <a:lnSpc>
                <a:spcPct val="7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M.u.v. o</a:t>
            </a:r>
            <a:r>
              <a:rPr b="0" lang="en-US" sz="2200" spc="-1" strike="noStrike">
                <a:solidFill>
                  <a:srgbClr val="000000"/>
                </a:solidFill>
                <a:latin typeface="Calibri"/>
              </a:rPr>
              <a:t>ntwormingsmiddelen, middelen tegen parasieten, middelen tegen schimmels, kalmeringmiddelen</a:t>
            </a:r>
            <a:endParaRPr b="0" lang="en-US" sz="2200" spc="-1" strike="noStrike">
              <a:solidFill>
                <a:srgbClr val="000000"/>
              </a:solidFill>
              <a:latin typeface="Calibri"/>
            </a:endParaRPr>
          </a:p>
          <a:p>
            <a:pPr lvl="2" marL="1143000" indent="-228600">
              <a:lnSpc>
                <a:spcPct val="7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jaar </a:t>
            </a:r>
            <a:endParaRPr b="0" lang="en-US" sz="2200" spc="-1" strike="noStrike">
              <a:solidFill>
                <a:srgbClr val="000000"/>
              </a:solidFill>
              <a:latin typeface="Calibri"/>
            </a:endParaRPr>
          </a:p>
          <a:p>
            <a:pPr lvl="1" marL="743040" indent="-28584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ff"/>
                </a:solidFill>
                <a:uFillTx/>
                <a:latin typeface="Calibri"/>
                <a:hlinkClick r:id="rId1"/>
              </a:rPr>
              <a:t>http://www.fidin.nl/2660/Lijst-identieke-URA-diergeneesmiddelen.pdf</a:t>
            </a:r>
            <a:endParaRPr b="0" lang="en-US" sz="2600" spc="-1" strike="noStrike">
              <a:solidFill>
                <a:srgbClr val="000000"/>
              </a:solidFill>
              <a:latin typeface="Calibri"/>
            </a:endParaRPr>
          </a:p>
          <a:p>
            <a:pPr lvl="2" marL="1143000" indent="-228600">
              <a:lnSpc>
                <a:spcPct val="8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Uitzonderingen receptplicht</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3300"/>
                </a:solidFill>
                <a:latin typeface="Calibri"/>
              </a:rPr>
              <a:t>Niet alle “vrije” middelen zijn omgezet naar een URA status. Er zijn uitzonderingen gemaakt voor bepaalde middelen. Deze zijn bepaald aan de hand van de volgende uitzonderingscriteria:</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Calibri"/>
              </a:rPr>
              <a:t>Toediening van het middel vereist geen specifieke kennis of vaardigheid</a:t>
            </a:r>
            <a:endParaRPr b="0" lang="en-US" sz="2000" spc="-1" strike="noStrike">
              <a:solidFill>
                <a:srgbClr val="000000"/>
              </a:solidFill>
              <a:latin typeface="Calibri"/>
            </a:endParaRPr>
          </a:p>
          <a:p>
            <a:pPr lvl="1" marL="743040" indent="-28584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Calibri"/>
              </a:rPr>
              <a:t>Bij onjuiste toediening zijn er geen risico’s voor mens, dier en milieu</a:t>
            </a:r>
            <a:endParaRPr b="0" lang="en-US" sz="2000" spc="-1" strike="noStrike">
              <a:solidFill>
                <a:srgbClr val="000000"/>
              </a:solidFill>
              <a:latin typeface="Calibri"/>
            </a:endParaRPr>
          </a:p>
          <a:p>
            <a:pPr lvl="1" marL="743040" indent="-28584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Calibri"/>
              </a:rPr>
              <a:t>Het middel bevat geen waarschuwing wat betreft ernstige bijwerkingen en kent hiervan ook geen historie</a:t>
            </a:r>
            <a:endParaRPr b="0" lang="en-US" sz="2000" spc="-1" strike="noStrike">
              <a:solidFill>
                <a:srgbClr val="000000"/>
              </a:solidFill>
              <a:latin typeface="Calibri"/>
            </a:endParaRPr>
          </a:p>
          <a:p>
            <a:pPr lvl="1" marL="743040" indent="-28584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Calibri"/>
              </a:rPr>
              <a:t>Het middel kent geen contra-indicaties in relatie tot andere non-pom middelen.</a:t>
            </a:r>
            <a:endParaRPr b="0" lang="en-US" sz="2000" spc="-1" strike="noStrike">
              <a:solidFill>
                <a:srgbClr val="000000"/>
              </a:solidFill>
              <a:latin typeface="Calibri"/>
            </a:endParaRPr>
          </a:p>
          <a:p>
            <a:pPr lvl="1" marL="743040" indent="-28584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Calibri"/>
              </a:rPr>
              <a:t>Het middel heeft geen bijzondere bewaarcondities</a:t>
            </a:r>
            <a:endParaRPr b="0" lang="en-US" sz="2000" spc="-1" strike="noStrike">
              <a:solidFill>
                <a:srgbClr val="000000"/>
              </a:solidFill>
              <a:latin typeface="Calibri"/>
            </a:endParaRPr>
          </a:p>
          <a:p>
            <a:pPr lvl="1" marL="743040" indent="-28584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Calibri"/>
              </a:rPr>
              <a:t>Bij onjuist gebruik is geen gevaar op residuen</a:t>
            </a:r>
            <a:endParaRPr b="0" lang="en-US" sz="2000" spc="-1" strike="noStrike">
              <a:solidFill>
                <a:srgbClr val="000000"/>
              </a:solidFill>
              <a:latin typeface="Calibri"/>
            </a:endParaRPr>
          </a:p>
          <a:p>
            <a:pPr lvl="1" marL="743040" indent="-28584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Calibri"/>
              </a:rPr>
              <a:t>Bij onjuist gebruik is geen risico op resistentie-ontwikkeling</a:t>
            </a:r>
            <a:endParaRPr b="0" lang="en-US" sz="2000" spc="-1" strike="noStrike">
              <a:solidFill>
                <a:srgbClr val="000000"/>
              </a:solidFill>
              <a:latin typeface="Calibri"/>
            </a:endParaRPr>
          </a:p>
          <a:p>
            <a:pPr marL="343080" indent="-34308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ddelen die Vrij blijven</a:t>
            </a: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idiarreemiddel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V vloeistoffen voor rund, melk- kopziekte Ca en Mg</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ofwisselingscorrigerende middel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nfectantia en antiseptica</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ddelen tegen ectoparasieten zonder werking tegen endoparasiet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jmoplossers</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ruidengeneesmiddel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meopatische middel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jzerinjecties voor biggen en kalver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xeermiddel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agzuursecretie middel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dersteunend bij huidaandoening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tamines, electrolyten, mineralen en sporenelemente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Administratie </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ijhouden welke diergeneesmiddelen worden afgegeven en worden toegedie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edrijfsmatig gehouden dier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Logboek bijhoude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uidelijkheid over wachttermij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uidelijkheid over toedie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iumwet</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l</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elen omgang met bewustzijnbeïnvloedende middelen ter bescherming van de volksgezondheid</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ichten van de dierenart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en gebruik t.b.v. diere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e bijhouden ontvangst/uitgift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sluitbare opiatenka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Diergeneesmiddelen </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Een diergeneesmiddel is een substantie die geschikt is vo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genezen, verlichten of voorkomen van ziekte of ziekteverschijnsel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herstellen of verbeteren van het functioneren van een orgaa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vaststellen van een ziekte of afwijking van een dier</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Opiumwet </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Lijst 1</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arddrugs</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Opiaten</a:t>
            </a:r>
            <a:endParaRPr b="0" lang="en-US" sz="28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Methadon</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Sufentanil</a:t>
            </a:r>
            <a:endParaRPr b="0" lang="en-US" sz="24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Lijst 2</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Softdrugs</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Barbituraten</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Benzodiazepin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Opiumwet </a:t>
            </a:r>
            <a:endParaRPr b="0" lang="en-US" sz="4400" spc="-1" strike="noStrike">
              <a:solidFill>
                <a:srgbClr val="000000"/>
              </a:solidFill>
              <a:latin typeface="Calibri"/>
            </a:endParaRPr>
          </a:p>
        </p:txBody>
      </p:sp>
      <p:sp>
        <p:nvSpPr>
          <p:cNvPr id="82"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Welke middelen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Methad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Buprenorfine</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Temgesic®</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Fentanyl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Euthasa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a:t>
            </a:r>
            <a:r>
              <a:rPr b="0" lang="nl-NL" sz="2400" spc="-1" strike="noStrike">
                <a:solidFill>
                  <a:srgbClr val="000000"/>
                </a:solidFill>
                <a:latin typeface="Calibri"/>
              </a:rPr>
              <a:t>..</a:t>
            </a:r>
            <a:endParaRPr b="0" lang="en-US" sz="2400" spc="-1" strike="noStrike">
              <a:solidFill>
                <a:srgbClr val="000000"/>
              </a:solidFill>
              <a:latin typeface="Calibri"/>
            </a:endParaRPr>
          </a:p>
        </p:txBody>
      </p:sp>
      <p:pic>
        <p:nvPicPr>
          <p:cNvPr id="83" name="Tijdelijke aanduiding voor inhoud 4" descr="temgesic.jpg"/>
          <p:cNvPicPr/>
          <p:nvPr/>
        </p:nvPicPr>
        <p:blipFill>
          <a:blip r:embed="rId1"/>
          <a:stretch/>
        </p:blipFill>
        <p:spPr>
          <a:xfrm>
            <a:off x="5143680" y="2000160"/>
            <a:ext cx="2857320" cy="1955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Veiligheid </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esluit vergiften in apotheken en ziekenhuiz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rbo-w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estrijdingsmiddelenbeslui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Het besluit verpakking en etikettering diergeneesmiddelen</a:t>
            </a:r>
            <a:endParaRPr b="0" lang="en-US" sz="40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escherming diergeneesmidd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oudbaarheid diergeneesmidd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Goede verpakk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Tabletten strip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Bruine flesjes bij medicijnen die gevoelig zijn voor zonlich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Etiketten met alle benodigde info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Etiketten</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Verplichte informatie op de verpakk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langrijk voor juiste toedien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idelijkheid ove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 is het en voor wi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ar/bij wie komt het vandaa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e te gebruiken</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el eisen: bijsluiter</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Verplichte informatie op de verpakking (etiket/bijsluiter)</a:t>
            </a:r>
            <a:endParaRPr b="0" lang="en-US" sz="4000" spc="-1" strike="noStrike">
              <a:solidFill>
                <a:srgbClr val="000000"/>
              </a:solidFill>
              <a:latin typeface="Calibri"/>
            </a:endParaRPr>
          </a:p>
        </p:txBody>
      </p:sp>
      <p:sp>
        <p:nvSpPr>
          <p:cNvPr id="91"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am produc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REG NL/batchnumm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Chargenumm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Categorie/locatie (indien van toepassing) naam en adres registratiehoud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am en adres fabrika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Vervaldatum</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Veiligheidsvoorschrifte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Toedieningswijz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Wachttermijn (indien van toepass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Het woord diergeneesmiddel</a:t>
            </a:r>
            <a:endParaRPr b="0" lang="en-US" sz="2200" spc="-1" strike="noStrike">
              <a:solidFill>
                <a:srgbClr val="000000"/>
              </a:solidFill>
              <a:latin typeface="Calibri"/>
            </a:endParaRPr>
          </a:p>
        </p:txBody>
      </p:sp>
      <p:sp>
        <p:nvSpPr>
          <p:cNvPr id="92"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Bewaarcondit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Samenstelling werkzame bestanddele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Reden van toepass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Toedieningsduu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Te hanteren doser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Diersoort(e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Indicati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Farmaceutische vorm</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Inhoud van de verpakk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Kanalisatiestatus (UDA/UD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issie Aanprijzing Veterinaire Producten</a:t>
            </a:r>
            <a:endParaRPr b="0" lang="en-US" sz="40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uchtcommissie ingesteld door KNMvD en FIDI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en ‘de Code’ vastgesteld voor aanprijzing van veterinaire produc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lachten m.b.t. overtredingen de de Code gaan naar CAV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normen</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erbod tot misleiding van aanprijzing producten</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erplichting dat aanprijzing in overeenstemming is met waarheiden algemene geldende normen van goede smaak en fatsoe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Kwaliteitssystemen </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GVP</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Het afnemen van een anamnes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Het doen van onderzoek</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Het stellen van de (waarschijnlijkheids)diagnos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Het instellen van een eventuele behandeling</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Het selectief toepassen van diergeneesmiddelen met inachtneming van de wachttermijnen</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Verwachten werkzaamheid en mogelijke schadelijke neveneffecten</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Het geven van advi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Kwaliteitssystemen </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parte regelingen</a:t>
            </a:r>
            <a:endParaRPr b="0" lang="en-US" sz="32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Melkvee</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Varkens</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Pluimvee</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Etc</a:t>
            </a:r>
            <a:endParaRPr b="0" lang="en-US" sz="28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IKB</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VetCis</a:t>
            </a:r>
            <a:endParaRPr b="0" lang="en-US" sz="32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Veterinair Centraal Informatiesyste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Diergeneesmiddelenwet </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Regels voor fabricage van diergeneesmiddel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Registratie van diergeneesmiddel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is niet toegestaan om niet-geregistreerde diergeneesmiddelen af te leveren, te bereiden of op voorraad te hebbe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Kanalisati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dministrati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istratie</a:t>
            </a:r>
            <a:endParaRPr b="0" lang="en-US" sz="4400" spc="-1" strike="noStrike">
              <a:solidFill>
                <a:srgbClr val="000000"/>
              </a:solidFill>
              <a:latin typeface="Calibri"/>
            </a:endParaRPr>
          </a:p>
        </p:txBody>
      </p:sp>
      <p:sp>
        <p:nvSpPr>
          <p:cNvPr id="48" name="PlaceHolder 2"/>
          <p:cNvSpPr>
            <a:spLocks noGrp="1"/>
          </p:cNvSpPr>
          <p:nvPr>
            <p:ph/>
          </p:nvPr>
        </p:nvSpPr>
        <p:spPr>
          <a:xfrm>
            <a:off x="685800" y="1600200"/>
            <a:ext cx="7772400" cy="502920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gistreren bij registratiebureau</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uropese regelgeving</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e lidstaten van de EU zelfde regelgeving voordat de geneesmiddelen op de markt komen.</a:t>
            </a: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rie niveau’s van regelgeving:</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ationaal</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één EU-land geregistreed, en alleen in dat land verkocht.</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Nederland is dat de Bureau Diergeneesmiddelen(BD)</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entraal</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één EU-land geregistreed, maar andere landen kunnen er ook gebruik van maken, zonder alle formulieren.</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entraal</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alle EU-landen geregistreerd, bij het European Medicines Evaluation Agency (EMEA) in Londen.</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Registratie </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2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istratie aanvraag</a:t>
            </a:r>
            <a:endParaRPr b="0" lang="en-US" sz="3200" spc="-1" strike="noStrike">
              <a:solidFill>
                <a:srgbClr val="000000"/>
              </a:solidFill>
              <a:latin typeface="Calibri"/>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reau Diergeneesmiddelen (BD)</a:t>
            </a:r>
            <a:endParaRPr b="0" lang="en-US" sz="2800" spc="-1" strike="noStrike">
              <a:solidFill>
                <a:srgbClr val="000000"/>
              </a:solidFill>
              <a:latin typeface="Calibri"/>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derdeel college beoordeling geneesmiddelen</a:t>
            </a:r>
            <a:endParaRPr b="0" lang="en-US" sz="2400" spc="-1" strike="noStrike">
              <a:solidFill>
                <a:srgbClr val="000000"/>
              </a:solidFill>
              <a:latin typeface="Calibri"/>
            </a:endParaRPr>
          </a:p>
          <a:p>
            <a:pPr lvl="3" marL="1600200" indent="-228600">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CBG-MEB - Home nl</a:t>
            </a:r>
            <a:endParaRPr b="0" lang="en-US" sz="2000" spc="-1" strike="noStrike">
              <a:solidFill>
                <a:srgbClr val="000000"/>
              </a:solidFill>
              <a:latin typeface="Calibri"/>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ster van Landbouw neemt uiteindelijke beslissing</a:t>
            </a:r>
            <a:endParaRPr b="0" lang="en-US" sz="2400" spc="-1" strike="noStrike">
              <a:solidFill>
                <a:srgbClr val="000000"/>
              </a:solidFill>
              <a:latin typeface="Calibri"/>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European Medicines Evaluation Ageny (EME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Registratie </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2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euw geneesmiddel</a:t>
            </a:r>
            <a:endParaRPr b="0" lang="en-US" sz="3200" spc="-1" strike="noStrike">
              <a:solidFill>
                <a:srgbClr val="000000"/>
              </a:solidFill>
              <a:latin typeface="Calibri"/>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scherming: tot 10 jaar na registratie</a:t>
            </a:r>
            <a:endParaRPr b="0" lang="en-US" sz="2800" spc="-1" strike="noStrike">
              <a:solidFill>
                <a:srgbClr val="000000"/>
              </a:solidFill>
              <a:latin typeface="Calibri"/>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 10 jaar namaken, met verwijzing</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Registratie </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llel Import</a:t>
            </a:r>
            <a:endParaRPr b="0" lang="en-US" sz="3200" spc="-1" strike="noStrike">
              <a:solidFill>
                <a:srgbClr val="000000"/>
              </a:solidFill>
              <a:latin typeface="Calibri"/>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esmiddel geregistreerd in Nederland én ander EU-Land.</a:t>
            </a:r>
            <a:endParaRPr b="0" lang="en-US" sz="2800" spc="-1" strike="noStrike">
              <a:solidFill>
                <a:srgbClr val="000000"/>
              </a:solidFill>
              <a:latin typeface="Calibri"/>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m.v. verwijzing naar Nederlands registratiedossier een parallel-registratie aanvragen.</a:t>
            </a:r>
            <a:endParaRPr b="0" lang="en-US" sz="2800" spc="-1" strike="noStrike">
              <a:solidFill>
                <a:srgbClr val="000000"/>
              </a:solidFill>
              <a:latin typeface="Calibri"/>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arna geschikt maken voor Nederlandse markt, d.m.v. Nederlands Etiket en bijsluiter.</a:t>
            </a:r>
            <a:endParaRPr b="0" lang="en-US" sz="2800" spc="-1" strike="noStrike">
              <a:solidFill>
                <a:srgbClr val="000000"/>
              </a:solidFill>
              <a:latin typeface="Calibri"/>
            </a:endParaRPr>
          </a:p>
          <a:p>
            <a:pPr marL="343080" indent="-343080">
              <a:spcBef>
                <a:spcPts val="2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Registratie </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Voorwaard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diergeneesmiddel moet de gestelde werking hebb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diergeneesmiddel mag geen gevaar opleveren voor de gezondheid van de me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diergeneesmiddel mag niet schadelijk zijn voor het milieu</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diergeneesmiddel mag niet schadelijk zijn voor de gezondheid van dier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Registratie </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erkenbaar aa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REG NL 0000</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Vermelding “diergeneesmidde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stgesteld bij registratie</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or welke ziekte</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ersoort</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sering en toedieningswijze</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ur evt. Wachttermijn</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analisati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2T11:39:43Z</dcterms:created>
  <dc:creator>Annemarie</dc:creator>
  <dc:description/>
  <dc:language>en-US</dc:language>
  <cp:lastModifiedBy>Administrator</cp:lastModifiedBy>
  <dcterms:modified xsi:type="dcterms:W3CDTF">2014-01-12T00:09:57Z</dcterms:modified>
  <cp:revision>33</cp:revision>
  <dc:subject/>
  <dc:title>Wetgeving</dc:title>
</cp:coreProperties>
</file>