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wmf" ContentType="image/x-wmf"/>
  <Override PartName="/ppt/media/image14.jpeg" ContentType="image/jpeg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E0C3-46FD-448E-A1AD-F0328A6F4C0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igenlijk is een combinatie van diergeneesmiddelen altijd een “nieuw” diergeneesmiddel. De wachttijden zijn dan ook de wachttijden voor off label use: 28 dagen voor vlees, 7 dagen voor me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DBCD-A8EC-452B-8476-288BC4BB201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ijv micotil: ernstige schade! Met dood als gevolg bij mense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E181-2755-4E43-9758-C88CA0F07EE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5B2A-5CB3-411D-90F6-967A6D208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A6D4-6EF9-4516-89B3-88C5D828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7EEF-941E-4F38-B463-D9E1872B8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B1C2-E767-4CC3-A390-9D6A448EF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6ABA-26CF-43DB-8EC5-64303D23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4EB5-28CA-4DE7-92D6-87FFA062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CB98-7597-413E-9282-1C02DAF5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14D0-53C9-4D80-A3F2-40B16C34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2E34-B44B-43E2-8CEB-EE4F1A68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1458-380E-43F1-A42A-C50DCD9D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622B-4645-47BC-B363-9C8D825B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FAB8-3BBA-40CD-A8BE-BB377750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AB2F-CE73-4941-8E61-A11BB505B25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vab.knmvd.nl/wvab/formularia/formularia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boerderij%20tjerk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762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35344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600" spc="-1" strike="noStrike">
                <a:solidFill>
                  <a:srgbClr val="660066"/>
                </a:solidFill>
                <a:latin typeface="Berlin Sans FB Demi"/>
              </a:rPr>
              <a:t>Verantwoord gebruik</a:t>
            </a:r>
            <a:br>
              <a:rPr sz="6600"/>
            </a:br>
            <a:r>
              <a:rPr b="1" lang="nl-NL" sz="6600" spc="-1" strike="noStrike">
                <a:solidFill>
                  <a:srgbClr val="660066"/>
                </a:solidFill>
                <a:latin typeface="Berlin Sans FB Demi"/>
              </a:rPr>
              <a:t>van</a:t>
            </a:r>
            <a:br>
              <a:rPr sz="6600"/>
            </a:br>
            <a:r>
              <a:rPr b="1" lang="nl-NL" sz="6600" spc="-1" strike="noStrike">
                <a:solidFill>
                  <a:srgbClr val="660066"/>
                </a:solidFill>
                <a:latin typeface="Berlin Sans FB Demi"/>
              </a:rPr>
              <a:t>diergeneesmiddele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324000" y="6048360"/>
            <a:ext cx="1879560" cy="80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knmvd logo PMS 2603"/>
          <p:cNvPicPr/>
          <p:nvPr/>
        </p:nvPicPr>
        <p:blipFill>
          <a:blip r:embed="rId3"/>
          <a:stretch/>
        </p:blipFill>
        <p:spPr>
          <a:xfrm>
            <a:off x="7696080" y="5105520"/>
            <a:ext cx="11908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468360" y="3789360"/>
            <a:ext cx="80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udt u aan de bijsluiter en de instructie van de dieren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ak behandelde dieren goed herkenbaar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pootbanden, elektronisch, lijst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melkstal) en melk behandelde koeien als laat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aat de melk onderzoeken bij twijf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et op: ook andere diergeneesmiddel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als wormmiddelen en pijnstillers kunnen residuen veroorzak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vdgmge8"/>
          <p:cNvPicPr/>
          <p:nvPr/>
        </p:nvPicPr>
        <p:blipFill>
          <a:blip r:embed="rId1"/>
          <a:stretch/>
        </p:blipFill>
        <p:spPr>
          <a:xfrm>
            <a:off x="395280" y="260280"/>
            <a:ext cx="4103640" cy="36273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4767120" y="423720"/>
            <a:ext cx="369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5076720" y="907920"/>
            <a:ext cx="324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oorkom overschrij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an de residuno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1042920" y="3716280"/>
            <a:ext cx="6462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at moet u noter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aam diergeneesmiddel, REG NL nummer en batchn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atum toedi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bruikte hoeveel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aam en nummer d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 koppelbehandeling: afdeling en aantal behandelde d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inde wachttijd na laatste toedi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oedie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everancier van het diergeneesmid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vdgmge9"/>
          <p:cNvPicPr/>
          <p:nvPr/>
        </p:nvPicPr>
        <p:blipFill>
          <a:blip r:embed="rId1"/>
          <a:stretch/>
        </p:blipFill>
        <p:spPr>
          <a:xfrm>
            <a:off x="1908000" y="189000"/>
            <a:ext cx="4608720" cy="35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324000" y="4292640"/>
            <a:ext cx="83534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Evalueer behandelingen regelma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et uw dieren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it is van belang voor toekomstige behandel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ld bijwerkingen aan uw dieren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vdgmge10"/>
          <p:cNvPicPr/>
          <p:nvPr/>
        </p:nvPicPr>
        <p:blipFill>
          <a:blip r:embed="rId1"/>
          <a:stretch/>
        </p:blipFill>
        <p:spPr>
          <a:xfrm>
            <a:off x="250920" y="333360"/>
            <a:ext cx="6480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vdgmge11"/>
          <p:cNvPicPr/>
          <p:nvPr/>
        </p:nvPicPr>
        <p:blipFill>
          <a:blip r:embed="rId1"/>
          <a:stretch/>
        </p:blipFill>
        <p:spPr>
          <a:xfrm>
            <a:off x="611280" y="260280"/>
            <a:ext cx="4680000" cy="390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"/>
          <p:cNvSpPr/>
          <p:nvPr/>
        </p:nvSpPr>
        <p:spPr>
          <a:xfrm>
            <a:off x="4500720" y="3933720"/>
            <a:ext cx="439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ijk op de verpakking en/of bijslu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oteer de aanprikdatum op de fla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perk de voorra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waar buiten het bereik van kind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716360" y="692280"/>
            <a:ext cx="41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ewaaradviezen diergenees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324000" y="587700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keerd bewaren kan de werkzaamheid en de diergezondheid nadelig beïnvlo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ormula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 een lijst met 1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,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en 3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euze 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h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keus: smalspec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keus: breed spec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keus, breedspectrum, gereserveerd voor humaan gebruik (bijv: baytril en cobact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vab.knmvd.nl/wvab/formularia/formul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drijfsgezondheidspla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oorboekje voor diergezondheid op bedrij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druk op preve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drijfsbehandelpla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B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lke dgm bij welke ziektebeel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,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en 3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DD: dagdosering antibiotica per dierj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boerderij%20tjerk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76248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2"/>
          <p:cNvSpPr/>
          <p:nvPr/>
        </p:nvSpPr>
        <p:spPr>
          <a:xfrm>
            <a:off x="1979640" y="1197000"/>
            <a:ext cx="42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600" spc="-1" strike="noStrike">
                <a:solidFill>
                  <a:srgbClr val="660066"/>
                </a:solidFill>
                <a:latin typeface="Berlin Sans FB Demi"/>
              </a:rPr>
              <a:t>EIND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324000" y="6093000"/>
            <a:ext cx="1512720" cy="606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knmvd logo PMS 2603"/>
          <p:cNvPicPr/>
          <p:nvPr/>
        </p:nvPicPr>
        <p:blipFill>
          <a:blip r:embed="rId3"/>
          <a:stretch/>
        </p:blipFill>
        <p:spPr>
          <a:xfrm>
            <a:off x="7696080" y="5105520"/>
            <a:ext cx="1190880" cy="17524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a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angescherpt belei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t: AB gebruik in jaar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el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B gebruik in 2011 20 % oml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B gebruik in 2013 gehalveer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0" y="3213000"/>
            <a:ext cx="899964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paal de ziekteverwekker.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r zijn verschillende soorten; virussen, bacterië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n parasie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em behandeling op de ziekteverwekker 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Antibiotica werken alleen tegen bacterië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Niet alle antibiotica werken tegen alle bacteriën.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aat een gevoeligheidsbepaling do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van belang voor toekomstige behandeling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heck de andere risicofactoren zoal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klimaat, huisvesting en voe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handel alleen als dat nodig i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vdgmge1"/>
          <p:cNvPicPr/>
          <p:nvPr/>
        </p:nvPicPr>
        <p:blipFill>
          <a:blip r:embed="rId1"/>
          <a:stretch/>
        </p:blipFill>
        <p:spPr>
          <a:xfrm>
            <a:off x="1979640" y="765000"/>
            <a:ext cx="4319640" cy="30308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395280" y="260280"/>
            <a:ext cx="8364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Een goede behandeling begint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e juiste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iagn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611280" y="4365720"/>
            <a:ext cx="82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ntroleer het REG NL n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ees en bewaar de bijslu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udt u aan het bedrijfsbehandelplan of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leg met uw dierenarts over het in te zetten mid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vdgmge2"/>
          <p:cNvPicPr/>
          <p:nvPr/>
        </p:nvPicPr>
        <p:blipFill>
          <a:blip r:embed="rId1"/>
          <a:stretch/>
        </p:blipFill>
        <p:spPr>
          <a:xfrm>
            <a:off x="250920" y="333360"/>
            <a:ext cx="4897440" cy="4076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447120" y="108000"/>
            <a:ext cx="8679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ebruik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lleen geregistreer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iergenees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vdgmge3"/>
          <p:cNvPicPr/>
          <p:nvPr/>
        </p:nvPicPr>
        <p:blipFill>
          <a:blip r:embed="rId1"/>
          <a:stretch/>
        </p:blipFill>
        <p:spPr>
          <a:xfrm>
            <a:off x="539640" y="333360"/>
            <a:ext cx="4969080" cy="35593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"/>
          <p:cNvSpPr/>
          <p:nvPr/>
        </p:nvSpPr>
        <p:spPr>
          <a:xfrm>
            <a:off x="684360" y="3716280"/>
            <a:ext cx="8064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 te lage doser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ans op onvoldoende resultaat en resistentievor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 te hoge doser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ogelijk gevaar voor het dier en/of een langere wachttij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 voer of drinkwatermedicati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seer per kg lichaamsgew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992920" y="639720"/>
            <a:ext cx="268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5651640" y="765000"/>
            <a:ext cx="279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ijk niet af van de aanbevolen dos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vdgmge4"/>
          <p:cNvPicPr/>
          <p:nvPr/>
        </p:nvPicPr>
        <p:blipFill>
          <a:blip r:embed="rId1"/>
          <a:stretch/>
        </p:blipFill>
        <p:spPr>
          <a:xfrm>
            <a:off x="5867280" y="189000"/>
            <a:ext cx="2880000" cy="23590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0" y="723960"/>
            <a:ext cx="914400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oudt u aan de aanbevol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oedieningswij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Injec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et op de juiste injectieplaats: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M (Intramusculair) = in de sp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C (Subcutaan) = onder de hu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ek een schoon stuk huid en werk hygiën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bruik wegwerpmateriaal of schone spu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bruik scherpe naalden. Botte naalden veroorzaken meer pijn en veel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efselsch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In het u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inig en desinfecteer de speenpunt go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bruik de korte punt van de inj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raal (via voer of drinkw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eem de juiste dosering (per kg lichaamsgewic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 in voer voor goede me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 in drinkwater voor volledige oplo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Topicaal (op de hu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kom afdruipen naar het u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971640" y="4292640"/>
            <a:ext cx="784836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aak de behandeling altijd af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ook al lijkt het dier b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e kort behandelen kan leiden tot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erugkeer van het ziektebe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n/of resistentie-ontwikk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 onvoldoende resultaat: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leg met uw dieren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vdgmge5"/>
          <p:cNvPicPr/>
          <p:nvPr/>
        </p:nvPicPr>
        <p:blipFill>
          <a:blip r:embed="rId1"/>
          <a:stretch/>
        </p:blipFill>
        <p:spPr>
          <a:xfrm>
            <a:off x="1547640" y="115920"/>
            <a:ext cx="511200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1619280" y="4005360"/>
            <a:ext cx="583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aties kunn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elkaars werking opheffen of juist verster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schadelijk z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elkaars wachttijd beïnvlo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vdgmge6"/>
          <p:cNvPicPr/>
          <p:nvPr/>
        </p:nvPicPr>
        <p:blipFill>
          <a:blip r:embed="rId1"/>
          <a:stretch/>
        </p:blipFill>
        <p:spPr>
          <a:xfrm>
            <a:off x="468360" y="115920"/>
            <a:ext cx="4032360" cy="36100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4840200" y="250920"/>
            <a:ext cx="369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ebruik alleen combinaties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iergeneesmiddelen 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uw dierenarts dit advise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826920" y="450864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kom zelfinjec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kom inslikken en/of inademen, gebruik beschermingsmidde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s uw handen na toediening of draag handscho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vdgmge7"/>
          <p:cNvPicPr/>
          <p:nvPr/>
        </p:nvPicPr>
        <p:blipFill>
          <a:blip r:embed="rId1"/>
          <a:stretch/>
        </p:blipFill>
        <p:spPr>
          <a:xfrm>
            <a:off x="971640" y="115920"/>
            <a:ext cx="3909960" cy="4392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5272200" y="539640"/>
            <a:ext cx="239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enk aan uw veilig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5T08:29:31Z</dcterms:created>
  <dc:creator>Wiel van den Ekker</dc:creator>
  <dc:description/>
  <dc:language>en-US</dc:language>
  <cp:lastModifiedBy>Administrator</cp:lastModifiedBy>
  <dcterms:modified xsi:type="dcterms:W3CDTF">2014-01-08T10:05:20Z</dcterms:modified>
  <cp:revision>14</cp:revision>
  <dc:subject/>
  <dc:title>Verantwoord gebruik van diergeneesmiddelen</dc:title>
</cp:coreProperties>
</file>