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680-9387-4DAE-B697-037FE669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E37-2D82-4CFB-B996-6756E94E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16AA-060A-4AA5-B893-26503523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70A-43AE-4DEB-BFAA-C38697C4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30D7-9668-4829-8BD5-9657714F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F77-FC9D-4A5F-91A1-5E2476B9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8C0-20AC-40EF-8C46-73A8064D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800-59A4-49A4-8F8B-228EE868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14F-AF25-42EA-AC1B-BBA301DB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77FF-B702-4389-96E7-33E7340C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A6D-C1F6-492D-8BA2-DFCE8D44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6AB6-DF61-44E9-8AE0-6EA24D91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8CF1-BDC4-4497-9F8B-38E816FFF93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heer veterinaire apoth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Beheren medicij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orraadbehe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oleren en administreren van ontvangen goed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deringssystemen, opbergen en beste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tour van 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voeren van 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-geregistreerde diergeneesmiddelen en humane 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Controleren en administreren van ontvangen goeder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 alles gelev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uiste hoeveelheden gelev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valdatu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raadadministr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kbonn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iumwe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Coderingssystemen, opbergen en bestell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duct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fab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de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tiketten, insteekkaartjes, magneetkaartj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cann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tour van geneesmidde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en met goede re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keerde bestel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schadi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valdat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voeren geneesmidde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valda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retourneerde geneesmiddelen door klan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gebroken verpak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de verpak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iekenhuisaf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iet geregistreerde diergeneesmiddelen en humane geneesmiddel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is niet toegestaan om niet-geregistreerde diergeneesmiddelen op voorraad te heb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l toegestaan is een kleine werkvoorraad humane 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waarvoorschrift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udbaar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prik- of aanbreekda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udbaarhei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fname werkz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Vorming toxische afbraakprodu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Veranderingen in smaak, geur of kle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Ook kwaliteitsvermindering hulp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Droog langer houdbaar dan n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vriesdroogd vaccin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ntioxida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onserveringsmiddel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Bewaarconditie van groot bel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ic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uchtvochtigehei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Verpak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be ↔ po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ontrole vervaldat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ontrole aanprikdatu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209600" y="1859040"/>
            <a:ext cx="67248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pakking en etiket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pak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tike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po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leveren van dier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Inrichting van de veterinaire apothe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renontvangst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slag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el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vaarlijke stoff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reekkamervoorra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genvoorra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pakk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oudbaarhe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Visitekaartj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e verpakking moet zodanig zijn da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tegen normale behandeling bestand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s van de inhoud kan ontsnap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samenstelling en zuiverheid van de diergeneesmiddelen gewaarborgd zijn gedurende de aangegeven houdbaarheidstermijn en onder de aangegeven bewaaromstandighed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Ook voor uitponden en magistraal bereiden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tikett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Print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Minimale informat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ie besluit “Verpakking en etikettering” uit de Diergeneesmiddelenw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Praktijketik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aam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aam clië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tum afgif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erso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ntueel aangevuld m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m van het d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Uitpond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 grote hoeveelheid naar kleine hoeveel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en als uitponden bij registratie is aangege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ó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pakking hiertoe aanleiding gee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slu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ti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Uitpond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abletten uitponden inspreekka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verige toedieningsvormen in aparte ruimte uitponden of in zuurk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met blote handen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648320" y="2324160"/>
            <a:ext cx="40384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leveren diergeneesmidde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udbaarheidsda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tiket goed lees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sluiter goed lees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seerhulp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aan kinderen onder 12 j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giften &gt; 18 j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Magistraal bereiden van diergeneesmiddele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waarden magistrale bere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nodigdhe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rei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otjes - Latij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orwaa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geregistreerd diergeneesmid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ander diergeneesmid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humaan mid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or één ziektege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voorra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oor dierenarts of onder toezicht van dierenar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Aanpassen hoeveelheid werkzame sto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ablet → suspen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orwaa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ruim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uurk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dministratie grondstoff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chttijd maxim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aarlijks opgave bij Ministerie van Landbou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nodigdhed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a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ort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aatcilin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ijz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peciaal pap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aps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pakkingsmateri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reidingsprotoc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me st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ulpst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oederenontvangstruim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en sluitende ingangscontr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voor klanten toegankel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in door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el bewaren” direct in koelk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slagruim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makkelijk syste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Productgroep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Op alfabe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ddelen opiumw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Aparte afsluitbare ka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iet toegankelijk voor publi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eilighei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Beschadig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Hygië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iet direct grenzen aan toiletruim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en doorlo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scheiden van opslag andere goeder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ntilat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rlicht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nstante temperatu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Minimum en maximum registrati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kkelijk schoon te mak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Gladde vloeren/wand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loer vrij houd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FIF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dministrati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143000" y="2000160"/>
            <a:ext cx="67723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oelruim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cc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ommige aangebroken/aangeprikte verpak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gemene 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ie opslagruim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voor opslag mon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voor etenswa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voor kada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48320" y="234648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vaarlijke stoff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giften en bestrijding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aparte afsluitbare k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arschuwingstek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ymbool gevaarlijke 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boden toegang voor onbevoeg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preekkamervoorraa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raad zo klein mogel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ine apotheek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ms gehele apotheek in spreekka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genvoorraa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aktijkauto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denkast met ko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ó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elb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2:15:07Z</dcterms:created>
  <dc:creator>Annemarie</dc:creator>
  <dc:description/>
  <dc:language>en-US</dc:language>
  <cp:lastModifiedBy>Administrator</cp:lastModifiedBy>
  <dcterms:modified xsi:type="dcterms:W3CDTF">2014-01-18T20:01:08Z</dcterms:modified>
  <cp:revision>12</cp:revision>
  <dc:subject/>
  <dc:title>Beheer veterinaire apotheek</dc:title>
</cp:coreProperties>
</file>