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EBA9-F3FD-413F-B473-CF9EA448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65E-3943-4527-B86F-D3EE1584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06B8-1EB9-41B3-812B-A91D48DD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B7EC-59D7-4915-B615-AEBDD2C4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3081-D404-4392-ACEE-E8630135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0E3-25F1-4037-8296-4F816DC0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F2E1-FE9B-4298-8322-8A559A6A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813-FA29-4D96-BFF7-D7EF6C09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08D9-B017-4DBC-9D01-A5C48F5A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28DC-FCA5-4D8E-80E6-70EDF340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24A2-AE41-44A8-9FAF-1CEB4B81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2621-551D-41F0-B877-56141FCB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ff30"/>
            </a:gs>
            <a:gs pos="100000">
              <a:srgbClr val="b8e3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D141-CF89-41F3-9B07-507E003B88C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itaverde.nl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Presenteren en communic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as 3.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www.citaverde.nl/static/img/blank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360" y="-47628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7337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ken van de present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b je informatie gevon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een presentatie, bepaal wat en wanneer je dingen wilt ver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ventueel een PowerPoint als onderste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 de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houden van de daadwerkelijke present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 het dan kla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n komt het geven van de presentat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ceren is het belangrijkste bij het geven van een present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zo prettig mogelijk voelen is het belangrijkste om een presentatie zo goed mogelijk te laten verlo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 volgen 12 tip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gin met het maken van contact met je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id daarna je onderwerp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d contact met je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nk aan je non- verbale communic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nk aan je uiter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ag naar je eigenaar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goede aantek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arom deze presentati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ge score op het gebied van presenteren/ communic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 veel valt te halen voor jull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werk argumenten/ bronnen in j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efen j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weet hoelang het ongeveer du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gaat het steeds meer op je eigen manier ver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leert improvis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wordt je ervan bewust dat aantekeningen handig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 niet teveel uit tijdens d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 je dingen meegeven als informatie, doe dit aan het eind van d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uik hulpmiddelen alleen als onderste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een sterk en duidelijk s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Opdrach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ts vertellen aan een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ens opleiding: medeklasgen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opleiding: collega’s, klanten 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ens de PvB: de gasten die uitgenodigd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lkuilen bij 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nuwach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rzaken: geen ervaring, grote groep mensen, mensen die je niet k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olg: onrustige presentat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rijk: het verhaal je eigen m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? Zo goed mogelijk voorbereiden en heel vaak oefenen voor je klasgeno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reiding is het belangrijkst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s bij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de presentatie zo veel mogelijk je eigen verhaal i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t waarom jij het graag wilt vertell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s je ervan bewust dat je publiek al voorkennis heef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je zo veel mogelijk weet over het onderwe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penplan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Het onderwerp bep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Het doel bep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 Informatie verzam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 Het onderwerp bep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wordt gevraagd omdat je al heel veel weet over een onderwerp, je hoeft geen onderwerp te bepa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krijgt een onderwerp aangedragen, je moet je het onderwerp eigen m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angrijk is om je voor te bereiden en in te stellen op het gegeven: Jij bent de exper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 Het doel bep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en kunn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form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ti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tu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u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 Informatie verzam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 het onderwerp bepaald, dan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 je informatie hierover verzame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blioth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7:49:30Z</dcterms:created>
  <dc:creator>kleijnenb</dc:creator>
  <dc:description/>
  <dc:language>en-US</dc:language>
  <cp:lastModifiedBy>franssena</cp:lastModifiedBy>
  <dcterms:modified xsi:type="dcterms:W3CDTF">2012-09-20T09:18:53Z</dcterms:modified>
  <cp:revision>12</cp:revision>
  <dc:subject/>
  <dc:title>Presenteren en communiceren</dc:title>
</cp:coreProperties>
</file>