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584-006C-4B1E-8606-F60D061B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F41-B4C3-4F68-8C7C-80E4E2AA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4A07-BB16-45BC-8991-EE98CD7C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9FD-B369-4A08-B23E-D5DB8FDF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324D-2FD0-45CF-86E3-DF83DB2C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3AB-2C1F-4ED2-8BC6-1E478EFE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543-2497-4C98-B563-373FA8FC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ED6E-CF14-4C34-BF64-1031822E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9AF-6113-4E1F-9B8F-98FBDD8C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306-D0B8-4DCB-B9FA-E1852C7A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AB2-801A-43FD-A8A5-7FA50B62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1C46-20C9-4566-BC05-D54CBF9F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ff30"/>
            </a:gs>
            <a:gs pos="100000">
              <a:srgbClr val="b8e3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6E7C-6B27-4E33-9F9D-177E67854AF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itaverde.nl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Presenteren en communic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as 3.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www.citaverde.nl/static/img/blank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360" y="-47628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7337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ken van de present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b je informatie gevon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een presentatie, bepaal wat en wanneer je dingen wilt ver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ventueel een PowerPoint als onderste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 de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houden van de daadwerkelijke present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het dan kla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n komt het geven van de presenta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ceren is het belangrijkste bij het geven van een present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zo prettig mogelijk voelen is het belangrijkste om een presentatie zo goed mogelijk te laten verlo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 volgen 12 ti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gin met het maken van contact met je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id daarna je onderwerp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d contact met je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aan je non- verbale commun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aan je uiter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ag naar je eigenaar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goede aan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om deze presentati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ge score op het gebied van presenteren/ communic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 veel valt te halen voor jull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werk argumenten/ bronnen in j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efen j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weet hoelang het ongeveer du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gaat het steeds meer op je eigen manier ver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leert improvis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wordt je ervan bewust dat aantekeningen handig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 niet teveel uit tijdens d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 je dingen meegeven als informatie, doe dit aan het eind van d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uik hulpmiddelen alleen als onderste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sterk en duidelijk s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Opdrac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ts vertellen aan een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opleiding: medeklasgen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opleiding: collega’s, klanten 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de PvB: de gasten die uitgenodigd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kuilen bij 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nuwach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rzaken: geen ervaring, grote groep mensen, mensen die je niet k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olg: onrustige presentat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rijk: het verhaal je eigen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? Zo goed mogelijk voorbereiden en heel vaak oefenen voor je klasgeno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reiding is het belangrijkst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s bij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de presentatie zo veel mogelijk je eigen verhaal 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t waarom jij het graag wilt vertell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s je ervan bewust dat je publiek al voorkennis heef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je zo veel mogelijk weet over het onderwe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penplan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Het onderwerp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Het doel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 Informatie verzam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 Het onderwerp be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wordt gevraagd omdat je al heel veel weet over een onderwerp, je hoeft geen onderwerp te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krijgt een onderwerp aangedragen, je moet je het onderwerp eigen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ngrijk is om je voor te bereiden en in te stellen op het gegeven: Jij bent de exper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 Het doel be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en kunn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ti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tu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u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 Informatie verzam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het onderwerp bepaald, dan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 je informatie hierover verzame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blioth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7:49:30Z</dcterms:created>
  <dc:creator>kleijnenb</dc:creator>
  <dc:description/>
  <dc:language>en-US</dc:language>
  <cp:lastModifiedBy>franssena</cp:lastModifiedBy>
  <dcterms:modified xsi:type="dcterms:W3CDTF">2012-09-20T09:18:53Z</dcterms:modified>
  <cp:revision>12</cp:revision>
  <dc:subject/>
  <dc:title>Presenteren en communiceren</dc:title>
</cp:coreProperties>
</file>