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721-5D84-456A-B56C-5D3224A1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727A-88DB-411F-8F2E-647B8C90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1FB-2E2C-4A8D-B236-6869576F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464D-E912-40CE-9DFC-2B83CB5B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BE4F-2381-4DBE-97B5-45DA2BA0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CC60-4746-4D76-B010-9EB678CF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749-155D-49AF-9337-27D6D6E9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3E4C-0E7F-4E6D-960A-4C1BC3B5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A2E2-301C-4B67-87EF-052862CC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4C3-70C2-4A19-8C16-E49C83E9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115-2652-4479-9DFB-7052528B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74C-DBF8-4F8F-8E85-B3DC0B91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ff30"/>
            </a:gs>
            <a:gs pos="100000">
              <a:srgbClr val="b8e3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A0FF-6D52-471C-95E3-D8A830487AC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itaverde.nl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Presenteren en communic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as 3.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www.citaverde.nl/static/img/blank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360" y="-47628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7337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ken van de present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b je informatie gevon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een presentatie, bepaal wat en wanneer je dingen wilt ver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ventueel een PowerPoint als onderste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 de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houden van de daadwerkelijke present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het dan kla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n komt het geven van de presentat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ceren is het belangrijkste bij het geven van een present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zo prettig mogelijk voelen is het belangrijkste om een presentatie zo goed mogelijk te laten verlo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 volgen 12 tip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gin met het maken van contact met je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id daarna je onderwerp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d contact met je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aan je non- verbale communic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aan je uiter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ag naar je eigenaar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goede aantek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om deze presentati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ge score op het gebied van presenteren/ communic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 veel valt te halen voor jull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werk argumenten/ bronnen in j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efen j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weet hoelang het ongeveer du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gaat het steeds meer op je eigen manier ver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leert improvis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wordt je ervan bewust dat aantekeningen handig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 niet teveel uit tijdens d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 je dingen meegeven als informatie, doe dit aan het eind van d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uik hulpmiddelen alleen als onderste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sterk en duidelijk s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Opdrac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ts vertellen aan een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opleiding: medeklasgen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opleiding: collega’s, klanten 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de PvB: de gasten die uitgenodigd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kuilen bij 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nuwach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rzaken: geen ervaring, grote groep mensen, mensen die je niet k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olg: onrustige presentat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rijk: het verhaal je eigen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? Zo goed mogelijk voorbereiden en heel vaak oefenen voor je klasgeno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reiding is het belangrijkst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s bij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de presentatie zo veel mogelijk je eigen verhaal 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t waarom jij het graag wilt vertell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s je ervan bewust dat je publiek al voorkennis heef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je zo veel mogelijk weet over het onderwe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penplan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Het onderwerp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Het doel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 Informatie verzam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 Het onderwerp be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wordt gevraagd omdat je al heel veel weet over een onderwerp, je hoeft geen onderwerp te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krijgt een onderwerp aangedragen, je moet je het onderwerp eigen m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ngrijk is om je voor te bereiden en in te stellen op het gegeven: Jij bent de exper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 Het doel be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en kunn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form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ti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tu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u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 Informatie verzam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het onderwerp bepaald, dan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 je informatie hierover verzame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blioth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7:49:30Z</dcterms:created>
  <dc:creator>kleijnenb</dc:creator>
  <dc:description/>
  <dc:language>en-US</dc:language>
  <cp:lastModifiedBy>franssena</cp:lastModifiedBy>
  <dcterms:modified xsi:type="dcterms:W3CDTF">2012-09-20T09:18:53Z</dcterms:modified>
  <cp:revision>12</cp:revision>
  <dc:subject/>
  <dc:title>Presenteren en communiceren</dc:title>
</cp:coreProperties>
</file>