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25D7-5CA9-4C0C-98E0-05E0B678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86F2-08DC-455E-AD61-848CB9A7C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A0D-D70D-48F2-ABB5-501E80C00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FCA-0A0B-4B26-BFFB-2301B5F9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B3B-BE55-4769-B1A9-7E14CDD0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8127-C8CA-4CF4-A938-A61B633B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E26F-45E6-4CB2-B8E9-6B19B8E1B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558-00CC-4915-B389-0070C7F65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9BF-74A3-4F06-8059-8ED5EF43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685-1528-4FCD-A00F-0F9F414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C7F0-1F46-4F9F-B489-C4E2B79B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408A-1F91-4277-AB31-547B64729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ff30"/>
            </a:gs>
            <a:gs pos="100000">
              <a:srgbClr val="b8e3e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AC0D-57C1-4E83-8B1B-6AAD8FD0931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itaverde.nl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ahoma"/>
              </a:rPr>
              <a:t>Presenteren en communic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ahoma"/>
              </a:rPr>
              <a:t>Klas 3.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http://www.citaverde.nl/static/img/blank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60" y="-476280"/>
            <a:ext cx="190512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173376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Maken van de present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b je informatie gevond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een presentatie, bepaal wat en wanneer je dingen wilt vertel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ventueel een PowerPoint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 de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houden van de daadwerkelijke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dan kla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an komt het geven van de presentati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et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mmuniceren is het belangrijkste bij het geven van een present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zo prettig mogelijk voelen is het belangrijkste om een presentatie zo goed mogelijk te laten verlo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olgen 12 tip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gin met het maken van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id daarna je onderwerp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oud contact met je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non- verbale communic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k aan je uiterlij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raag naar je eigenaardig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k goede aanteken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deze presentati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ge score op het gebied van presenteren/ communic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ier veel valt te halen voor julli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werk argumenten/ bronnen i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efen j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eet hoelang het ongeveer du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het steeds meer op je eigen manier verte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leert improvis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wordt je ervan bewust dat aantekeningen handig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el niet teveel uit tijdens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 je dingen meegeven als informatie, doe dit aan het eind van de present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bruik hulpmiddelen alleen als ondersteu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voor een sterk en duidelijk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Opdrach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ts vertellen aan een publ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opleiding: medeklasgen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opleiding: collega’s, klanten en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de PvB: de gasten die uitgenodigd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lkuilen bij present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nuwacht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orzaken: geen ervaring, grote groep mensen, mensen die je niet k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volg: onrustige presentat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rijk: het verhaal je eigen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e? Zo goed mogelijk voorbereiden en heel vaak oefenen voor je klasgeno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reiding is het belangrijkste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ips bij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de presentatie zo veel mogelijk je eigen verhaal 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t waarom jij het graag wilt vertell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s je ervan bewust dat je publiek al voorkennis heef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org dat je zo veel mogelijk weet over het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tappenplan voorberei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1 Het onderwerp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wordt gevraagd omdat je al heel veel weet over een onderwerp, je hoeft geen onderwerp te bepa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e krijgt een onderwerp aangedragen, je moet je het onderwerp eigen mak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langrijk is om je voor te bereiden en in te stellen op het gegeven: Jij bent de exper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2 Het doel bep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en kunn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cti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tui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mu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3 Informatie verzame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s het onderwerp bepaald, da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a je informatie hierover verzamel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iblioth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3T07:49:30Z</dcterms:created>
  <dc:creator>kleijnenb</dc:creator>
  <dc:description/>
  <dc:language>en-US</dc:language>
  <cp:lastModifiedBy>franssena</cp:lastModifiedBy>
  <dcterms:modified xsi:type="dcterms:W3CDTF">2012-09-20T09:18:53Z</dcterms:modified>
  <cp:revision>12</cp:revision>
  <dc:subject/>
  <dc:title>Presenteren en communiceren</dc:title>
</cp:coreProperties>
</file>