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18BF-08D3-47EC-8042-F13058EA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489-2D75-4C3C-A215-BDC4B0FC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C2EE-F2FF-452C-ACE4-265C173E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94A-0F2B-4B3A-A690-DC9369A6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4C3-C1ED-4158-8DF1-0B3166B4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F38-B321-4B5B-88E8-B37B0150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A03-A48C-44D9-8E1F-C8E55B85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3CF-06AA-478A-9CCE-2C695BB1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401-7CC0-4621-8168-B2691381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2DD-8A6C-4BA9-9A9C-294DA6BA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66C-9DED-469F-AED4-7175DADF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0C5-A62C-4209-B075-3AB45E01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ff30"/>
            </a:gs>
            <a:gs pos="100000">
              <a:srgbClr val="b8e3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8ACE-B3C9-4E02-91C8-2E0A4DE2FE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taverde.n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Presenteren en communic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as 3.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www.citaverde.nl/static/img/blank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-47628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7337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ken van de present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b je informatie gevo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presentatie, bepaal wat en wanneer je dingen wilt ver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ntueel een PowerPoint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 de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houden van de daadwerkelijke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dan kla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omt het geven van de presenta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ceren is het belangrijkste bij het geven van een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zo prettig mogelijk voelen is het belangrijkste om een presentatie zo goed mogelijk te laten verl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olgen 12 ti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gin met het maken van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id daarna je onderwerp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d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non- verbale commun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uiter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ag naar je eigenaar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goede aan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om deze presentat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score op het gebied van presenteren/ communic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eel valt te halen voor jul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erk argumenten/ bronnen i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efe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eet hoelang het ongeveer du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het steeds meer op je eigen manier ver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leert improvis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ordt je ervan bewust dat aantekeningen hand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 niet teveel uit tijdens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 je dingen meegeven als informatie, doe dit aan het eind van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hulpmiddelen alleen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sterk en duidelijk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Opdrac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ts vertellen aan een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opleiding: medeklasgen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opleiding: collega’s, klanten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de PvB: de gasten die uitgenodigd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kuilen bij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nuwach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zaken: geen ervaring, grote groep mensen, mensen die je niet k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olg: onrustige presentat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: het verhaal je eigen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? Zo goed mogelijk voorbereiden en heel vaak oefenen voor je klasgeno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reiding is het belangrijkst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s bij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de presentatie zo veel mogelijk je eigen verhaal 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t waarom jij het graag wilt vertell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s je ervan bewust dat je publiek al voorkennis heef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je zo veel mogelijk weet over het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penplan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wordt gevraagd omdat je al heel veel weet over een onderwerp, je hoeft geen onderwerp te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rijgt een onderwerp aangedragen, je moet je het onderwerp eigen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ngrijk is om je voor te bereiden en in te stellen op het gegeven: Jij bent de exper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en kunn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t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u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onderwerp bepaald, da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 je informatie hierover verzame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blioth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7:49:30Z</dcterms:created>
  <dc:creator>kleijnenb</dc:creator>
  <dc:description/>
  <dc:language>en-US</dc:language>
  <cp:lastModifiedBy>franssena</cp:lastModifiedBy>
  <dcterms:modified xsi:type="dcterms:W3CDTF">2012-09-20T09:18:53Z</dcterms:modified>
  <cp:revision>12</cp:revision>
  <dc:subject/>
  <dc:title>Presenteren en communiceren</dc:title>
</cp:coreProperties>
</file>