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768B-3C5E-4043-83EE-331E5C0E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9CBC-2DE4-4A00-8AF1-F38431A8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A8AD-F4FB-4396-99F0-2FBF1F907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A319-48A9-4666-A8BE-BACE2A1B2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E2F2-81AF-4F2F-9E4E-1E58B03D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7FF3-9057-43C4-81D8-AD531F7B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9EAD-A7D1-487F-B12E-82E6D6E5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B7B3-BD36-462A-81F6-8BACCABA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6DBE-5BE7-4E32-8BD0-5F952005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259D-050E-4981-A685-C779553B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D510-BA58-441D-A535-4914A7FB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1C22-C4A7-4683-941E-AED9ECD0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CFF8-BAC7-4AEE-BB19-F0C2DAF52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jk van de D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eedpotigen en gewervel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Inwendig ske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me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een voorbeeld van een dier met een inwendig skel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 de binnenk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 het lichaam v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mens zitten harde del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otte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724360" y="2637000"/>
            <a:ext cx="320220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fde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rijk van de dieren wordt in de volgende afdelingen verdee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Arial"/>
              </a:rPr>
              <a:t>Eencellige dieren (eencelli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Arial"/>
              </a:rPr>
              <a:t>Holte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Arial"/>
              </a:rPr>
              <a:t>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Arial"/>
              </a:rPr>
              <a:t>Week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Arial"/>
              </a:rPr>
              <a:t>Spo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Arial"/>
              </a:rPr>
              <a:t>Stekelhuid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Arial"/>
              </a:rPr>
              <a:t>Geleedpo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0099"/>
                </a:solidFill>
                <a:latin typeface="Arial"/>
              </a:rPr>
              <a:t>Geleedpotigen en gewervel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afdeling van de geleedpotigen en gewervelden wordt op basis van een aantal kenmerken opgedeeld in kleinere groep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ze groepen worden ook wel </a:t>
            </a:r>
            <a:r>
              <a:rPr b="1" lang="nl-NL" sz="3200" spc="-1" strike="noStrike">
                <a:solidFill>
                  <a:srgbClr val="cc0099"/>
                </a:solidFill>
                <a:latin typeface="Arial"/>
              </a:rPr>
              <a:t>klass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genoem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Geleedpoti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basis van drie kenmerken wordt de afdeling van de geleedpotigen in vier klassen verde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uizendpo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reeftacht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inacht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sec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Geleedpoti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 basis van drie kenmerken wordt de afdeling van de geleedpotigen in vier klassen verde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merk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veelheid po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wezigheid van een kop, borststuk en/ of achterl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me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izendpo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mer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 elk segment (klein deeltje) zitten twee po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lichaam bestaat uit twee delen: kopstuk en achterli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hele lichaam bestaat uit segmenten (kleine dele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651640" y="3500280"/>
            <a:ext cx="32763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reeftachti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mer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eeftachtigen hebben 10 of meer po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lichaam bestaat uit twee delen: kopstuk en achterli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achterlijf bestaat uit segmenten (kleine del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95640" y="3860640"/>
            <a:ext cx="4905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pinachtig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mer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inachtigen hebben 8 po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lichaam bestaat uit twee d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p/borststuk en achterli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segm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724360" y="2852640"/>
            <a:ext cx="326088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c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mer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cten hebben 6 po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lichaam bestaat uit 3 d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pstuk, borststuk, achterli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achterlijf bestaat uit segmenten (kleine del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219640" y="3870360"/>
            <a:ext cx="368316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Gewervel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basis van vijf kenmerken wordt de afdeling van de gewervelden in vijf klassen verde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i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mfib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pti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ogd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jk van de d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 basis van twee kenmerken wordt het rijk van de dieren opgedeeld in 7 afdelin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merk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ymmet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Ske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Gewervel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basis van vijf kenmerken wordt de afdeling van de gewervelden in vijf klassen verde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enmerk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ichaamstempera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mhalingsorg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nier van voortpla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li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mer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huid is bedekt me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ubben met slij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sen zij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udbloedige dier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sen halen adem door middel v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euw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sen planten zich voort door middel v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eren zonder scha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sen leven in he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067280" y="4362480"/>
            <a:ext cx="47624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mfibië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mer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uid is bedekt met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lijm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mfibiën zij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koudbloedige dier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mfibiën halen eerst adem doo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kieuwen en de hu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en later doo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ongen en de hu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mfibiën planten zich voort door middel va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ieren zonder schaa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mfibien leven in het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er en op het lan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298764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tiel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mer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huid is bedekt me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oge schubb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tielen zij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udbloedige dier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tielen halen adem door middel v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tielen planten zich voort door middel v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eren met leerachtige scha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tielen leven op he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435640" y="4292640"/>
            <a:ext cx="343548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mer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huid is bedekt me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gels zij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mbloedige dier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gels halen adem door middel v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gels planten zich voort door middel v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eren met kalkscha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gels leven in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uc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156360" y="3828960"/>
            <a:ext cx="271476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ogd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mer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huid is bedekt me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ogdieren zij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mbloedige dier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ogdieren halen adem door middel v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ogdieren zij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ndbar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ogdieren leven op he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659640" y="3456000"/>
            <a:ext cx="21906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uit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ichaamstemperatu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gewerveld dier kan koudbloedig of warmbloedig zij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koudbloedige dieren is de lichaamstemperatuur niet constant (gelij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lichaamstemperatuur van koudbloedige dieren is afhankelijk van de omgevingstemperatu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het buiten koud dan is de lichaamstemperatuur laa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het buiten warm dan is de lichaamstemperatuur hoo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uit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Lichaamstemperatu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gewerveld dier kan koudbloedig of warmbloedig zij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warmbloedige dieren is de lichaamstemperatuur constant (gelij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lichaamstemperatuur van warmbloedige dieren is niet afhankelijk van de omgevingstemperatu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anks dat het buiten koud of warm is blijft de lichaamstemperatuur gelijk (bijv: mens (37 grade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ier van voort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ogdieren zijn levendbar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ogdieren leggen geen eieren maar “bare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beeld: 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012000" y="3933720"/>
            <a:ext cx="28573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ymmet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dier ka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-symmetrisch zij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weezijdig-symmetrisch zij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lzijdig-symmetrisch zij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iet-symmetris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moe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een voorbeeld van een dier dat niet-symmetrisch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amoebe is op geen één mogelijkheid te spiegelen in twee gelijke de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64000" y="2565360"/>
            <a:ext cx="283212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Tweezijdig-symmetris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</a:t>
            </a:r>
            <a:r>
              <a:rPr b="1" lang="nl-NL" sz="3200" spc="-1" strike="noStrike">
                <a:solidFill>
                  <a:srgbClr val="ff0000"/>
                </a:solidFill>
                <a:latin typeface="Arial"/>
              </a:rPr>
              <a:t>bij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is een voorbeeld van een dier dat twee-zijdig symmetrisch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bij is op één manier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wee gelijke delen 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ege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47791" t="24413" r="35239" b="43102"/>
          <a:stretch/>
        </p:blipFill>
        <p:spPr>
          <a:xfrm>
            <a:off x="6132600" y="2637000"/>
            <a:ext cx="27590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Veelzijdig-symmetris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</a:t>
            </a:r>
            <a:r>
              <a:rPr b="1" lang="nl-NL" sz="3200" spc="-1" strike="noStrike">
                <a:solidFill>
                  <a:srgbClr val="ff0000"/>
                </a:solidFill>
                <a:latin typeface="Arial"/>
              </a:rPr>
              <a:t>zeeste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is een voorbeeld van een dier dat veelzijdig-symmetrisch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zeester is o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rdere manier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twee gelijke del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 spiege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66979" t="24413" r="10872" b="43102"/>
          <a:stretch/>
        </p:blipFill>
        <p:spPr>
          <a:xfrm>
            <a:off x="5292720" y="2708280"/>
            <a:ext cx="3600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Ske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ige delen in het lichaam van een dier wordt het skelet genoem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dier ka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skelet hebb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uitwendig skelet hebb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inwendig skelet hebb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Geen ske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kw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een voorbeeld van een dier zonder skel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3280" y="2492280"/>
            <a:ext cx="41054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Uitwendig ske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moss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een voorbeeld van een dier met een uitwendig skel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 de buitenk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 het licha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 een mossel bevind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ch harde delen (schel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12000" y="2565360"/>
            <a:ext cx="25905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3T13:05:54Z</dcterms:created>
  <dc:creator>Jojanneke</dc:creator>
  <dc:description/>
  <dc:language>en-US</dc:language>
  <cp:lastModifiedBy>Jojanneke</cp:lastModifiedBy>
  <dcterms:modified xsi:type="dcterms:W3CDTF">2013-01-03T14:14:04Z</dcterms:modified>
  <cp:revision>5</cp:revision>
  <dc:subject/>
  <dc:title>Powerpoint Geleedpotigen</dc:title>
</cp:coreProperties>
</file>