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BDD-41F5-4AD4-B808-8C3CAE1B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E10-E73B-41B9-951A-AD2CC2CD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777-0ECF-4C2C-9704-ED4636A7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54C-E0A5-4872-B7D8-97A0943E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5E5-8F9A-495E-BFF5-E4C2D07C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2A2-E1CF-4F81-98AF-976ADEA9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012-5C66-4DBD-BD56-81503D2A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914-4CAE-4E16-81F2-C53D75DF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85E-6DFB-40CB-B2FC-EE4172A5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337-7C81-4F36-AF0A-4A0C7622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9724-0BE3-41A4-89D5-E6410EBA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CEE-4512-4114-853C-841F710A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C60B-32AF-48B0-B5A5-8F40CC7F443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oleObject" Target="../embeddings/oleObject1.bin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ell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schillen tuss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encellen en dierlijke c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1754280" cy="1442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 is een c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 levende wezens, o.a. planten en dieren, zijn opgebouwd uit cel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k organisme is dus opgebouwd uit één of meer cel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kleinste organismen bestaan uit slechts één c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j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l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r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pantoffeldiert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imm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gist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ë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staan uit één c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ntoffeldiert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tere organismen bestaan uit enkele tot miljarden cel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en zien eruit als kleine doosjes/sten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en zijn dus de bouwstenen van organis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 plantencellen en dierlijke cell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ke cel bestaat uit een aantal vaste onderd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lmembra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ens tussen binnen en buiten, zit 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cytoplasma hee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t cytoplas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roperige vloeistof waarin wate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geloste stoffen en de kern zi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 celke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gelt alles in de cel, omgeven do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membraa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ten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staat uit de volgend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andaard onderde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elmembr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ytoplasm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ern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elker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 met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ernmembraa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Klik op het plaatje voor de vergro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lus de volgende onderde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elwand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stevig laagje om de cel heen, de buitenste laag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cuol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blaasje gevuld met vocht en opgeloste stoffen in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dden van de ce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e vacuole blaast de plantencel op en geeft de cel zo stevigheid. Als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innenbal van een leren voetbaal door het oppompen de bal zijn stevigheid geeft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tercellulaire ruimt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ruimten gevuld met lucht tussen de celle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ladgroenkorrels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 voor fotosynthe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164360" y="1484280"/>
          <a:ext cx="1417680" cy="14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1484280"/>
                    <a:ext cx="14176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43640" y="5373360"/>
            <a:ext cx="216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lik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ier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m terug 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an naar de uitleg v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 plantenc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4360" y="1341360"/>
          <a:ext cx="5448240" cy="55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341360"/>
                    <a:ext cx="544824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erlijke 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aat uit de volge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andaard onderdele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membr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plas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ke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348000" y="1628640"/>
          <a:ext cx="5292720" cy="46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1628640"/>
                    <a:ext cx="5292720" cy="46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uidelijke verschillen te zi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356000" y="1484280"/>
          <a:ext cx="478800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484280"/>
                    <a:ext cx="47880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0" y="1484280"/>
          <a:ext cx="4386240" cy="48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43862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995640" y="5661000"/>
            <a:ext cx="460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 ziet niet bij alle cellen alle onderdel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eer een cel te zoeken met zoveel mogelijk onderdelen die je kunt zien. Wat je niet ziet kun je ook niet tekenen en benoeme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el verschillen en overeenkomsten tussen dierlijke cellen en plantenc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2276640"/>
          <a:ext cx="8358120" cy="3622680"/>
        </p:xfrm>
        <a:graphic>
          <a:graphicData uri="http://schemas.openxmlformats.org/drawingml/2006/table">
            <a:tbl>
              <a:tblPr/>
              <a:tblGrid>
                <a:gridCol w="2879640"/>
                <a:gridCol w="2738520"/>
                <a:gridCol w="2739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onderd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n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rlijke c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w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membra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plas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groenkorr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u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1:45:44Z</dcterms:created>
  <dc:creator>rpm</dc:creator>
  <dc:description/>
  <dc:language>en-US</dc:language>
  <cp:lastModifiedBy>Ilse</cp:lastModifiedBy>
  <dcterms:modified xsi:type="dcterms:W3CDTF">2007-01-10T20:00:47Z</dcterms:modified>
  <cp:revision>27</cp:revision>
  <dc:subject/>
  <dc:title>cellen</dc:title>
</cp:coreProperties>
</file>