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7F5-AD55-4742-BD43-C40167BC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C55-A15E-471D-B411-DD6DD54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8F3-60B2-498E-97FC-99283AF7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340-BBC4-4ACA-848B-9B0A2BCC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B57-ECD0-4E44-BDD8-A4A5C711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FFE-6C95-4A5E-A1B8-A4A5FC54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54A-3A7D-4BE7-AC61-035E123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B22-25F2-4D88-A45C-A56BB8F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74D-52D9-4810-9439-19628A3D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0F6-8572-431D-9195-58F7ED6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B4B-8052-409C-888A-C0C6963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FC4-BF90-4960-8581-C1232909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AA84-1928-41F7-B6B2-9A8FE33F4F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geolution.nl/planten/flora/narcis.JPG&amp;imgrefurl=http://www.geolution.nl/planten/Phanerogamen.htm&amp;usg=__ysnHAXY20dl_SkZ5ukU2Ig7bIO8=&amp;h=413&amp;w=550&amp;sz=83&amp;hl=nl&amp;start=15&amp;zoom=1&amp;itbs=1&amp;tbnid=DO-qBMMVGM58MM:&amp;tbnh=100&amp;tbnw=133&amp;prev=/images%3Fq%3Dafbeelding%2Bzaadplant%26hl%3Dnl%26lr%3D%26safe%3Doff%26sa%3DG%26tbs%3Disch: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Leskaart indelen van organis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Indelen van het dierenrij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dierenrijk wordt ingedeeld aan de hand van kenmerken van de aanwezigheid van een skelet of ni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st het skelet wordt er ook gekeken naar de symmetrie van een dier.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cc33"/>
                </a:solidFill>
                <a:latin typeface="Times New Roman"/>
              </a:rPr>
              <a:t>Kenmerken</a:t>
            </a:r>
            <a:br>
              <a:rPr sz="3800"/>
            </a:br>
            <a:r>
              <a:rPr b="1" lang="nl-NL" sz="3800" spc="-1" strike="noStrike">
                <a:solidFill>
                  <a:srgbClr val="33cc33"/>
                </a:solidFill>
                <a:latin typeface="Times New Roman"/>
              </a:rPr>
              <a:t>Eencellige dieren &amp; holtedier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Eencellige dier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t-symmetris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k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staan uit 1 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even in het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Holtedie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elzijdig symmetri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estal geen sk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even in het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gen hun prooi met tentak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20000" y="4076640"/>
            <a:ext cx="1476360" cy="1436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88000" y="551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8000" y="551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eeane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6007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08720" y="3141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ntoffeldiert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800" spc="-1" strike="noStrike">
                <a:solidFill>
                  <a:srgbClr val="33cc33"/>
                </a:solidFill>
                <a:latin typeface="Times New Roman"/>
              </a:rPr>
              <a:t>Kenmerken</a:t>
            </a:r>
            <a:br>
              <a:rPr sz="3800"/>
            </a:br>
            <a:r>
              <a:rPr b="1" lang="nl-NL" sz="3800" spc="-1" strike="noStrike">
                <a:solidFill>
                  <a:srgbClr val="33cc33"/>
                </a:solidFill>
                <a:latin typeface="Times New Roman"/>
              </a:rPr>
              <a:t>Eencellige dieren &amp; holtedier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Eencellige dier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iet-symmetris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k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staan uit 1 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even in het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Holtedier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elzijdig symmetri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eestal geen sk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Leven in het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ngen hun prooi met tentak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20000" y="4076640"/>
            <a:ext cx="1476360" cy="1436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788000" y="551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w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551664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eeane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3600720" cy="1368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508720" y="314172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antoffeldiert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846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Kenmerken</a:t>
            </a:r>
            <a:br>
              <a:rPr sz="4200"/>
            </a:b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weekdieren &amp; wor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Weekdier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weezijdig symmetr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eestal een schelp of huisje als ske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Worm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weezijdig symmetrisch</a:t>
            </a: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Geen ske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Het lichaam is lang en d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96000" y="3933720"/>
            <a:ext cx="1639800" cy="1113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500120" cy="1127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860760" cy="1152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500720" y="1916280"/>
            <a:ext cx="1150920" cy="1139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1592280" cy="1179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7380360" y="1989000"/>
            <a:ext cx="1662120" cy="1087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00720" y="3068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mos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3068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l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40720" y="3068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inktv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regenw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0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lintw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50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poelw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Kenmerken</a:t>
            </a:r>
            <a:br>
              <a:rPr sz="4200"/>
            </a:b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Stekelhuidigen &amp; geleedpotig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ekelhuidigen: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Veelzijdig symmetr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Inwendig skelet van k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 huid is bedekt met stekels of knob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Leven op de bodem van de z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Geleedpotige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weezijdig symmetr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Het skelet is een pant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2060640"/>
            <a:ext cx="1812960" cy="12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584360" cy="1190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1538280" cy="1009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148360" y="4797360"/>
            <a:ext cx="1439640" cy="943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308720" y="4653000"/>
            <a:ext cx="1295640" cy="1073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2987640" y="4653000"/>
            <a:ext cx="1728720" cy="1149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003640" y="3284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zee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93080" y="3284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zeee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57340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duizendp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48000" y="57340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l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57340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r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720" y="57340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p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Kenmerken </a:t>
            </a:r>
            <a:br>
              <a:rPr sz="4200"/>
            </a:b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Gewervelden &amp; Sponz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Gewervelde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weezijdig symmetris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en inwendig ske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pon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iet-symmetr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en skelet van stevige hoornvezels tussen de c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Zitten meestal vast op de bodem van de z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1439640" cy="1090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1595520" cy="1081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140360" y="3068640"/>
            <a:ext cx="1523880" cy="1090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5867280" y="3068640"/>
            <a:ext cx="798480" cy="10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77080" y="306864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796000" y="4724280"/>
            <a:ext cx="1027080" cy="1113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4221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4221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ik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4221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sl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221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og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422100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a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4360" y="58053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adsp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Organism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Wat zijn organismen? = levende wez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imes New Roman"/>
              </a:rPr>
              <a:t>Organismen worden onderverdeeld in 4 rij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Plan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Schimm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acterië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Di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48360" y="3357720"/>
            <a:ext cx="1368720" cy="1028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92720" y="3527280"/>
            <a:ext cx="1295280" cy="846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4360" y="4941720"/>
            <a:ext cx="1224000" cy="103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364000" y="4797360"/>
          <a:ext cx="1151280" cy="103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4000" y="4797360"/>
                    <a:ext cx="11512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Verschillen in cell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77336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628640"/>
            <a:ext cx="828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ganismen zijn opgebouwd uit c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e hebt organismen die uit 1 cel bestaan oftewel eencellige organismen, zoals bacteri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e hebt organismen die uit meerdere cellen bestaan, zoals schimmels, planten en d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kenmerken van de cellen van organismen kunnen we ze indelen in de 4 rijk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Celle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867280" y="1773360"/>
          <a:ext cx="152568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73360"/>
                    <a:ext cx="152568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79280" y="1700280"/>
          <a:ext cx="1563840" cy="31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700280"/>
                    <a:ext cx="15638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059280" y="1773360"/>
            <a:ext cx="1517400" cy="17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276720" y="4869000"/>
            <a:ext cx="2160360" cy="138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24360" y="126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erlijke 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lante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126828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chimmel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2349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yto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708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acu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29242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ladgroenkor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573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k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933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membr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4149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w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20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k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2276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w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565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yto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2133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membr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2349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k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4360" y="27813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yto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437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ac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5084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w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membr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551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yto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40360" y="292428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2781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celmembr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Eencellig of meercellig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976320" cy="90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1273320" cy="101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700360" y="3357720"/>
          <a:ext cx="1079640" cy="87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357720"/>
                    <a:ext cx="10796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26920" y="1125360"/>
            <a:ext cx="7777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ier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kunnen zowel eencellig als meercell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Plant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kunnen zowel eencellig als meercellig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chimmel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kunnen zowel eencellig als meercell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acteri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zijn altijd eencelli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17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162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ntoffeldiert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0872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2421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tij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12000" y="3213000"/>
          <a:ext cx="107784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3213000"/>
                    <a:ext cx="107784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843280" y="4869000"/>
          <a:ext cx="863640" cy="81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869000"/>
                    <a:ext cx="8636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084720" y="4869000"/>
          <a:ext cx="873360" cy="93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4720" y="4869000"/>
                    <a:ext cx="873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292720" y="5950080"/>
          <a:ext cx="865080" cy="779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5950080"/>
                    <a:ext cx="8650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85128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651640" y="42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335772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boomal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40766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va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501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24000" y="5661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48690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gist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5516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ddesto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638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623736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E. Coli bacte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Taxonomi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197000"/>
            <a:ext cx="8713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s je de celkenmerken van de 4 rijken goed kent kun je een onderverdeling gaan maken, dit noemen ze met een moeilijk woord taxonom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rijk van de planten kun je weer onderverdelen in drie afdelingen;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zaadplant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porenplant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wier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rijk van de dieren kunnen we onderverdelen in de volgende afdelingen;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encellig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holtedier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weekdier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worm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tekelhuidigen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geleedpotigen, gewervelden &amp; spo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33cc33"/>
                </a:solidFill>
                <a:latin typeface="Tahoma"/>
              </a:rPr>
              <a:t>Tax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981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rgani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413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77336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0872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1337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d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133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bacterië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2133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pla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13372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schimm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4210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924280"/>
            <a:ext cx="403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050560" y="29242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500280"/>
            <a:ext cx="93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eencell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diertj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35002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holted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29242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35002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weekd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76360" y="29242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843280" y="2924280"/>
            <a:ext cx="144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24360" y="2924280"/>
            <a:ext cx="14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393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w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716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stekelhuid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547280" y="2924280"/>
            <a:ext cx="18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076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geleedpot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3500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gewervel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2100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92428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372360" y="29242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164360" y="292428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956720" y="29242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5002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zaadpla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720" y="37162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w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35002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sporenpla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78936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013360"/>
            <a:ext cx="1009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866920" y="501336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877080" y="501336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558972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naaktzad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5589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bedektzadi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2640" y="9810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00" y="1557360"/>
            <a:ext cx="5461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ij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00" y="2781360"/>
            <a:ext cx="54612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afd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0" y="5084640"/>
            <a:ext cx="54612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924280"/>
            <a:ext cx="14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5640" y="4149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sponz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cc33"/>
                </a:solidFill>
                <a:latin typeface="Times New Roman"/>
              </a:rPr>
              <a:t>Indeling plantenrij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Wier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unnen ééncellig zijn (algen) of meercellig. Ze hebben geen wortels, stengels, balderen of bloemen. Ze planten zich voort d.m.v. celde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Sporenplant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jn meercellig. Hebben wortels, stengels en bladeren. Planten zich voort d.m.v. spo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Zaadplant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jn meercellig. Hebben wortels, stengels, bladeren èn bloemen. Planten zich voort d.m.v. za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1555560" cy="10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1536840" cy="1150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5734080"/>
            <a:ext cx="1266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>
                <a:solidFill>
                  <a:srgbClr val="33cc33"/>
                </a:solidFill>
                <a:latin typeface="Tahoma"/>
              </a:rPr>
              <a:t>Indeling zaadplanten (in klassen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afdeling zaadplanten wordt verder ingedeeld in de klassen naaktzadigen en bedektzad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aaktzadige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De zaden liggen bloot, dit kun 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voorbeeld goed zien in een denneappel die 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pen komt. Hier liggen alle zaadjes normaal tu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dektzadigen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De zaden zijn letterlijk bede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 bijvoorbeeld een appel zijn de zaadjes bedekt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 vru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340000" cy="156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32720" y="4653000"/>
            <a:ext cx="1320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-willem</cp:lastModifiedBy>
  <dcterms:modified xsi:type="dcterms:W3CDTF">2010-09-27T12:51:32Z</dcterms:modified>
  <cp:revision>4</cp:revision>
  <dc:subject/>
  <dc:title>PowerPoint Presentation</dc:title>
</cp:coreProperties>
</file>