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986-947B-4A09-A384-12A07B55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BF7-6E15-442D-9A43-F025C81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10B-98A9-438F-8026-BA8C5E4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C04-7D66-410C-925F-120089FB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06E-B92E-46E0-93D9-B498D9AA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865-5BFD-403B-957C-5E4CEF4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4D24-DF75-4D45-9019-E659C253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9AD-F853-4C8D-AE58-8A587D74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DBD-5C84-4EC1-B457-30CA5E64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771-F11B-4F04-A9C5-EB91622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3A1-A487-4868-BFFB-1FA3848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BDF-A757-4E71-B8AA-E0956F3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8FB-55EC-4F0A-B8F4-5CC1DFF43F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1640" y="2130120"/>
            <a:ext cx="3886200" cy="146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3886200"/>
            <a:ext cx="3887640" cy="1271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kaart G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Uitleg Schimm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al om ons heen zijn schimm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schimmels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celli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met 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te oo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chtba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schimmels bestaa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één c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kun je alleen bekijken met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icroscoop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9a9cce648913ff97d328546894cf6fca"/>
          <p:cNvPicPr/>
          <p:nvPr/>
        </p:nvPicPr>
        <p:blipFill>
          <a:blip r:embed="rId1"/>
          <a:stretch/>
        </p:blipFill>
        <p:spPr>
          <a:xfrm>
            <a:off x="7451640" y="522936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fotocompetitie.upc.nl/original/427804/vliegenzwam/vliegenzwam_herfst_paddenstoel_paddestoel_mushroom.jpg"/>
          <p:cNvPicPr/>
          <p:nvPr/>
        </p:nvPicPr>
        <p:blipFill>
          <a:blip r:embed="rId2"/>
          <a:stretch/>
        </p:blipFill>
        <p:spPr>
          <a:xfrm>
            <a:off x="7236000" y="33336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educatie.ntr.nl/mmbase/images/3621854"/>
          <p:cNvPicPr/>
          <p:nvPr/>
        </p:nvPicPr>
        <p:blipFill>
          <a:blip r:embed="rId3"/>
          <a:stretch/>
        </p:blipFill>
        <p:spPr>
          <a:xfrm>
            <a:off x="6300720" y="5589720"/>
            <a:ext cx="104940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je een schimmel onder de microscoop bekijkt, zie je dat die uit draden besta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draden word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himmeldra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hyf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9a9cce648913ff97d328546894cf6fca"/>
          <p:cNvPicPr/>
          <p:nvPr/>
        </p:nvPicPr>
        <p:blipFill>
          <a:blip r:embed="rId1"/>
          <a:stretch/>
        </p:blipFill>
        <p:spPr>
          <a:xfrm>
            <a:off x="7164360" y="458136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http://t1.gstatic.com/images?q=tbn:ANd9GcRy_9s2i3j_DeJVEDY31QLBlOBeKFBGqHAQSe3re5EifHDhguzz"/>
          <p:cNvPicPr/>
          <p:nvPr/>
        </p:nvPicPr>
        <p:blipFill>
          <a:blip r:embed="rId2"/>
          <a:stretch/>
        </p:blipFill>
        <p:spPr>
          <a:xfrm>
            <a:off x="4572000" y="386064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s vermenigvuldigen zich met behulp va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poren ontstaan vaak, tusse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me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i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e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a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addensto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 deze sporen kunnen nieuwe schimmels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paddenstoel is opgebouwd uit verschillende onderd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 La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. H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3. Manc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4. B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5. Schimmeld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6.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7. Sp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paddestoel.jpg"/>
          <p:cNvPicPr/>
          <p:nvPr/>
        </p:nvPicPr>
        <p:blipFill>
          <a:blip r:embed="rId1"/>
          <a:stretch/>
        </p:blipFill>
        <p:spPr>
          <a:xfrm>
            <a:off x="179280" y="2637000"/>
            <a:ext cx="3313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s kunn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utti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aar oo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ha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uttige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addenstoelen van sommige schimmels kunnen worden geget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champignon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schimmels worden gebruikt bij het maken van voedingsmiddel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bier, wijn, brood, kaas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schimmels worden gebruikt bij het maken van medicijn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penicilline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ruimen schimmels, samen met bacteriën,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iologisch afbreekbaar afval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(organisch afval)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goudenkaasblokje.punt.nl/_files/2007-12-23/bierenwijn.jpg"/>
          <p:cNvPicPr/>
          <p:nvPr/>
        </p:nvPicPr>
        <p:blipFill>
          <a:blip r:embed="rId1"/>
          <a:stretch/>
        </p:blipFill>
        <p:spPr>
          <a:xfrm>
            <a:off x="7885080" y="3789360"/>
            <a:ext cx="50328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members.upc.nl/h.vanwitzenburg1/geneesmiddel/medicijn2.gif"/>
          <p:cNvPicPr/>
          <p:nvPr/>
        </p:nvPicPr>
        <p:blipFill>
          <a:blip r:embed="rId2"/>
          <a:stretch/>
        </p:blipFill>
        <p:spPr>
          <a:xfrm>
            <a:off x="7812000" y="5084640"/>
            <a:ext cx="6732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chadelijke schimm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s kunnen in je lichaam terecht komen en daar ziektes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nfecties)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oorz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www.liedjesland.com/Liedjes/kinderliedjes/AltijdIsKortjakjeZiek/AltijdIsKortjakjeZiek.jpg"/>
          <p:cNvPicPr/>
          <p:nvPr/>
        </p:nvPicPr>
        <p:blipFill>
          <a:blip r:embed="rId1"/>
          <a:stretch/>
        </p:blipFill>
        <p:spPr>
          <a:xfrm>
            <a:off x="6372360" y="3716280"/>
            <a:ext cx="2577960" cy="28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www.huidziekten.nl/afbeeldingen/illustraties/beschimmeld-brood.jpg"/>
          <p:cNvPicPr/>
          <p:nvPr/>
        </p:nvPicPr>
        <p:blipFill>
          <a:blip r:embed="rId2"/>
          <a:stretch/>
        </p:blipFill>
        <p:spPr>
          <a:xfrm>
            <a:off x="2867040" y="3716280"/>
            <a:ext cx="3360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3:28Z</dcterms:created>
  <dc:creator>Jojanneke</dc:creator>
  <dc:description/>
  <dc:language>en-US</dc:language>
  <cp:lastModifiedBy>hpuser</cp:lastModifiedBy>
  <dcterms:modified xsi:type="dcterms:W3CDTF">2013-01-27T17:10:17Z</dcterms:modified>
  <cp:revision>12</cp:revision>
  <dc:subject/>
  <dc:title>Powerpoint</dc:title>
</cp:coreProperties>
</file>