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EBE-6211-4136-98D9-885DDB5E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DF8-3835-4AC9-A471-5E04E48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2FD-617D-4406-B0A3-86FC4828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9FD-542D-489F-AC3B-305872E2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28B-6C5F-4682-A542-37833BF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D0F-BC48-4A04-8D11-DE99726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AD1-FBBF-4CD7-903F-606E86F4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61B-38F2-4569-A27F-73FCE5C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C0A-187E-475D-967C-A15DCDA8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34F-8AC8-455E-8828-DEDFFCB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8CC-D3BD-427F-93BB-40E25D1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378-A1B1-4FFE-B5FC-A1A0061A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8B0C-287C-4564-80CF-9262A379C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pload.wikimedia.org/wikipedia/commons/thumb/9/92/Tomato_leaf_stomate_1.jpg/585px-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schooltv.nl/eigenwijzer/projecten/index.jsp?project=237487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ahoma"/>
              </a:rPr>
              <a:t>Thema planten - Les 9+10</a:t>
            </a:r>
            <a:br>
              <a:rPr sz="4400"/>
            </a:br>
            <a:r>
              <a:rPr b="0" i="1" lang="en-US" sz="3000" spc="-1" strike="noStrike">
                <a:solidFill>
                  <a:srgbClr val="33cc33"/>
                </a:solidFill>
                <a:latin typeface="Times New Roman"/>
              </a:rPr>
              <a:t>- bladeren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7920" y="5105160"/>
            <a:ext cx="40388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ent: Ern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k: Bi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a: Organen en c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51128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685800" y="3581280"/>
          <a:ext cx="171936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81280"/>
                    <a:ext cx="17193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352680" y="457200"/>
            <a:ext cx="213372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Huidmondj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133720" cy="1508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523880"/>
            <a:ext cx="5486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het bladmoes van de plant zitten ontzettend veel huidmondjes. Deze huidmondjes kun je niet zien met je blote oog. Onder de microscoop kun je deze wel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onderden huidmondjes kun je terugvinden op het bladm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uidmondjes zitten in de plant voor het opnemen v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olstofdiox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 het uitscheiden v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uur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huidmond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Aanteken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62320" y="1828800"/>
          <a:ext cx="38275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3827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943600" y="5867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schi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51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m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886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fdne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200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jne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361960" y="251460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Aanteken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52388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784836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schij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In de bladschijf liggen de vaatbundels in ner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ste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 vaatbundels van de stengel lopen via de bladsteel door tot in de bladschi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 rand van de bladschijf (kan gekarteld of glad zij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mo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In het bladmoes zitten veel huidmond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ofdne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 hoofdnerf loopt meestal in het midden van het bl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jne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e aftakkingen van de hoofdnerf heten zijnerven. Deze vertakken zich tot steeds kleinere ner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dske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en blad zonder het bladmoes met alleen de ne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idmond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kleine openingen in de bladeren van plant voor het opnemen van koolstofdioxide en het uitscheiden van zuur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tosyn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Een belangrijk proces waarbij glucose en zuurstof in de bladeren van planten word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Onderdelen bla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676520"/>
          <a:ext cx="257184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257184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24080" y="2819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schij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419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1676520"/>
            <a:ext cx="426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bladschijf liggen de vaatbundels in ner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vaatbundels van de stengel lopen via de bladsteel door tot in de bladschij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562720"/>
            <a:ext cx="666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62120" y="1905120"/>
          <a:ext cx="24192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24192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429000" y="1828800"/>
            <a:ext cx="556272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nerven vervoeren water en voedingsstoff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k zorgen ze voor de stevigheid van het bl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materiaal dat tussen de nerven ligt, heet bladm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bladschijf bestaat uit bladmoes en ner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28600"/>
            <a:ext cx="861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cc33"/>
                </a:solidFill>
                <a:latin typeface="Tahoma"/>
              </a:rPr>
              <a:t>Nerven en bladmo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Nerve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523880"/>
          <a:ext cx="2625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2625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657600" y="152388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bladschijf bestaat uit bladmoes en ner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oofdnerf loopt meestal in het midden van het bl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ftakkingen van de hoofdnerf heten zijnerven. Deze vertakken zich tot steeds kleinere ner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Nerve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219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chillende soorten vormen van ner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2133720"/>
          <a:ext cx="8001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001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Bladskele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2133720"/>
          <a:ext cx="2219400" cy="31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221940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858000" y="2209680"/>
          <a:ext cx="216216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209680"/>
                    <a:ext cx="21621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666880" y="198108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blad waar geen bladmoes meer in zit, noemen we een bladske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bladskelet bestaat alleen uit ner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e herfst rot het bladmoes van een afgevallen blad meestal sneller weg dan de nerven. Je kunt dan bladskeletten vinden, bijvoorbeeld in een hoop blad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dske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Bladrande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95280" y="1676520"/>
          <a:ext cx="27212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2721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De functie van bladere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371600"/>
            <a:ext cx="60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 organismen hebben voedsel nodig om in leven te blijven en om te groei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sen en dieren voeden zich met delen van andere organismen. Als je bijvoorbeeld sla, een appel of jam eet, eet je voedsel dat afkomstig is van plan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t je bijvoorbeeld vlees, een ei of kaas, dan eet je voedsel dat afkomstig is van die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voedsel levert de stoffen waaruit je lichaam besta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en voeden zich niet met andere organis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toffen waaruit een plant bestaat, worden door de plant zelf gemaa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oral de bladeren spelen hierbij een belangrijke 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553080" y="2819520"/>
          <a:ext cx="22860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819520"/>
                    <a:ext cx="2286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cc33"/>
                </a:solidFill>
                <a:latin typeface="Tahoma"/>
              </a:rPr>
              <a:t>De functie van bladere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371600"/>
            <a:ext cx="579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unctie van de bladeren wordt vooral verricht door het bladmoes. In het bladmoes vindt namelijk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tosynthe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synthese is ingewikkeld, maar wel heel belangrij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j de fotosynthese wordt de st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uurstof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maa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is een belangrijke stof voor plant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lant maakt van glucose allerlei andere stoffen, onder andere de stoffen waaruit de plant besta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553080" y="1600200"/>
          <a:ext cx="23907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600200"/>
                    <a:ext cx="23907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8-09-24T21:29:3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