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F52-6086-48DB-871D-A440415B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D41-D155-4191-AC7E-7EA6CC92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AC5-A81E-4705-8EBF-4B93116F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274-14DC-4A8D-9750-59762FE9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54F-70D5-4E35-A4E3-369DC273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7A7-3014-43EA-ACF0-00FBCFAD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904-254B-482E-905A-2931FB1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969-3DE4-4E21-BCA0-DC6D03A6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14B-4E30-4D48-891F-19415116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BBC-F3C1-49C0-B02B-ABE0E9C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15A-5C80-4ABA-9805-C8B2FF23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0F4-AB34-466B-8A22-91BFDAB3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7EF-C559-4940-95B4-DDD35F23E4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kaart G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00cc"/>
                </a:solidFill>
                <a:latin typeface="Arial"/>
              </a:rPr>
              <a:t>Uitleg Bac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uttige bacter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bacteriën worden gebruikt bij het maken van voedingsmiddelen </a:t>
            </a:r>
            <a:r>
              <a:rPr b="0" lang="nl-NL" sz="2800" spc="-1" strike="noStrike">
                <a:solidFill>
                  <a:srgbClr val="9900cc"/>
                </a:solidFill>
                <a:latin typeface="Arial"/>
              </a:rPr>
              <a:t>(zuurkool, yoghurt, kaas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cteriën ruimen, samen met schimmels,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iologisch afbreekbaar afval </a:t>
            </a:r>
            <a:r>
              <a:rPr b="1" lang="nl-NL" sz="2800" spc="-1" strike="noStrike">
                <a:solidFill>
                  <a:srgbClr val="9900cc"/>
                </a:solidFill>
                <a:latin typeface="Arial"/>
              </a:rPr>
              <a:t>(organisch afval)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www.mmenc.com/thefiles/image/magere%20yoghurt%20campina%201L.jpg"/>
          <p:cNvPicPr/>
          <p:nvPr/>
        </p:nvPicPr>
        <p:blipFill>
          <a:blip r:embed="rId1"/>
          <a:stretch/>
        </p:blipFill>
        <p:spPr>
          <a:xfrm>
            <a:off x="7956720" y="2276640"/>
            <a:ext cx="1064880" cy="160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loverendale.nl/uploads/8716694000722_ZuurkoolKruiden.jpg"/>
          <p:cNvPicPr/>
          <p:nvPr/>
        </p:nvPicPr>
        <p:blipFill>
          <a:blip r:embed="rId2"/>
          <a:srcRect l="0" t="17499" r="0" b="16794"/>
          <a:stretch/>
        </p:blipFill>
        <p:spPr>
          <a:xfrm>
            <a:off x="6948360" y="3213000"/>
            <a:ext cx="12240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chadelijke bacter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acterien kunnen in je lichaam terecht komen en daar ziektes </a:t>
            </a:r>
            <a:r>
              <a:rPr b="0" lang="nl-NL" sz="2800" spc="-1" strike="noStrike">
                <a:solidFill>
                  <a:srgbClr val="9900cc"/>
                </a:solidFill>
                <a:latin typeface="Arial"/>
              </a:rPr>
              <a:t>(infecties)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oorz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www.liedjesland.com/Liedjes/kinderliedjes/AltijdIsKortjakjeZiek/AltijdIsKortjakjeZiek.jpg"/>
          <p:cNvPicPr/>
          <p:nvPr/>
        </p:nvPicPr>
        <p:blipFill>
          <a:blip r:embed="rId1"/>
          <a:stretch/>
        </p:blipFill>
        <p:spPr>
          <a:xfrm>
            <a:off x="6372360" y="3716280"/>
            <a:ext cx="257796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cteriën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icro-organis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cro-organismen zijn organismen die niet met het blote oog te zien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 ze te kunnen zien heb je een sterk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icroscoop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od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9a9cce648913ff97d328546894cf6fca"/>
          <p:cNvPicPr/>
          <p:nvPr/>
        </p:nvPicPr>
        <p:blipFill>
          <a:blip r:embed="rId1"/>
          <a:stretch/>
        </p:blipFill>
        <p:spPr>
          <a:xfrm>
            <a:off x="7451640" y="5229360"/>
            <a:ext cx="1441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este bacteriën bestaa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één 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de onderstaande afbeelding zie je het verschil tussen een plantencel (links) en een bacteriecel (rech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400px-Bacterie-en-plantaardige-cel-schematisch"/>
          <p:cNvPicPr/>
          <p:nvPr/>
        </p:nvPicPr>
        <p:blipFill>
          <a:blip r:embed="rId1"/>
          <a:stretch/>
        </p:blipFill>
        <p:spPr>
          <a:xfrm>
            <a:off x="1908000" y="2492280"/>
            <a:ext cx="547236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ua uiterlijk lijken veel bacteriën op elka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3 basisvormen te onderschei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olvormige bacterië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kok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nl-NL" sz="3200" spc="-1" strike="noStrike">
                <a:solidFill>
                  <a:srgbClr val="9900cc"/>
                </a:solidFill>
                <a:latin typeface="Arial"/>
              </a:rPr>
              <a:t>(a, b,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fvormige bacterië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aci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nl-NL" sz="3200" spc="-1" strike="noStrike">
                <a:solidFill>
                  <a:srgbClr val="9900cc"/>
                </a:solidFill>
                <a:latin typeface="Arial"/>
              </a:rPr>
              <a:t>(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iraalvormige bacterië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iri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nl-NL" sz="3200" spc="-1" strike="noStrike">
                <a:solidFill>
                  <a:srgbClr val="9900cc"/>
                </a:solidFill>
                <a:latin typeface="Arial"/>
              </a:rPr>
              <a:t>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Bacform"/>
          <p:cNvPicPr/>
          <p:nvPr/>
        </p:nvPicPr>
        <p:blipFill>
          <a:blip r:embed="rId1"/>
          <a:stretch/>
        </p:blipFill>
        <p:spPr>
          <a:xfrm>
            <a:off x="5651640" y="4863960"/>
            <a:ext cx="29160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cteriën zijn echte survivalspecia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leefomstandigheden ongunstig zijn dan kapselen ze zich in en wachten op betere tij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u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verlevingscapsule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 kunnen ze extreme omstandigheden overlev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twitter_logo"/>
          <p:cNvPicPr/>
          <p:nvPr/>
        </p:nvPicPr>
        <p:blipFill>
          <a:blip r:embed="rId1"/>
          <a:stretch/>
        </p:blipFill>
        <p:spPr>
          <a:xfrm>
            <a:off x="7524720" y="2602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alle plekken van de wereld vind je bacterië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enige dat bacteriën nodig hebben om te leven is wa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rmt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ed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voldoen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rmt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ed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s, voelen bacteriën zich thu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vermenigvuldigen zich dan door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lin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ngeslachtelijke voortplan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bacteriën klonen zichzelf door zich in twee gelijke delen te splits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age019"/>
          <p:cNvPicPr/>
          <p:nvPr/>
        </p:nvPicPr>
        <p:blipFill>
          <a:blip r:embed="rId1"/>
          <a:stretch/>
        </p:blipFill>
        <p:spPr>
          <a:xfrm>
            <a:off x="3059280" y="4221000"/>
            <a:ext cx="331308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grote groep bacteriën noemen we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koloni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kolonie bacteriën kun je wel z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44"/>
          <p:cNvPicPr/>
          <p:nvPr/>
        </p:nvPicPr>
        <p:blipFill>
          <a:blip r:embed="rId1"/>
          <a:stretch/>
        </p:blipFill>
        <p:spPr>
          <a:xfrm>
            <a:off x="5219640" y="3933720"/>
            <a:ext cx="33130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leg Bacter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cterien kunn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nutti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aar oo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cha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13:28Z</dcterms:created>
  <dc:creator>Jojanneke</dc:creator>
  <dc:description/>
  <dc:language>en-US</dc:language>
  <cp:lastModifiedBy>hpuser</cp:lastModifiedBy>
  <dcterms:modified xsi:type="dcterms:W3CDTF">2013-01-27T17:12:02Z</dcterms:modified>
  <cp:revision>4</cp:revision>
  <dc:subject/>
  <dc:title>Powerpoint</dc:title>
</cp:coreProperties>
</file>