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A172-5424-4C90-850A-BD47AD038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6EFE-ACD2-45BE-8B6E-F30DD128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F084-0E51-46DF-AA13-4ED16C4A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8FC7-38EB-474F-B3F8-40EC218A5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69A6-6285-4122-8312-962B87DF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7AC2-65C7-4966-A5AF-3EBFDC37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B9ED-343D-4975-820E-9F75FC7B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E193-633B-44D2-BD26-83A30371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8D11-F625-4256-B1C5-A44FB59D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7CD1-E327-49D0-8330-5FAB1D6D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9F65-0EA0-4196-8FC8-39F1F864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557C-4EC6-479C-BDD7-D3C6F5E6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173E-EF26-485D-A3F5-C17B14D10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teenganger%2C+hoefganger+en+zoolganger&amp;source=images&amp;cd=&amp;cad=rja&amp;docid=snNhA6iU2yyhyM&amp;tbnid=eBw9Sd3QixUSkM:&amp;ved=0CAUQjRw&amp;url=http%3A%2F%2Fwww.biologiesite.nl%2Fth4kl1.htm&amp;ei=Lx2IUYbUONKr0gWf3ID4BA&amp;bvm=bv.45960087,d.d2k&amp;psig=AFQjCNF4MqzMlj9eWABmmHZaTCKgPZZ_og&amp;ust=1367961163060872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17272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Herha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2492280"/>
            <a:ext cx="6400800" cy="3794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Welke twee beenverbindingen zijn beweeglijk aan elkaar verbon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http://mensennatuur.files.wordpress.com/2011/11/been.jpg"/>
          <p:cNvPicPr/>
          <p:nvPr/>
        </p:nvPicPr>
        <p:blipFill>
          <a:blip r:embed="rId1"/>
          <a:srcRect l="0" t="0" r="0" b="12123"/>
          <a:stretch/>
        </p:blipFill>
        <p:spPr>
          <a:xfrm>
            <a:off x="2124000" y="4005360"/>
            <a:ext cx="53406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=gewrichtskapsel, 2=gewrichtssmeer, 3=kraakbeenlaagje, 4=gewrichtskom, 5=gewrichtskoge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476360" y="3141720"/>
            <a:ext cx="4248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is de functie van het gewrichtskap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is de functie van gewrichtssme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is de functie van het kraakbeenlaag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is de functie van gewrichtsb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2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681984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2708280"/>
            <a:ext cx="8229600" cy="35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260280"/>
            <a:ext cx="822960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noem je spieren die samenwerk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noem je spieren met een tegengestelde wer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zijn spieren met botten verbon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em een grote spier in ons lichaam (niet aan bot gebond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 vindt verbranding plaats als je sp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door krijg je kram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 zijn willekeurige spier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t zijn onwillekeurige spier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em 3 soorten gewrich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494172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em van elk gewricht 1 of 2 voorbeel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58560" y="1557360"/>
            <a:ext cx="67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aam gewrich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ewe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arniergewric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en en 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ogelgewric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verschillende richt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lgewric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t ene bot rolt om het andere h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http://www.biologiesite.nl/th4kl1_bestanden/ge.jpg"/>
          <p:cNvPicPr/>
          <p:nvPr/>
        </p:nvPicPr>
        <p:blipFill>
          <a:blip r:embed="rId1"/>
          <a:stretch/>
        </p:blipFill>
        <p:spPr>
          <a:xfrm>
            <a:off x="2050920" y="4149720"/>
            <a:ext cx="403884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aam gewrich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eweging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oorbeel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charniergewrich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een en teru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ie – Elleboo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ogelgewrich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verschillende richting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chouder – Heup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olgewrich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et ene bot rolt om het andere h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aakbeen – Ellepij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skelet is opgebouwd u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raak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en bestaat u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jmsto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zorgt voor de beweeglijkheid van een b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sto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zorgt voor de stevigheid van een b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t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ke stof maakt het bot bro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om is het botvlies belangrij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neer verdwijnt er beenmateria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oem de 5 funkties van het ske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v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akt beweging mogelijk (aanhechtingsplaats voor spie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anmaak rode bloedlichaamp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durende je leven verandert de samenstelling van je skelet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82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by : vooral 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jaarde: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amenstelling skelet bab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amenstelling skelet bej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et skelet bestaat voor het grootste deel uit kraakbeen i.p.v. be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 het beenweefsel zit veel lijmstof en weinig kal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et skelet bestaat voor het grootste deel uit been i.p.v. kraakbeenweefs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 het beenweefsel zit veel kalkstof en weinig lijmstof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http://photogalleryfree.com/wp-content/uploads/2012/12/baby-photos-371.jpg"/>
          <p:cNvPicPr/>
          <p:nvPr/>
        </p:nvPicPr>
        <p:blipFill>
          <a:blip r:embed="rId1"/>
          <a:stretch/>
        </p:blipFill>
        <p:spPr>
          <a:xfrm>
            <a:off x="5457960" y="1936800"/>
            <a:ext cx="2419200" cy="1512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http://www.schooltv.nl/eigenwijzer/mmbase/images/3622852/vraag_6kunstheupVROUW.jpeg"/>
          <p:cNvPicPr/>
          <p:nvPr/>
        </p:nvPicPr>
        <p:blipFill>
          <a:blip r:embed="rId2"/>
          <a:stretch/>
        </p:blipFill>
        <p:spPr>
          <a:xfrm>
            <a:off x="5527800" y="3938760"/>
            <a:ext cx="22780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Zoolganger, hoefganger,teengan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f kenmerken van deze drie soo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f van elk een voorbe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3213000"/>
            <a:ext cx="806796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wri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oem de onderde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24000" y="2276640"/>
            <a:ext cx="4176720" cy="38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6T20:46:11Z</dcterms:created>
  <dc:creator>Windows-gebruiker</dc:creator>
  <dc:description/>
  <dc:language>en-US</dc:language>
  <cp:lastModifiedBy>Windows-gebruiker</cp:lastModifiedBy>
  <dcterms:modified xsi:type="dcterms:W3CDTF">2013-05-06T21:49:02Z</dcterms:modified>
  <cp:revision>2</cp:revision>
  <dc:subject/>
  <dc:title>Herhaling</dc:title>
</cp:coreProperties>
</file>