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721-61DC-49D3-A5C2-308FD12C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A23-2061-4F7C-8597-97D0EAFA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3C5-A0E6-4B56-9658-808B3B33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F75E-6DCD-47BE-A854-F21ED124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56A-C75F-4664-96EA-7BC6F503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D68-5056-400F-A62E-A129B778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600-6CCF-467C-A508-DC9A1996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BE8-2946-4882-B5CD-AB8BD57B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D4E-2B9E-41D3-9377-0180E9F5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3C3-5EB0-4397-A105-D7F7DB32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22F-43C4-4726-A87A-1BDD7563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36D-1A6B-4DF5-8CEA-A81B6AB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3473-389E-4079-B366-6C5DC4E94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ondriaancollege.nl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Inhoud 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uw thema: Pla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tekeningenblad Planten; De 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dracht 1: Vragen bij de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Nieuw thema: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9728" t="28341" r="28598" b="23419"/>
          <a:stretch/>
        </p:blipFill>
        <p:spPr>
          <a:xfrm>
            <a:off x="1403280" y="1413000"/>
            <a:ext cx="71294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antekeningenblad planten 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(blz.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597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antekeningenblad planten 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(blz.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wor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 func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867280" y="1197000"/>
          <a:ext cx="250056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97000"/>
                    <a:ext cx="250056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5229360"/>
          <a:ext cx="1438560" cy="13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5229360"/>
                    <a:ext cx="143856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050920" y="5229360"/>
          <a:ext cx="1582920" cy="14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229360"/>
                    <a:ext cx="1582920" cy="14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708360" y="5229360"/>
          <a:ext cx="1511280" cy="13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5229360"/>
                    <a:ext cx="15112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antekeningenblad planten 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(blz.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rtelstel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597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antekeningenblad planten 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(blz.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 typen wortelstels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2900160" cy="39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2359080" cy="393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50002" t="32293" r="24903" b="21465"/>
          <a:stretch/>
        </p:blipFill>
        <p:spPr>
          <a:xfrm>
            <a:off x="6156360" y="2924280"/>
            <a:ext cx="28465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antekeningenblad planten 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(blz.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wor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nctie van de wortelh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08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aandag 1 okto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ken huiswerkopdracht (blz.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9999"/>
                </a:solidFill>
                <a:latin typeface="Arial"/>
              </a:rPr>
              <a:t>Waar is deze opdracht te vi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9999"/>
                </a:solidFill>
                <a:latin typeface="Arial"/>
              </a:rPr>
              <a:t>Hoe maak je een printscr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Opdracht 1: Vragen bij de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lz. 9; werkblad wort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09:59:28Z</dcterms:created>
  <dc:creator>Jojanneke</dc:creator>
  <dc:description/>
  <dc:language>en-US</dc:language>
  <cp:lastModifiedBy>Jojanneke</cp:lastModifiedBy>
  <dcterms:modified xsi:type="dcterms:W3CDTF">2012-09-22T10:21:08Z</dcterms:modified>
  <cp:revision>3</cp:revision>
  <dc:subject/>
  <dc:title>Inhoud les</dc:title>
</cp:coreProperties>
</file>