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8B74-16E8-4181-BAA6-FA6559B4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A36B-237E-40E6-B88B-159AC791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BCE5-227A-48F4-952B-AC4E2E28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259E-5005-4C05-B229-AC0CAC7C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45DC-2CAD-466D-A688-BB9E9EB7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3B2-18C7-4CC7-9606-841ECC1B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DE78-EB36-4518-9990-EC0794F6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E463-A2B2-4BEF-A623-4018C17C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62D7-BBA4-4BD0-B992-612532D3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28C2-E1AC-4788-8903-4F73C552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8432-D6F8-4C5F-A746-24C34B73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2075-051E-4CC0-B387-FFEC4DD2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2311-653D-4458-8573-1362982CCA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skaart 1: Sjaak en de bonensta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nderdelen bruine boon, functies onderdelen bruine boon, eenzaadlobbige en tweezaadlobbeige planten, levenscyclus van de bruine b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ruchten en za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eeste plantjes groeien ui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zad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edektzadige plant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zijn de zaden bedekt door vruch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Tomaat"/>
          <p:cNvPicPr/>
          <p:nvPr/>
        </p:nvPicPr>
        <p:blipFill>
          <a:blip r:embed="rId1"/>
          <a:stretch/>
        </p:blipFill>
        <p:spPr>
          <a:xfrm>
            <a:off x="468360" y="2492280"/>
            <a:ext cx="2684520" cy="2332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voedsel--groene-bonen--erwten--erwt_3216414"/>
          <p:cNvPicPr/>
          <p:nvPr/>
        </p:nvPicPr>
        <p:blipFill>
          <a:blip r:embed="rId2"/>
          <a:stretch/>
        </p:blipFill>
        <p:spPr>
          <a:xfrm>
            <a:off x="5292720" y="2492280"/>
            <a:ext cx="3456000" cy="2301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cocosnoot"/>
          <p:cNvPicPr/>
          <p:nvPr/>
        </p:nvPicPr>
        <p:blipFill>
          <a:blip r:embed="rId3"/>
          <a:stretch/>
        </p:blipFill>
        <p:spPr>
          <a:xfrm>
            <a:off x="7740720" y="549360"/>
            <a:ext cx="1143000" cy="1581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Witte_wintercalville_doorsnede"/>
          <p:cNvPicPr/>
          <p:nvPr/>
        </p:nvPicPr>
        <p:blipFill>
          <a:blip r:embed="rId4"/>
          <a:stretch/>
        </p:blipFill>
        <p:spPr>
          <a:xfrm>
            <a:off x="3132000" y="2492280"/>
            <a:ext cx="250200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ruine b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bruine boon is een voorbeeld van ee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zaa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bruine boon heeft in een vrucht gez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boon"/>
          <p:cNvPicPr/>
          <p:nvPr/>
        </p:nvPicPr>
        <p:blipFill>
          <a:blip r:embed="rId1"/>
          <a:srcRect l="19867" t="17011" r="21318" b="14140"/>
          <a:stretch/>
        </p:blipFill>
        <p:spPr>
          <a:xfrm>
            <a:off x="5796000" y="2205000"/>
            <a:ext cx="2952720" cy="345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voedsel--groene-bonen--erwten--erwt_3216414"/>
          <p:cNvPicPr/>
          <p:nvPr/>
        </p:nvPicPr>
        <p:blipFill>
          <a:blip r:embed="rId2"/>
          <a:stretch/>
        </p:blipFill>
        <p:spPr>
          <a:xfrm>
            <a:off x="539640" y="2205000"/>
            <a:ext cx="5141880" cy="3425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250px-Pronkboon_pluimpje_closeup1"/>
          <p:cNvPicPr/>
          <p:nvPr/>
        </p:nvPicPr>
        <p:blipFill>
          <a:blip r:embed="rId3"/>
          <a:stretch/>
        </p:blipFill>
        <p:spPr>
          <a:xfrm>
            <a:off x="7772400" y="5373720"/>
            <a:ext cx="1371600" cy="1311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120px-Stamboon_kiemplant"/>
          <p:cNvPicPr/>
          <p:nvPr/>
        </p:nvPicPr>
        <p:blipFill>
          <a:blip r:embed="rId4"/>
          <a:stretch/>
        </p:blipFill>
        <p:spPr>
          <a:xfrm>
            <a:off x="611280" y="333360"/>
            <a:ext cx="1143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nderdelen van de bruine b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3209760"/>
        </p:xfrm>
        <a:graphic>
          <a:graphicData uri="http://schemas.openxmlformats.org/drawingml/2006/table">
            <a:tbl>
              <a:tblPr/>
              <a:tblGrid>
                <a:gridCol w="442800"/>
                <a:gridCol w="1368360"/>
                <a:gridCol w="2951280"/>
                <a:gridCol w="3467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schrij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adhu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ig bruin vli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cherming van het zaa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t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atje in de zaadhui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nemen van water voor de kieming van het zaa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te ovale vlek op een bruine bo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 de navel heeft het zaad vastgezeten aan de moederpla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tvormig bult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tje in de vorm van een hartje aan de onderkant van de nave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57" name="Picture 4" descr="boon"/>
          <p:cNvPicPr/>
          <p:nvPr/>
        </p:nvPicPr>
        <p:blipFill>
          <a:blip r:embed="rId1"/>
          <a:srcRect l="19867" t="17011" r="29083" b="14140"/>
          <a:stretch/>
        </p:blipFill>
        <p:spPr>
          <a:xfrm>
            <a:off x="5796000" y="4797360"/>
            <a:ext cx="1528560" cy="2060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voedsel--groene-bonen--erwten--erwt_3216414"/>
          <p:cNvPicPr/>
          <p:nvPr/>
        </p:nvPicPr>
        <p:blipFill>
          <a:blip r:embed="rId2"/>
          <a:stretch/>
        </p:blipFill>
        <p:spPr>
          <a:xfrm>
            <a:off x="2771640" y="4843440"/>
            <a:ext cx="3024360" cy="2014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www.dewillem.org/fss/Oefeningen/bruineboon/bruine%20boon.JPG"/>
          <p:cNvPicPr/>
          <p:nvPr/>
        </p:nvPicPr>
        <p:blipFill>
          <a:blip r:embed="rId3"/>
          <a:srcRect l="10883" t="7068" r="21138" b="54082"/>
          <a:stretch/>
        </p:blipFill>
        <p:spPr>
          <a:xfrm>
            <a:off x="468360" y="4830840"/>
            <a:ext cx="230328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Onderdelen van de bruine b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18440" cy="3205080"/>
        </p:xfrm>
        <a:graphic>
          <a:graphicData uri="http://schemas.openxmlformats.org/drawingml/2006/table">
            <a:tbl>
              <a:tblPr/>
              <a:tblGrid>
                <a:gridCol w="679320"/>
                <a:gridCol w="2213280"/>
                <a:gridCol w="5325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nemen van water en voedingsstoffen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stzetten van een plant in de bodem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slaan van reservevoedsel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d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de bladeren kan uiteindelijk vindt fotosynthese plaatsvinde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adlo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de zaadlobben bevindt zich reservevoedsel voor het kiempj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kiem groeit bij de kieming uit tot een kiemplantj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62" name="Picture 2" descr="http://www.dewillem.org/fss/Oefeningen/bruineboon/bruine%20boon.JPG"/>
          <p:cNvPicPr/>
          <p:nvPr/>
        </p:nvPicPr>
        <p:blipFill>
          <a:blip r:embed="rId1"/>
          <a:srcRect l="21758" t="52992" r="7541" b="0"/>
          <a:stretch/>
        </p:blipFill>
        <p:spPr>
          <a:xfrm>
            <a:off x="468360" y="4797360"/>
            <a:ext cx="2016000" cy="2063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250px-Pronkboon_pluimpje_closeup1"/>
          <p:cNvPicPr/>
          <p:nvPr/>
        </p:nvPicPr>
        <p:blipFill>
          <a:blip r:embed="rId2"/>
          <a:stretch/>
        </p:blipFill>
        <p:spPr>
          <a:xfrm>
            <a:off x="2484360" y="4792680"/>
            <a:ext cx="21589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Tweezaadlobbige p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mdat elke boon uit twee zaadlobben bestaat, wordt de bonenplant ee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weezaadlobbige plan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genoem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250px-Pronkboon_pluimpje_closeup1"/>
          <p:cNvPicPr/>
          <p:nvPr/>
        </p:nvPicPr>
        <p:blipFill>
          <a:blip r:embed="rId1"/>
          <a:stretch/>
        </p:blipFill>
        <p:spPr>
          <a:xfrm>
            <a:off x="5580000" y="3357720"/>
            <a:ext cx="338796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enzaadlobbig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sommige planten bestaat het zaad maar uit één zaadl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ze planten worde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enzaadlobbige plant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genoem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: maï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rcRect l="41880" t="36221" r="16032" b="26367"/>
          <a:stretch/>
        </p:blipFill>
        <p:spPr>
          <a:xfrm>
            <a:off x="5076720" y="4100400"/>
            <a:ext cx="37432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Eenzaadlobbig - Tweezaadlobb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Verschill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veelheid zaadlob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ats reservevoedse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zaadlobbige planten: het reservevoedsel bevindt zich in het kiemw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zaadlobbige planten: het reservevoedsel bevindt zich in de zaadlob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41880" t="36221" r="16032" b="26367"/>
          <a:stretch/>
        </p:blipFill>
        <p:spPr>
          <a:xfrm>
            <a:off x="2771640" y="5373720"/>
            <a:ext cx="1871640" cy="1247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250px-Pronkboon_pluimpje_closeup1"/>
          <p:cNvPicPr/>
          <p:nvPr/>
        </p:nvPicPr>
        <p:blipFill>
          <a:blip r:embed="rId2"/>
          <a:stretch/>
        </p:blipFill>
        <p:spPr>
          <a:xfrm>
            <a:off x="1332000" y="5373720"/>
            <a:ext cx="13269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De levenscyclus van de bruine b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en bruine boon is een za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ruine boon neemt door het poortje water op. De bruine boon zwelt op en de zaadhuid breekt op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et worteltje komt naar bu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et worteltje groeit en vormt zijwortels. Het stengeltje komt naar buiten. De kiem is een kiemplant gewo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kiemplant groeit. Hierbij wordt het reservevoedsel uit de zaadlobben verbruik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kiemplant krijgt meer bladeren. Het reservevoedsel raakt op. De zaadlobben verschrompelen en zullen even later afvall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kiemplant is een volwassen boonplant gewor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Aan de boonplant komen bloemen. In de bloemen ontwikkelen zich zad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zaden zitten in vruchten. De vruchten gaan open en de zaden vallen op de gro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booncyclus"/>
          <p:cNvPicPr/>
          <p:nvPr/>
        </p:nvPicPr>
        <p:blipFill>
          <a:blip r:embed="rId1"/>
          <a:stretch/>
        </p:blipFill>
        <p:spPr>
          <a:xfrm>
            <a:off x="4292640" y="1557360"/>
            <a:ext cx="4616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08:02:01Z</dcterms:created>
  <dc:creator>Jojanneke</dc:creator>
  <dc:description/>
  <dc:language>en-US</dc:language>
  <cp:lastModifiedBy>hpuser</cp:lastModifiedBy>
  <dcterms:modified xsi:type="dcterms:W3CDTF">2013-05-09T18:01:06Z</dcterms:modified>
  <cp:revision>11</cp:revision>
  <dc:subject/>
  <dc:title>Inhoud les</dc:title>
</cp:coreProperties>
</file>