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2DED-D258-4C54-B735-664B8AC2922C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7541-E8B7-4ADA-B4D5-284DEAE7DEAE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B935A-4AED-46D9-B9DB-0615DC0D23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ABC27-A95B-4685-8CAD-9AEF004D7C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D0CAB-0DFD-47A4-AE5C-0459CD00AE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40CE0-ECE8-4806-BECF-F127085E0F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43AD5-6EF1-4418-8AB4-8BE22E7D28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35204-02DE-41D7-AE3D-10A1359B58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0374A-EA15-4007-9E81-F0F09EC243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17A11-6908-41B5-8166-52E97673C4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C2C4E-FA6F-4F6B-8ADA-888D46AC31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C5177-333B-42A6-AC6F-BB83EBB1B5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5AFF4-5CF8-4FE5-BA0A-3C4AABC394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DB4D9-B756-4CD3-8BEE-25EB40D277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Beoordeling Ass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Tahoma"/>
              </a:rPr>
              <a:t> ……</a:t>
            </a:r>
            <a:r>
              <a:rPr b="0" lang="nl-NL" sz="1100" spc="-1" strike="noStrike">
                <a:solidFill>
                  <a:srgbClr val="000000"/>
                </a:solidFill>
                <a:latin typeface="Tahoma"/>
              </a:rPr>
              <a:t>Past geëigende beoordelingstechnieken toe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nl-NL" sz="1100" spc="-1" strike="noStrike">
                <a:solidFill>
                  <a:srgbClr val="000000"/>
                </a:solidFill>
                <a:latin typeface="Tahoma"/>
              </a:rPr>
              <a:t>..Hanteert instrumenten op beoogde wijze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nl-NL" sz="1100" spc="-1" strike="noStrike">
                <a:solidFill>
                  <a:srgbClr val="000000"/>
                </a:solidFill>
                <a:latin typeface="Tahoma"/>
              </a:rPr>
              <a:t>..Bereidt de beoordeling zorgvuldig voor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Hoe beoordeel je een assessor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Welke instrumenten komen in aanmerk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Welke 2 instrumenten passen het best om de assessor te beoordelen op de “succescriteria”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 geval van een Proev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uu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aar(s)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“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ritisch werkproces”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Cesuu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Hoe gaan we dat organisere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Wat staat ons nog te doen op dag 3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12vifora</cp:lastModifiedBy>
  <dcterms:modified xsi:type="dcterms:W3CDTF">2013-11-19T15:28:24Z</dcterms:modified>
  <cp:revision>313</cp:revision>
  <dc:subject/>
  <dc:title>Verbindend Leren</dc:title>
</cp:coreProperties>
</file>