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B002-3107-459A-963E-7663D7FB7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CDF1-677D-4A5F-9050-B97F4E533EA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E0D0A-135B-4942-B03D-6E907C9AB2F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D5989-5507-4999-8F3D-C8DEAE9752F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82755-D1A9-4717-94F8-D1EE04950B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E5EC2-D649-45D8-B77D-DCEC93385EF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381BD-ABBE-4BAE-8B81-16F5DE57B0A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CAF9-FD39-47F3-8A96-8056182EE0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84B72-3F0F-4026-A55F-EFE505C4B5D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E3F5-C299-4448-A895-4F7B6D04CDC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0F44F-121B-4EBB-8579-AF85FE51A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2037-95C3-4EFD-965D-C48D51AE1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9D76-C31C-41DE-B64F-74E962DC6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28548-FD3E-4A4D-87FE-67EF5A99E8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5293E-E204-4D00-846E-09A7F149BF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00250-5CD0-4468-8667-DC76679757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B2959-3DAE-451A-96D9-9C3FA88338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61614-9C24-4519-800A-E72178789D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2ACA9-755A-41CF-9FD8-B7C9E3412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0AD3-80DA-4024-9DB7-B6E4DD352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5432-EAE9-4EA2-95F5-74B216B8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16F87-D19A-455F-B802-FEA37F483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9B97B-646E-4720-9BBD-D5F05913EC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EC04F-4110-4A84-8255-26EDA41E4D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9EFE2-B72A-4B0B-B7CE-B8498E2F8C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17843-77D4-4F53-AA05-324A6D912E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E396-0034-4E65-B43C-17D8F33F05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7745-8AEE-4E97-8B62-7A545C3060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88DC-2602-4622-AC83-F69551D7BB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8ADF-098A-4D75-916A-BC00C28288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A86E-8ABE-4E2E-B4A2-966FB5232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BD1B-9D65-4800-B0F1-8AE2A3676D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589-9AF9-4539-98DA-D948175565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2649-9958-4172-9C40-960C09E78C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8BC-9F3E-4700-91E2-0AF790B98E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8F50-ACF9-4A03-8A75-09D661589D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92BBB-ABED-43E7-82C5-76D2E28AC4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8905-22F0-4CE3-86A6-907E46CA31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4161-E972-404A-887E-1FB27B5461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62E7C-96D0-47FC-AE7B-84E2C394E5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92C9D-4BB5-4485-957F-893A232ABC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BB63D-EBD8-4FD6-99DE-6CE248D1D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FEAB-673D-4A2A-990C-011D2B18E7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6415B-8C86-4D36-8435-EF9F0B19B3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4197C-CF76-4085-8CDD-400D64859E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7BC64-82D5-4261-ABBB-87E4EFC33D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57BDE-2412-4030-BF7C-9A9A978CBEB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903EF-C343-488F-AB9A-0EFE7FDB03C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5A3D6D-5E8C-4521-A330-0B7AF585AD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0003A4-8D7C-4762-8204-1649732900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6EB4E3-EAD6-4D7F-A350-C39455F194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3DAC7-A349-4745-AC8E-17ECA872F0F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A77A11-9CF7-473D-9D54-4009F7A2A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494F-A9A2-4E79-81CE-14B944CF40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51A87-C041-4B9A-8FBA-F5EEC9AE11E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4AE0F-C6A2-4D69-84B3-8D3A93F2989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38FA9A-4092-4EC3-99AB-E4F2E311130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DAA77-A15B-4FF1-9C3D-826C0599D54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250EAC-8B53-4A0E-95FC-BF0E7EC6B0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C2D73-BA28-4006-A0E1-2B6D39B362A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B2C4D-6176-482D-B7D4-13C761EEAE0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5C5A1-CD16-4D67-9F4E-B646E3FE32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00CCAE-248F-4C73-A38F-C37484FEB80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17299F-CF93-4835-B44C-483B17924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48EC-2358-4306-9265-AB21DA341D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BBACD9-9E5C-41CC-98C0-2BA6A2BEBFE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58B25-2A0D-4760-9124-FDF515737B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EC759-589E-437E-9D21-736288CBC5D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9584D-2C6A-42D5-9634-BE2C78C21F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6DCCC-3F03-4A91-A3AA-8683DB366A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70F8-6D55-4E61-B063-FEA71DBE8B4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C635-CAEF-496E-A235-CFC6806AF6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7C00-DE9F-46A1-A600-1F1E7465156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9537E-1368-4234-87B7-D4FCB934204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79C37-AE39-4057-B401-320032F1D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EDE9-EB00-447F-9E45-C0757DA280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5916A-D30F-4823-B24A-1A6B2C59924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622C4-1D23-4FFE-8139-BA77207B1F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1A6F-36FD-43FA-B75A-451864EEC48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D76C5-5097-42F0-BD34-30B8D5CC3B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8016E0-FF48-4E91-9DBF-46E40AA409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F52AD-F45D-4F08-869E-1570FCE456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9990D9-D160-4F87-9810-FD0B8DD8CCD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5A1FD-AA60-4963-BE2B-3D91698CE74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68B1E-AC28-4015-B106-A9C576F4F4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06A9B-C249-4E0A-ADD9-5EF332E9C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D3813-2675-4E3D-9EC1-FF0A370B79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8A9E11-B60E-4031-AA37-A78EA3CA64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7636B4-0987-4122-8954-1019B89963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59A1FC-BA20-4B67-B350-1BE80835E77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6C289-0BFD-4BE5-AA22-5D996DDC7BE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6DB6D0-966C-48DE-802D-32BEED7257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5C2C4-D69F-4D07-A842-FC4CE6E6AFD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F392F6-C5F7-4784-BE15-1F75F123AB7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D74502-940B-42C2-A83F-6C604F5A7B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2D2CA3-E1B5-427A-BF3F-3173DD132B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F4AF61-3500-4DBF-8168-4603137F8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EE5E-B17A-46D0-B127-895D6586CCF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87280" y="75960"/>
            <a:ext cx="74088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89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38E101-0192-44E6-93B7-5647BB6DE2D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08B4F1-DE3C-46EE-B89F-675B5E12584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9A677-30FA-4160-A3DA-EED4BF67814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971B6-ED34-4059-B0F7-C8836C7F49F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87280" y="3928680"/>
            <a:ext cx="885672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5FD595-86AF-47AA-BFD7-FEE6CEC86C9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5440" y="114264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8728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825440" y="3928680"/>
            <a:ext cx="432180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F4086C-FBB1-4766-BACE-6D9D589E850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8176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76240" y="114264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8728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8176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76240" y="3928680"/>
            <a:ext cx="2851560" cy="254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78C01A-82BE-4A2F-8D1A-5A8C2EABB16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E813-117B-4C80-8006-73AF9271004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8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BD19-FF5B-4E45-92A9-3A469FAB9D7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indent="0">
              <a:lnSpc>
                <a:spcPct val="110000"/>
              </a:lnSpc>
              <a:spcBef>
                <a:spcPts val="1789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0F91-E06E-475E-93BB-946190EDE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989A-5DE9-4811-8D80-A6E2EC0E7402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8654-943A-4D98-B2F6-1272469BF0D8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700C-5BA4-4C55-A983-EE03F6E54B86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E519-8AB9-4557-B30B-245BE483454D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9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E21-5D44-4FC2-BF5D-7C9AADCA2BA4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1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2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780-D931-4850-AB4B-06B7849DC5F7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3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932-190E-4CF2-85BC-DC32A05DF7E4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5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16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7C74-9594-4FBA-B682-B40A1DDC26AA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0" descr=""/>
          <p:cNvPicPr/>
          <p:nvPr/>
        </p:nvPicPr>
        <p:blipFill>
          <a:blip r:embed="rId3"/>
          <a:stretch/>
        </p:blipFill>
        <p:spPr>
          <a:xfrm>
            <a:off x="0" y="-9360"/>
            <a:ext cx="9178920" cy="6867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8"/>
          <p:cNvSpPr/>
          <p:nvPr/>
        </p:nvSpPr>
        <p:spPr>
          <a:xfrm>
            <a:off x="0" y="6553080"/>
            <a:ext cx="249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60480" y="6626880"/>
            <a:ext cx="2301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546"/>
                </a:solidFill>
                <a:latin typeface="Arial"/>
              </a:rPr>
              <a:t>Mei 2006 © NIBHV</a:t>
            </a:r>
            <a:endParaRPr b="0" lang="en-US" sz="9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7280" y="75960"/>
            <a:ext cx="7408800" cy="990360"/>
          </a:xfrm>
          <a:prstGeom prst="rect">
            <a:avLst/>
          </a:prstGeom>
          <a:noFill/>
          <a:ln w="0">
            <a:noFill/>
          </a:ln>
        </p:spPr>
        <p:txBody>
          <a:bodyPr lIns="576000" rIns="108000" tIns="72000" bIns="72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54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287280" y="1142640"/>
            <a:ext cx="8856720" cy="533412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/>
          </a:bodyPr>
          <a:p>
            <a:pPr marL="431640" indent="-43164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1" marL="1333440" indent="-482400">
              <a:lnSpc>
                <a:spcPct val="110000"/>
              </a:lnSpc>
              <a:spcBef>
                <a:spcPts val="178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2" marL="2311560" indent="-4446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3" marL="3149640" indent="-43200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4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5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  <a:p>
            <a:pPr lvl="6" marL="4038480" indent="-406440">
              <a:lnSpc>
                <a:spcPct val="110000"/>
              </a:lnSpc>
              <a:spcBef>
                <a:spcPts val="1789"/>
              </a:spcBef>
              <a:buClr>
                <a:srgbClr val="000546"/>
              </a:buClr>
              <a:buFont typeface="Arial"/>
              <a:buChar char="»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600" spc="-1" strike="noStrike">
                <a:solidFill>
                  <a:srgbClr val="00054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54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6171840" y="6531120"/>
            <a:ext cx="289548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63000" y="75960"/>
            <a:ext cx="855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36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546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546"/>
                </a:solidFill>
                <a:latin typeface="Arial"/>
              </a:rPr>
              <a:t>She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5BAA-B53E-403E-9956-95A25852D90F}" type="slidenum">
              <a:rPr b="0" lang="en-US" sz="1100" spc="-1" strike="noStrike">
                <a:solidFill>
                  <a:srgbClr val="00054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899640" y="1988640"/>
            <a:ext cx="7993080" cy="4319640"/>
          </a:xfrm>
          <a:prstGeom prst="rect">
            <a:avLst/>
          </a:prstGeom>
          <a:noFill/>
          <a:ln w="0">
            <a:noFill/>
          </a:ln>
        </p:spPr>
        <p:txBody>
          <a:bodyPr lIns="576000" rIns="432000" tIns="72000" bIns="72000" anchor="t">
            <a:normAutofit fontScale="15000"/>
          </a:bodyPr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0">
              <a:lnSpc>
                <a:spcPct val="110000"/>
              </a:lnSpc>
              <a:spcBef>
                <a:spcPts val="1239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Introductie BOB (beeld, oordeel, besluit) evt. middels oefening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360 graden feedback op leerwen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Advies t.a.v. voortgang met deelnemers.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marL="64440" indent="-64440">
              <a:lnSpc>
                <a:spcPct val="110000"/>
              </a:lnSpc>
              <a:spcBef>
                <a:spcPts val="1239"/>
              </a:spcBef>
              <a:buClr>
                <a:srgbClr val="2c3f73"/>
              </a:buClr>
              <a:buFont typeface="Wingdings" charset="2"/>
              <a:buChar char="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nl-NL" sz="1800" spc="-1" strike="noStrike">
                <a:solidFill>
                  <a:srgbClr val="000546"/>
                </a:solidFill>
                <a:latin typeface="Arial"/>
              </a:rPr>
              <a:t>Evaluatie en afsluiting dag 1. </a:t>
            </a: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  <a:p>
            <a:pPr lvl="4" marL="605520" indent="0">
              <a:spcBef>
                <a:spcPts val="451"/>
              </a:spcBef>
              <a:buNone/>
              <a:tabLst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  <a:tab algn="l" pos="9867960"/>
                <a:tab algn="l" pos="10337760"/>
                <a:tab algn="l" pos="10807560"/>
              </a:tabLst>
            </a:pPr>
            <a:endParaRPr b="0" lang="en-US" sz="1800" spc="-1" strike="noStrike">
              <a:solidFill>
                <a:srgbClr val="000546"/>
              </a:solidFill>
              <a:latin typeface="Arial"/>
            </a:endParaRPr>
          </a:p>
        </p:txBody>
      </p:sp>
      <p:pic>
        <p:nvPicPr>
          <p:cNvPr id="388" name="Picture 4" descr="Slechtnieuwsgesprek"/>
          <p:cNvPicPr/>
          <p:nvPr/>
        </p:nvPicPr>
        <p:blipFill>
          <a:blip r:embed="rId1"/>
          <a:srcRect l="4787" t="3750" r="4625" b="10176"/>
          <a:stretch/>
        </p:blipFill>
        <p:spPr>
          <a:xfrm>
            <a:off x="900000" y="857160"/>
            <a:ext cx="63151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5T11:22:15Z</dcterms:created>
  <dc:creator>Arjan van der Mee</dc:creator>
  <dc:description/>
  <dc:language>en-US</dc:language>
  <cp:lastModifiedBy>12vifora</cp:lastModifiedBy>
  <dcterms:modified xsi:type="dcterms:W3CDTF">2011-12-13T14:26:48Z</dcterms:modified>
  <cp:revision>170</cp:revision>
  <dc:subject/>
  <dc:title>Kinder EHBO</dc:title>
</cp:coreProperties>
</file>