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D058-DA0D-43A8-BD87-23DC849E26B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795B-C1FE-490E-AEB9-0B23EFE0D55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E968-DFAE-4545-9B0D-677363D38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9EF2-1F2E-477B-806A-3391F5ED8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695D-D319-4B4B-9AFC-073ED32F1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8C67-9437-46DA-92B4-CFFC6C0B5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3ABD-27BE-46EF-9C20-40F9476E0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190B8-581D-4684-BE82-8317C422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7773D-A6CC-42A5-87D5-85E5E6E7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57173-9C96-44E7-8E1E-76A5C9B5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0B85B-9A5F-42D3-A077-9E4CB78F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98B6C-1596-43F9-8F23-F3B367E8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9B854-8F64-40D4-8C0F-4AD2130404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33753-0BA4-4F34-908D-4035ACFE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A8B68-AF18-4EA0-B39B-2009B0C1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86390-B457-4BEC-B7F7-C7B6FA71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C30CE-0414-4115-AAEB-B0D0E26B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80E2B-729A-45B0-BE99-A3F696C6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33FB6-79A7-4ED0-9B49-4594A543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BDB1D-780D-407F-850A-CA5393A3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2C26-DBCD-4952-9E19-C78093C9A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E15C-C5F4-4948-99D7-36B7977CA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EB7D-048A-4A6C-8EC7-96899C8A4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2260-8C8F-4A71-A0FE-18056DF6D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467E-A5EA-4ACB-8BA5-9330506AE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33C09-1D80-4076-BD64-05DD83448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21EB-008D-412B-BA28-72C39495081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Feedback als 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inde vlek, reflectie en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Reflecte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MCj03479130000[1]"/>
          <p:cNvPicPr/>
          <p:nvPr/>
        </p:nvPicPr>
        <p:blipFill>
          <a:blip r:embed="rId1"/>
          <a:stretch/>
        </p:blipFill>
        <p:spPr>
          <a:xfrm>
            <a:off x="1187280" y="1628640"/>
            <a:ext cx="11829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1773360"/>
            <a:ext cx="54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gen om te leren van interactie, samenwerking en communicatie met 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rpunten omzetten in effectiever gedr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oorvragen, ingaan op 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tisch zijn op jez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700360" y="1268280"/>
            <a:ext cx="2735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ijn optreden naar buiten, mijn gedrag, mijn motivatie, wat anderen van mij zien en wat aan mezelf bekend 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651640" y="1268280"/>
            <a:ext cx="2881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anderen zien maar waar ik mezelf niet van bewust ben. Soms onderdrukte en onbewuste gewoo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( blinde vle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627280" y="3789360"/>
            <a:ext cx="288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ik zelf ken maar wat ik niet aan anderen laat zien, wat ik camoufl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50920" y="26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 tijdens de Proe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796000" y="393372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iet bekend bij jezelf en bij anderen. Speelt zich af in het onderbewus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3640" y="1916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rije ruim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27640" y="177336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inde vl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ad breath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203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588000" y="4437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0" y="4762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http://nl.wikipedia.org/wiki/Johari-vens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87280" y="1413000"/>
            <a:ext cx="525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443640" y="1413000"/>
            <a:ext cx="1800360" cy="20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580000" y="3500280"/>
            <a:ext cx="266400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187280" y="4581360"/>
            <a:ext cx="43927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ruggeven hoe hij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ij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overko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eschrijf welk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</a:rPr>
              <a:t>concreet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gedrag van de ander je hebt waargen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lk effect zijn gedrag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p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voel geeft dat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drag roept dat op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ap maken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naar de 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erken je het gedrag wat ik benoemd he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lopt dit volgens j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at vind je erv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oe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gens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t gewenste gedrag eruit moet z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“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jij moet”  / “ik wil graag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Cj03342700000[1]"/>
          <p:cNvPicPr/>
          <p:nvPr/>
        </p:nvPicPr>
        <p:blipFill>
          <a:blip r:embed="rId1"/>
          <a:stretch/>
        </p:blipFill>
        <p:spPr>
          <a:xfrm>
            <a:off x="6372360" y="2852640"/>
            <a:ext cx="168588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>
            <a:off x="1042920" y="5877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1258560" y="587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04-03T16:05:12Z</dcterms:modified>
  <cp:revision>314</cp:revision>
  <dc:subject/>
  <dc:title>Verbindend Leren</dc:title>
</cp:coreProperties>
</file>