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DC3A-396E-4C05-BCF5-979A94430D3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7AD8-B5DC-4E94-A599-D5D37294227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7D65-E66A-4679-8FB6-E404CF56E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9E2C-87D2-4D49-9A5D-3C8F363B2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F900-C7A4-4A1D-A5EE-2823DE412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748C-B38E-45C9-947E-D87EFE35D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8FF2-C29C-4932-995C-D2897BD19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B14B-2BFC-4802-AE9E-009393782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632F-513C-497F-B23F-523F6C2BA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2843-CE05-43D5-8100-667CA3A74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3DAE-2499-4E2A-8C15-4CCD03496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1961-F655-4BB2-94C9-5205711B1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EBA8-4414-43D7-B7EB-782E60A00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DDC0-F323-4381-9D17-C89730286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oordeling Ass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……</a:t>
            </a: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Past geëigende beoordelingstechnieken to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..Hanteert instrumenten op beoogde wijz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..Bereidt de beoordeling zorgvuldig voo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Hoe beoordeel je een assessor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lke instrumenten komen in aanmerk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lke 2 instrumenten passen het best om de assessor te beoordelen op de “succescriteria”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geval van een Proev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uu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aa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“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ritisch werkproc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esuu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 gaan we dat organiser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at staat ons nog te doen op dag 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1-19T15:28:24Z</dcterms:modified>
  <cp:revision>313</cp:revision>
  <dc:subject/>
  <dc:title>Verbindend Leren</dc:title>
</cp:coreProperties>
</file>