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F14D-7529-4153-BF16-C13F8584C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219B-06C7-4913-8930-13ADDE7328F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D07F3-9C1D-43F9-A89C-446578A7320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640C5-4204-42FC-A345-86CA5BAAB24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4C694-A981-46E2-A392-D0839833190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7B3D4-DDD6-4609-A128-279BDA24CD7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7C36A-FE07-403E-8758-2A9D4D888C7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02205-3329-4138-839C-86FDC05A9C3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74DD9-E9AB-4E7D-8E93-C3B535AA665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FEF82-8956-4CAB-ADB7-FD9274AE3A1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DE00D-04D2-4ABC-A4C4-AA2875426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AD330-E42B-4887-97F1-585C2DB5F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008E-68AF-4B2E-9589-3CF2E6BC8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5C938-B1E9-47E2-B0B1-300C196893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2BC0B-28F4-424F-A49F-BBAC44D27D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11565-D928-42B8-A52B-5DBB90ABBC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8DD4B-61AE-4F71-A971-0F8B8C0B04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57BC3-2455-4F75-85BC-C9FFBC0EAC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C498D-D89B-48B6-9ECA-58B38F14A9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94A76-10D3-43C6-A2FE-9D44B18D69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39C9-4669-44D4-B119-0B8A0F26B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34207-0B65-4F9E-A206-44186EEB23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EADC0-5F07-4693-9F38-1692D6A3D7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6577A-9973-48D2-A5A5-B11C316D6B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DAA19-2F1E-4BFF-9853-4D2D1A3819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1B4EE-1F8A-4975-AB33-0FC0CE25CD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A87A-752C-41CF-9E7D-AC27147FEA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AEC6-0332-4D26-BEBA-E4CAE64D97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AF21-EEDE-4050-BB32-86AB9EE298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1E83-7F12-4215-A232-4AFDD1CCDB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EF4C-5DFF-4150-885C-A3C9A75CB2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F3DC-F3BE-4AE5-A031-645A8777D7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3AF3-547F-4538-901E-DAB55C0D0C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DCC6-F772-4CE4-ACAC-D5D7418CA2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DCDF-4F0F-4D82-844B-2CA3CB5337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DA35-DB02-4364-BF43-1F9ACB357C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3341-1152-42C4-85F9-C490DB7CC4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0B5B-BB18-40AD-AE5E-566ABF6740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DD07-94E4-477B-9215-8BA33C64EB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1DF63-F562-41B4-8FC3-B8DC6F30BB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50979-FA93-4011-828B-93C67399C6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5874E-89EC-4DF5-A631-2C099F697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81CB2-F228-49A1-91AF-C8CE7026E3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7017A-4566-4862-8B3B-20EF5CC7C3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1AE16-0FD8-4B0C-9CED-098E938B36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89862-0B92-4B4B-A3C3-27023F2104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BE3B6-67DB-40B0-B4FC-34BED260D5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77628-47F7-4E3B-B901-173A8A38A6D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ACFF8-9A38-45B3-BB26-65469EC41F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69B36-092B-4684-936A-D757A9BF62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545EC-E91D-4FFB-B509-8CB518B9FE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7C3EA-F7FC-4C0D-8667-38B9D946925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3C2E51-CA75-4DA9-A1C9-1C0847F6B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3CB2-8D1A-4B9C-BD45-3C36E7B8CB6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A3C937-DC80-42DD-BCF8-355ECECD478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2F8E7B-8D94-4E78-B153-7CB57DDFCB3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8D63D0-F45A-49A3-8BB2-88B76C9C40B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E1E3AA-FE41-4B30-8768-1FCADBD9E73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63153-DF40-4AC4-AB60-F55A412C96E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695E63-5CA3-4130-9860-3513B11970C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7BB66C-3495-4CF7-B935-0BF64BA540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7F1717-99A6-4574-A72E-F0B6A3D932C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ACA144-0681-4DCC-AD6C-A4F5F3BD75E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2B82A-11FB-46A8-A3CC-36C40EAC1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E1FD-0542-44DE-BAAD-5A2E2F7A0F6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776A36-C80B-45E9-B0BB-957C5322723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D85C1-BD93-4FEE-B11C-875B5EDB274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C67C2-49D7-45C1-BEF5-1336A35ADA8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4222B-9628-4513-ACC4-7B0B833908C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700BD-F16A-45C1-89A8-08CEC0F3527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AB912-38BA-427B-87F7-A60A872B994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96F11-DDB1-4588-9287-0F5AF597194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5552B-F86C-41DE-B162-0833AF495CD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2C008-C917-4B7F-A9AD-E65A9A6DE44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9913A-4B7B-4B37-B9FF-5C37844E9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5EEEC-1E98-4491-9775-AF844FE144D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92A97-8D42-43C7-8FD3-828F5AAA32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ED928-C131-47B0-BCB6-60A8A1A5AC4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20941-B3EE-428C-AA93-209AE7A14A1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367CE-B95E-49BF-86CE-AD76240D81E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7FD10-6B79-4BC6-A8A3-7A978F50B46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4C0A1-875D-47BD-B0D6-22BBFA5CC73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730B3A-CAA4-4B76-8443-CB40D486E16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E0B085-5D5D-41EB-A82E-6ECD47B189C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05558-3CA1-4C24-ACEF-97662E99D06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24012-3337-4F55-87C9-71AAE4F73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8816-8B2E-4C7F-9964-625F5E069B8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4905A-224F-45BB-B6F6-7478BA7B19C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FAC5F-E50F-4328-8ACE-AACD61ED8EF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058440-44F2-4A2B-8121-28FB5BF72FC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401FC-4CFA-4512-A93E-5863182B021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4CFDF-1CD1-4681-92ED-16D6D9C7EBA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1AF831-4AF9-4F55-8DB6-421CBF80A74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D808D0-10F7-4B25-BB33-277E5EB77FB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A62225-DDA7-444A-8126-FA11117B04A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65044-D2D7-4CF6-8C95-C2047CF02A9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2B08D5-1326-43FB-8DDC-9E26A5E5B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6BE1-C6A5-42AE-BF8D-CAD914AF510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7805AA-9350-4884-9FDB-88C494B844E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1590EB-A158-4F46-BCB4-423BBE77D40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A56D94-BE13-4C9C-8160-E3DE9609EB9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97F224-43AF-4C80-8E85-A5BEC03880C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CF0AA2-4B5B-4EDD-9674-84D2CF3BBBA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2C3302-FBC7-4038-B9AE-07465C5E51A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34B53A-92A6-48FC-B2B0-3DAB6EC92BE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00A50-28C7-4F52-B42F-A1E96DF21F3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EE6AB-7AA8-4D3D-9EF2-8F4E795C454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B4402-CC8F-4E3E-8A16-CCB19A2E5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C950-BFF7-433B-88B9-B727D04280DD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6348-5D69-4191-92E0-9B15D418B0C0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A45A-06AC-4390-B68D-FAF92CD84DE0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BC1F-9510-4D6C-A993-ECDE99966283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9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0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E357-2D94-42D1-B323-83E8BC238644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1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2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73E6-C57A-46BC-9BD0-BC46F0EABEBB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3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4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CCF6-5BBF-41DF-8FE5-51F1D4AC7CCE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5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16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C39D-195B-4886-AC9B-2050617374C4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17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18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D336-0181-4216-B3F0-79C66340CA36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 fontScale="15000"/>
          </a:bodyPr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-64440">
              <a:lnSpc>
                <a:spcPct val="110000"/>
              </a:lnSpc>
              <a:spcBef>
                <a:spcPts val="123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nl-NL" sz="1800" spc="-1" strike="noStrike">
                <a:solidFill>
                  <a:srgbClr val="000546"/>
                </a:solidFill>
                <a:latin typeface="Arial"/>
              </a:rPr>
              <a:t>Introductie BOB (beeld, oordeel, besluit) evt. middels oefening.</a:t>
            </a: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-64440">
              <a:lnSpc>
                <a:spcPct val="110000"/>
              </a:lnSpc>
              <a:spcBef>
                <a:spcPts val="123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nl-NL" sz="1800" spc="-1" strike="noStrike">
                <a:solidFill>
                  <a:srgbClr val="000546"/>
                </a:solidFill>
                <a:latin typeface="Arial"/>
              </a:rPr>
              <a:t>360 graden feedback op leerwens.</a:t>
            </a: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-64440">
              <a:lnSpc>
                <a:spcPct val="110000"/>
              </a:lnSpc>
              <a:spcBef>
                <a:spcPts val="123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nl-NL" sz="1800" spc="-1" strike="noStrike">
                <a:solidFill>
                  <a:srgbClr val="000546"/>
                </a:solidFill>
                <a:latin typeface="Arial"/>
              </a:rPr>
              <a:t>Advies t.a.v. voortgang met deelnemers.</a:t>
            </a: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-64440">
              <a:lnSpc>
                <a:spcPct val="110000"/>
              </a:lnSpc>
              <a:spcBef>
                <a:spcPts val="123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nl-NL" sz="1800" spc="-1" strike="noStrike">
                <a:solidFill>
                  <a:srgbClr val="000546"/>
                </a:solidFill>
                <a:latin typeface="Arial"/>
              </a:rPr>
              <a:t>Evaluatie en afsluiting dag 1. </a:t>
            </a: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lvl="4" marL="605520" indent="0">
              <a:spcBef>
                <a:spcPts val="451"/>
              </a:spcBef>
              <a:buNone/>
              <a:tabLst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</p:txBody>
      </p:sp>
      <p:pic>
        <p:nvPicPr>
          <p:cNvPr id="388" name="Picture 4" descr="Slechtnieuwsgesprek"/>
          <p:cNvPicPr/>
          <p:nvPr/>
        </p:nvPicPr>
        <p:blipFill>
          <a:blip r:embed="rId1"/>
          <a:srcRect l="4787" t="3750" r="4625" b="10176"/>
          <a:stretch/>
        </p:blipFill>
        <p:spPr>
          <a:xfrm>
            <a:off x="900000" y="857160"/>
            <a:ext cx="631512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1:22:15Z</dcterms:created>
  <dc:creator>Arjan van der Mee</dc:creator>
  <dc:description/>
  <dc:language>en-US</dc:language>
  <cp:lastModifiedBy>12vifora</cp:lastModifiedBy>
  <dcterms:modified xsi:type="dcterms:W3CDTF">2011-12-13T14:26:48Z</dcterms:modified>
  <cp:revision>170</cp:revision>
  <dc:subject/>
  <dc:title>Kinder EHBO</dc:title>
</cp:coreProperties>
</file>