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FB8D-44F9-424F-B26B-1BF461FE923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8583-3623-4F01-9F16-4551EFFD299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180F-E288-4C86-A7CF-C52F47A0B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B0CB-FCD1-4531-8CD0-4041A78C2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EE16-CCC7-4C92-ABDF-C4D38794D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A329-8E19-44D5-B57C-85EB85142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F0D2-C7E8-485F-A7CD-484762C74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65D5-7683-4EBD-AB0E-CAFF7A1D1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9961-ED6B-4B75-A81D-40F6DCE45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791D-48BB-4C1B-8E44-1D9D93EAF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73D3-52CA-45E5-8D41-6DE9124A6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5C8F-AB77-48B9-8164-637B4A840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72CF-8B7F-4DA5-9517-65773F75E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44A5-BB29-40CF-88B6-6A7EC507F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oordeling Ass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 ……</a:t>
            </a: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Past geëigende beoordelingstechnieken to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..Hanteert instrumenten op beoogde wijz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..Bereidt de beoordeling zorgvuldig voor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Hoe beoordeel je een assessor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lke instrumenten komen in aanmerk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lke 2 instrumenten passen het best om de assessor te beoordelen op de “succescriteria”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 geval van een Proev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uu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aa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“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ritisch werkproces”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Cesuu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 gaan we dat organiser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at staat ons nog te doen op dag 3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11-19T15:28:24Z</dcterms:modified>
  <cp:revision>313</cp:revision>
  <dc:subject/>
  <dc:title>Verbindend Leren</dc:title>
</cp:coreProperties>
</file>