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CB9F-618A-49AE-B770-F567AA5C0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2883-EB3D-4B38-8A0A-E2EB27EA9D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23EB-29B9-4F21-847F-B652AF2B22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427D-415C-4E94-97FD-F65A3F5A70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F16C0-5DC1-42E6-9274-789E7A2C460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797C-57CC-485E-B2B1-C9576205F3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9575-48F1-49D6-BB16-CEBB0F2D37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C56B-FC7A-4B91-A9D8-B5A93A3643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238D-A9B6-4559-A577-05A871C942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4354-CF5C-4ED3-A968-FC6ED8B3D5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0F4F-D42B-42C6-A0C3-C5973F3F1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B0D3-09B4-4545-AEED-F3365833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7424-2B56-4AEB-96A0-E152DA13C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C8DBF-BCD2-42CE-8DB4-4391467B5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2A68-7096-4584-BF11-28C253CF28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B9FB0-E860-4FA6-8594-361BC12A2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7EBD-D994-4BD5-9C0A-D257B7CD0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B792B-164F-4353-A428-23119262C4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6C93-F836-4889-A8EB-F76FF79AC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403E6-E7DF-4183-BE92-383895FB0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312F-CAEF-4302-A93A-B5E58A9DB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C1BAA-9DD4-4B3A-B388-2ADB023AF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BDF1-E30B-46A6-8A9A-EF6F539D40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09E75-98C2-4684-9557-60457549B0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46F71-6592-4265-869E-EC00253E51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0415D-2B5F-412F-AFDC-FC1AB8C4F0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873-2BA4-4361-AF0F-E8DD599985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FBCF-2FB6-4AA2-A876-1CB56231D0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C259-B8CF-4C0B-849B-8C1D766D76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661-D4BD-4E2B-BF05-1C49AF76DE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71E-5296-467F-AE7F-F1F150AAA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D1CA-9A08-443B-B101-23BE83E36A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2FD-2743-42EB-92BE-4288FCD55D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3F8E-949A-484B-B79B-DB9C67C5B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728-8282-48EA-AAB5-4006393A58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868F-29F8-44C8-B6AA-F8C7038E6D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FDB-BF20-48E3-8451-05F930434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F12-83B7-4736-9631-C6340FFFB5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6AB-58A0-4772-BB42-B5F708D768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E0A10-B2A6-442B-A909-DC227CECDF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24752-FCEC-46E0-95F5-62F8F7AFE6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B5763-5D69-4EEC-B0E4-2A3F29FB2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019C-91E7-448F-8672-9635B1C16B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86989-9069-4AD8-845A-D0A6FB6AC4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88E69-6CF3-4D45-8CB8-BBED248912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241CD-3A60-4975-9BB3-F401A6948C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CF511-8F14-49C5-8027-ACDE1E06A1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C412C-BB63-4928-B143-45D3FC9383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B2D88-DABF-412A-B318-34BF23016A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3D20F-C1B6-43B1-8A78-AF2D4213E0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DC3E7-45FC-415D-9AFE-F580AFE3B4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0380E-A873-4AEA-BD28-79EAE2B4FA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947D5-749A-4751-B227-93AB23882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6BFE-16C9-4CD4-A44E-73331A218C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67ADD-1D14-486C-B651-024FACFAEC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54060-4A00-454C-B648-8019D3C3F8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84938-378A-4FBA-9143-79C432A5B9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55654-3212-4097-B835-13C2C51150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FA365-AC5B-41DB-894A-1D936BFC55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1865F-1130-4588-94C0-9C42B4B172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0DCF7-C018-4A25-9404-F3FC784F5B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53EF6-C56A-4D34-A272-C108069037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B1834-5864-49FD-97A6-8236C90E16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F273E-C961-4F09-8A36-0778B9AC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331B-1FEA-45B7-B8E5-0FD34AEE60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560FA-1212-42D0-B055-60B41CA30F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448F-9D8B-4B3A-B127-640CA88D4F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ED77-B6E1-4C85-A8BC-D8267BA0658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5F76-68FB-4BA6-A6F0-CD86378FD4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56A1-F84A-4FBD-A154-B5A169B20D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708C-EDD0-4B7E-89E5-54F33F7411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FC17-B1F7-4B84-BB21-296FED3374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71DE-BBD3-4028-B3D4-5F073A1D78A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D2D1-0E74-46B7-84EF-6C3D249B05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3441-0E0D-4AAD-989B-A76D49D2C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D433-E410-4238-862F-E49E7E13FD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BE20-1548-4E44-8860-1E88A836CC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07F2-6394-4267-94A9-06AA93A75E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9F7D-C69A-4494-AD98-12E4AFB822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A4153-73EE-4340-B548-4C0BDC2718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09534-631F-4A0D-A22F-76460C41DD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B3EA2-8A41-4EBC-98C2-441F33BEC2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802FA-FAF2-4A29-9B9C-8A13D0EED9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1540F-2AA7-45E5-A402-30226D286A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67D80-A2F4-40DE-A4DB-76B1D98DB7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626BC-8867-4261-BD3F-40BE878D3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9D6B-548F-42C0-BC67-DCBFBDB98A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379A5-6217-459E-8450-9482FE027E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17993-76EB-4C6F-BE72-AB98CA1965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8C085-0B3B-45D8-98C0-3BD3E7E35A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656E6-0FDE-4C07-B377-97F15EE26C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69785-D05D-4E80-A13A-BA0475A7728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A19D82-AEA2-4B99-A0D7-EF8CF02440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9A97E-DFCF-4CA9-B53E-3B70E732A3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9FB7E-A833-479C-B420-184EF69AAF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5D74E-4D63-49FC-9B27-03A4CB9914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053AC6-CAF0-4C2F-9169-2D6279E33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EFFD-B47F-457C-9B06-6255CD8233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AFBC2-67F2-4114-A515-50D65DD136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FCB05-53F4-49A2-BC94-919C14C914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AEB65C-2D63-4F96-A19C-86A183832A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18F36-08DF-4CC5-9037-64EFB564C0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547B7-54C6-4267-8617-59FF0EEE78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D16D8-6F75-4C86-B173-99780E712D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198FA-BB32-45FD-A6BE-1452609B2A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6F7A-0E6F-4022-85EA-F859731D41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1E4E-841D-4877-BAFE-2EE2583E69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4EE4-7CF4-4D69-BD00-7726D1187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DFAA-7272-4A1A-8E86-5CC82064CE2C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B596-9E5B-44D5-BA0A-4100239D253D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9AE-A2B5-4724-80B3-4F94D898F08C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29AE-4D74-439F-A90E-90EC0670383E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041-82C2-4DF3-98FC-CF142A230BBE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975-6F13-4C42-944E-6ABC748674F9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1C1D-470D-46AF-9F5E-A5511E0F8EEB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A69-93E4-4CD0-BC4D-52705800C2B8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D98-8597-4C1C-B41A-2C18F1D3D0B8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 fontScale="15000"/>
          </a:bodyPr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Introductie BOB (beeld, oordeel, besluit) evt. middels oefening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360 graden feedback op leerwen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Advies t.a.v. voortgang met deelnemer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Evaluatie en afsluiting dag 1. 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lvl="4" marL="605520" indent="0">
              <a:spcBef>
                <a:spcPts val="451"/>
              </a:spcBef>
              <a:buNone/>
              <a:tabLst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</p:txBody>
      </p:sp>
      <p:pic>
        <p:nvPicPr>
          <p:cNvPr id="388" name="Picture 4" descr="Slechtnieuwsgesprek"/>
          <p:cNvPicPr/>
          <p:nvPr/>
        </p:nvPicPr>
        <p:blipFill>
          <a:blip r:embed="rId1"/>
          <a:srcRect l="4787" t="3750" r="4625" b="10176"/>
          <a:stretch/>
        </p:blipFill>
        <p:spPr>
          <a:xfrm>
            <a:off x="900000" y="857160"/>
            <a:ext cx="63151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1:22:15Z</dcterms:created>
  <dc:creator>Arjan van der Mee</dc:creator>
  <dc:description/>
  <dc:language>en-US</dc:language>
  <cp:lastModifiedBy>12vifora</cp:lastModifiedBy>
  <dcterms:modified xsi:type="dcterms:W3CDTF">2011-12-13T14:26:48Z</dcterms:modified>
  <cp:revision>170</cp:revision>
  <dc:subject/>
  <dc:title>Kinder EHBO</dc:title>
</cp:coreProperties>
</file>