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F6E-6646-4ECC-ADCB-F147B1CC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402-A0AC-457B-877C-F1298E97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EF0-9E25-4AA8-90BE-0116AB77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784-9AA2-424B-A2C0-5575EEA8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0598-B318-475C-91A3-11326A72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387-B50F-40A0-9348-BA9DF1C0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007-588F-4935-A900-50DE709D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194-9875-4434-A465-405CF564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C0B-63A3-4761-9C60-FBECB338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0A4-E3DE-434B-9F12-CFD48AFA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94A4-419A-4315-B2B7-FE7C1A1E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CE8-34C2-43AB-BACF-1BDDBD43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C790-4138-46C0-A294-F3213E7060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1687680" y="857160"/>
            <a:ext cx="2438280" cy="6098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Start of flightday or 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1763640" y="24573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pairing preflight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2830680" y="14670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1916280" y="3143160"/>
            <a:ext cx="1904760" cy="3812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ools &amp; Man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2830680" y="2838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763640" y="1771560"/>
            <a:ext cx="228600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ntroduction of air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2830680" y="2152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2830680" y="3524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1763640" y="38289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erforming pre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1687680" y="6267600"/>
            <a:ext cx="2361960" cy="38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flight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4854600" y="5867280"/>
            <a:ext cx="1219320" cy="1067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O it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2678040" y="58611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019400" y="4768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1839960" y="6877080"/>
            <a:ext cx="2133720" cy="53352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ll in PFC job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4319640" y="519444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4782960" y="4889520"/>
            <a:ext cx="175104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Consult M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1763640" y="7715160"/>
            <a:ext cx="2362320" cy="685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Preflight completed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Ready to f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2830680" y="7410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620640" y="32400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GEMENE STRUCTUUR PREFLIGHT CHE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 flipV="1">
            <a:off x="2830680" y="66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7"/>
          <p:cNvSpPr/>
          <p:nvPr/>
        </p:nvSpPr>
        <p:spPr>
          <a:xfrm>
            <a:off x="3436920" y="5886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2612880" y="4514760"/>
            <a:ext cx="1676520" cy="1371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efects or 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Anomalies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5"/>
          <p:cNvSpPr/>
          <p:nvPr/>
        </p:nvSpPr>
        <p:spPr>
          <a:xfrm>
            <a:off x="4869000" y="3695760"/>
            <a:ext cx="166500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 flipV="1">
            <a:off x="5481720" y="4381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5450040" y="5543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937040" y="44388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468680" y="5964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 flipH="1">
            <a:off x="4049640" y="6400800"/>
            <a:ext cx="8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5"/>
          <p:cNvSpPr/>
          <p:nvPr/>
        </p:nvSpPr>
        <p:spPr>
          <a:xfrm>
            <a:off x="230040" y="4619520"/>
            <a:ext cx="1839960" cy="8384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Check Record Page in </a:t>
            </a:r>
            <a:br>
              <a:rPr sz="1000"/>
            </a:b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Aircraft Technical Lo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7"/>
          <p:cNvSpPr/>
          <p:nvPr/>
        </p:nvSpPr>
        <p:spPr>
          <a:xfrm>
            <a:off x="1835280" y="42386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2070000" y="523224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9:47:24Z</dcterms:created>
  <dc:creator>terheijden</dc:creator>
  <dc:description/>
  <dc:language>en-US</dc:language>
  <cp:lastModifiedBy>Terheijden, Corneel van</cp:lastModifiedBy>
  <dcterms:modified xsi:type="dcterms:W3CDTF">2015-02-27T10:50:39Z</dcterms:modified>
  <cp:revision>9</cp:revision>
  <dc:subject/>
  <dc:title>Dia 1</dc:title>
</cp:coreProperties>
</file>