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DF92-4CA8-4E48-B56F-0148885D7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CEED-BCA0-4D7B-BB1F-1AD919F7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D5A8-7677-407A-B923-5566C4100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2927-4CC0-4BDD-9D94-2054AAC2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CFBF-7A84-4640-8158-EA366BD5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E80E-FBC6-46CD-A016-A01F9BCF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D6CE-20E9-42AC-B963-F853D31B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66D3-CE8B-462A-9A29-B88EABE5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76F3-EF79-4046-ACDA-CA89474E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FFB3-993D-4464-92D7-D0D196BE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F217-5F80-49F2-A303-56B599F3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5E04-6AD9-4297-A076-2332C494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173F-4132-4D48-9937-207B5740BB2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1687680" y="857160"/>
            <a:ext cx="2438280" cy="6098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Start of flightday or f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5"/>
          <p:cNvSpPr/>
          <p:nvPr/>
        </p:nvSpPr>
        <p:spPr>
          <a:xfrm>
            <a:off x="1763640" y="2457360"/>
            <a:ext cx="2362320" cy="381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repairing preflightche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2830680" y="14670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"/>
          <p:cNvSpPr/>
          <p:nvPr/>
        </p:nvSpPr>
        <p:spPr>
          <a:xfrm>
            <a:off x="1916280" y="3143160"/>
            <a:ext cx="1904760" cy="3812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ools &amp; Man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2830680" y="28386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1763640" y="1771560"/>
            <a:ext cx="2286000" cy="381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ntroduction of aircr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2830680" y="21528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1"/>
          <p:cNvSpPr/>
          <p:nvPr/>
        </p:nvSpPr>
        <p:spPr>
          <a:xfrm>
            <a:off x="2830680" y="3524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2"/>
          <p:cNvSpPr/>
          <p:nvPr/>
        </p:nvSpPr>
        <p:spPr>
          <a:xfrm>
            <a:off x="1763640" y="3828960"/>
            <a:ext cx="2362320" cy="381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erforming pref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6"/>
          <p:cNvSpPr/>
          <p:nvPr/>
        </p:nvSpPr>
        <p:spPr>
          <a:xfrm>
            <a:off x="1687680" y="6267600"/>
            <a:ext cx="2361960" cy="38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reflight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7"/>
          <p:cNvSpPr/>
          <p:nvPr/>
        </p:nvSpPr>
        <p:spPr>
          <a:xfrm>
            <a:off x="4854600" y="5867280"/>
            <a:ext cx="1219320" cy="1067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O ite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2678040" y="586116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4019400" y="47689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0"/>
          <p:cNvSpPr/>
          <p:nvPr/>
        </p:nvSpPr>
        <p:spPr>
          <a:xfrm>
            <a:off x="1839960" y="6877080"/>
            <a:ext cx="2133720" cy="53352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ll in PFC job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1"/>
          <p:cNvSpPr/>
          <p:nvPr/>
        </p:nvSpPr>
        <p:spPr>
          <a:xfrm>
            <a:off x="4319640" y="5194440"/>
            <a:ext cx="46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2"/>
          <p:cNvSpPr/>
          <p:nvPr/>
        </p:nvSpPr>
        <p:spPr>
          <a:xfrm>
            <a:off x="4782960" y="4889520"/>
            <a:ext cx="1751040" cy="68580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Consult MM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3"/>
          <p:cNvSpPr/>
          <p:nvPr/>
        </p:nvSpPr>
        <p:spPr>
          <a:xfrm>
            <a:off x="1763640" y="7715160"/>
            <a:ext cx="2362320" cy="6858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Preflight completed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Ready to f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4"/>
          <p:cNvSpPr/>
          <p:nvPr/>
        </p:nvSpPr>
        <p:spPr>
          <a:xfrm>
            <a:off x="2830680" y="74106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5"/>
          <p:cNvSpPr/>
          <p:nvPr/>
        </p:nvSpPr>
        <p:spPr>
          <a:xfrm>
            <a:off x="620640" y="32400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GEMENE STRUCTUUR PREFLIGHT CHEC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6"/>
          <p:cNvSpPr/>
          <p:nvPr/>
        </p:nvSpPr>
        <p:spPr>
          <a:xfrm flipV="1">
            <a:off x="2830680" y="66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7"/>
          <p:cNvSpPr/>
          <p:nvPr/>
        </p:nvSpPr>
        <p:spPr>
          <a:xfrm>
            <a:off x="3436920" y="58863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2612880" y="4514760"/>
            <a:ext cx="1676520" cy="1371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Defects or </a:t>
            </a:r>
            <a:br>
              <a:rPr sz="1200"/>
            </a:b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Anomalies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5"/>
          <p:cNvSpPr/>
          <p:nvPr/>
        </p:nvSpPr>
        <p:spPr>
          <a:xfrm>
            <a:off x="4869000" y="3695760"/>
            <a:ext cx="1665000" cy="68580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1"/>
          <p:cNvSpPr/>
          <p:nvPr/>
        </p:nvSpPr>
        <p:spPr>
          <a:xfrm flipV="1">
            <a:off x="5481720" y="4381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1"/>
          <p:cNvSpPr/>
          <p:nvPr/>
        </p:nvSpPr>
        <p:spPr>
          <a:xfrm>
            <a:off x="5450040" y="554364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4937040" y="44388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4468680" y="59641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1"/>
          <p:cNvSpPr/>
          <p:nvPr/>
        </p:nvSpPr>
        <p:spPr>
          <a:xfrm flipH="1">
            <a:off x="4049640" y="6400800"/>
            <a:ext cx="81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5"/>
          <p:cNvSpPr/>
          <p:nvPr/>
        </p:nvSpPr>
        <p:spPr>
          <a:xfrm>
            <a:off x="230040" y="4619520"/>
            <a:ext cx="1839960" cy="8384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Check Record Page in </a:t>
            </a:r>
            <a:br>
              <a:rPr sz="1000"/>
            </a:b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Aircraft Technical Log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7"/>
          <p:cNvSpPr/>
          <p:nvPr/>
        </p:nvSpPr>
        <p:spPr>
          <a:xfrm>
            <a:off x="1835280" y="42386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7"/>
          <p:cNvSpPr/>
          <p:nvPr/>
        </p:nvSpPr>
        <p:spPr>
          <a:xfrm>
            <a:off x="2070000" y="5232240"/>
            <a:ext cx="51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9:47:24Z</dcterms:created>
  <dc:creator>terheijden</dc:creator>
  <dc:description/>
  <dc:language>en-US</dc:language>
  <cp:lastModifiedBy>Terheijden, Corneel van</cp:lastModifiedBy>
  <dcterms:modified xsi:type="dcterms:W3CDTF">2015-02-27T10:50:39Z</dcterms:modified>
  <cp:revision>9</cp:revision>
  <dc:subject/>
  <dc:title>Dia 1</dc:title>
</cp:coreProperties>
</file>