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0D4-BA59-47CB-BCC2-A4928B86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680-FB6A-4357-9D94-63C9ADC2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584-3BCF-4DC2-85E4-3E425F24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FE4-A8B5-4E4A-8127-572CA258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4697-1BA7-45D8-A49F-07684E24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04A-5A14-4F94-A30C-16439B04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C81B-5654-4ADE-8F1D-8FDDAE04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EAAA-8FFA-4EF5-9D55-865F56CF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190-D645-441B-ABD1-D5B5A9CE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431-6B69-4F5C-BCCA-4E56AEB6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2FD-AC04-4425-8692-2A4B704B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5BA5-E456-49A0-A105-72EF5249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EB73-085B-4406-95B4-4B0C7A31587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1687680" y="857160"/>
            <a:ext cx="2438280" cy="6098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Start of flightday or 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1763640" y="2457360"/>
            <a:ext cx="236232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epairing preflightch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2830680" y="14670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1916280" y="3143160"/>
            <a:ext cx="1904760" cy="3812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ools &amp; Man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2830680" y="2838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763640" y="1771560"/>
            <a:ext cx="228600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ntroduction of airc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2830680" y="2152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2830680" y="3524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1763640" y="3828960"/>
            <a:ext cx="236232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erforming pre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/>
          <p:cNvSpPr/>
          <p:nvPr/>
        </p:nvSpPr>
        <p:spPr>
          <a:xfrm>
            <a:off x="1687680" y="6267600"/>
            <a:ext cx="2361960" cy="38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eflight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4854600" y="5867280"/>
            <a:ext cx="1219320" cy="1067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O it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2678040" y="58611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019400" y="47689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1839960" y="6877080"/>
            <a:ext cx="2133720" cy="53352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ll in PFC job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1"/>
          <p:cNvSpPr/>
          <p:nvPr/>
        </p:nvSpPr>
        <p:spPr>
          <a:xfrm>
            <a:off x="4319640" y="519444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>
            <a:off x="4782960" y="4889520"/>
            <a:ext cx="1751040" cy="68580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Consult M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>
            <a:off x="1763640" y="7715160"/>
            <a:ext cx="2362320" cy="685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Preflight completed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Ready to f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>
            <a:off x="2830680" y="7410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620640" y="32400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GEMENE STRUCTUUR PREFLIGHT CHE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 flipV="1">
            <a:off x="2830680" y="66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7"/>
          <p:cNvSpPr/>
          <p:nvPr/>
        </p:nvSpPr>
        <p:spPr>
          <a:xfrm>
            <a:off x="3436920" y="5886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2612880" y="4514760"/>
            <a:ext cx="1676520" cy="1371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Defects or </a:t>
            </a: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Anomalies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5"/>
          <p:cNvSpPr/>
          <p:nvPr/>
        </p:nvSpPr>
        <p:spPr>
          <a:xfrm>
            <a:off x="4869000" y="3695760"/>
            <a:ext cx="1665000" cy="68580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 flipV="1">
            <a:off x="5481720" y="4381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5450040" y="5543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4937040" y="44388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468680" y="5964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 flipH="1">
            <a:off x="4049640" y="6400800"/>
            <a:ext cx="81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5"/>
          <p:cNvSpPr/>
          <p:nvPr/>
        </p:nvSpPr>
        <p:spPr>
          <a:xfrm>
            <a:off x="230040" y="4619520"/>
            <a:ext cx="1839960" cy="8384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Check Record Page in </a:t>
            </a:r>
            <a:br>
              <a:rPr sz="1000"/>
            </a:b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Aircraft Technical Log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7"/>
          <p:cNvSpPr/>
          <p:nvPr/>
        </p:nvSpPr>
        <p:spPr>
          <a:xfrm>
            <a:off x="1835280" y="42386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2070000" y="523224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9:47:24Z</dcterms:created>
  <dc:creator>terheijden</dc:creator>
  <dc:description/>
  <dc:language>en-US</dc:language>
  <cp:lastModifiedBy>Terheijden, Corneel van</cp:lastModifiedBy>
  <dcterms:modified xsi:type="dcterms:W3CDTF">2015-02-27T10:50:39Z</dcterms:modified>
  <cp:revision>9</cp:revision>
  <dc:subject/>
  <dc:title>Dia 1</dc:title>
</cp:coreProperties>
</file>