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E8CE-5A17-4370-9018-F0B3BD09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79E6-D6A0-4EC0-BB61-40598106C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4CDA-EBD1-447D-AC22-B58B218A6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28805-4AB8-497C-9CDC-A7CF3AD0F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674E8-EBBC-4CCC-B10F-571544DAE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37A5-2489-48F6-A845-0E5E45E05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D920F-0F7A-41D4-A405-E3AF7B38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5671-AE16-4584-8333-5B464B802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5F91-C103-432F-86E6-5FA87339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8940E-2090-4F3C-A9CF-B95D7E258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B7D2-B30B-4CED-83B7-AF3D1B08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C3C1-C121-4145-B417-10642DF0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9CE2-0421-497B-BA7F-C5969FD5D11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1687680" y="857160"/>
            <a:ext cx="2438280" cy="60984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Start of flightday or 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AutoShape 5"/>
          <p:cNvSpPr/>
          <p:nvPr/>
        </p:nvSpPr>
        <p:spPr>
          <a:xfrm>
            <a:off x="1763640" y="24573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pairing preflightche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2830680" y="14670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7"/>
          <p:cNvSpPr/>
          <p:nvPr/>
        </p:nvSpPr>
        <p:spPr>
          <a:xfrm>
            <a:off x="1916280" y="3143160"/>
            <a:ext cx="1904760" cy="3812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Tools &amp; Manu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2830680" y="2838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9"/>
          <p:cNvSpPr/>
          <p:nvPr/>
        </p:nvSpPr>
        <p:spPr>
          <a:xfrm>
            <a:off x="1763640" y="1771560"/>
            <a:ext cx="228600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Introduction of aircra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0"/>
          <p:cNvSpPr/>
          <p:nvPr/>
        </p:nvSpPr>
        <p:spPr>
          <a:xfrm>
            <a:off x="2830680" y="21528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1"/>
          <p:cNvSpPr/>
          <p:nvPr/>
        </p:nvSpPr>
        <p:spPr>
          <a:xfrm>
            <a:off x="2830680" y="3524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12"/>
          <p:cNvSpPr/>
          <p:nvPr/>
        </p:nvSpPr>
        <p:spPr>
          <a:xfrm>
            <a:off x="1763640" y="3828960"/>
            <a:ext cx="2362320" cy="3812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erforming pref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16"/>
          <p:cNvSpPr/>
          <p:nvPr/>
        </p:nvSpPr>
        <p:spPr>
          <a:xfrm>
            <a:off x="1687680" y="6267600"/>
            <a:ext cx="2361960" cy="3808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Preflight d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17"/>
          <p:cNvSpPr/>
          <p:nvPr/>
        </p:nvSpPr>
        <p:spPr>
          <a:xfrm>
            <a:off x="4854600" y="5867280"/>
            <a:ext cx="1219320" cy="106704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GO item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8"/>
          <p:cNvSpPr/>
          <p:nvPr/>
        </p:nvSpPr>
        <p:spPr>
          <a:xfrm>
            <a:off x="2678040" y="586116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4019400" y="47689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20"/>
          <p:cNvSpPr/>
          <p:nvPr/>
        </p:nvSpPr>
        <p:spPr>
          <a:xfrm>
            <a:off x="1839960" y="6877080"/>
            <a:ext cx="2133720" cy="53352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Fill in PFC jobc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1"/>
          <p:cNvSpPr/>
          <p:nvPr/>
        </p:nvSpPr>
        <p:spPr>
          <a:xfrm>
            <a:off x="4319640" y="5194440"/>
            <a:ext cx="465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22"/>
          <p:cNvSpPr/>
          <p:nvPr/>
        </p:nvSpPr>
        <p:spPr>
          <a:xfrm>
            <a:off x="4782960" y="4889520"/>
            <a:ext cx="175104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Consult MM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23"/>
          <p:cNvSpPr/>
          <p:nvPr/>
        </p:nvSpPr>
        <p:spPr>
          <a:xfrm>
            <a:off x="1763640" y="7715160"/>
            <a:ext cx="2362320" cy="68580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Preflight completed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Arial"/>
              </a:rPr>
              <a:t>Ready to fl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4"/>
          <p:cNvSpPr/>
          <p:nvPr/>
        </p:nvSpPr>
        <p:spPr>
          <a:xfrm>
            <a:off x="2830680" y="74106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5"/>
          <p:cNvSpPr/>
          <p:nvPr/>
        </p:nvSpPr>
        <p:spPr>
          <a:xfrm>
            <a:off x="620640" y="32400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ALGEMENE STRUCTUUR PREFLIGHT CHEC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6"/>
          <p:cNvSpPr/>
          <p:nvPr/>
        </p:nvSpPr>
        <p:spPr>
          <a:xfrm flipV="1">
            <a:off x="2830680" y="66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7"/>
          <p:cNvSpPr/>
          <p:nvPr/>
        </p:nvSpPr>
        <p:spPr>
          <a:xfrm>
            <a:off x="3436920" y="588636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2612880" y="4514760"/>
            <a:ext cx="1676520" cy="13716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Defects or </a:t>
            </a:r>
            <a:br>
              <a:rPr sz="1200"/>
            </a:b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Anomalies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5"/>
          <p:cNvSpPr/>
          <p:nvPr/>
        </p:nvSpPr>
        <p:spPr>
          <a:xfrm>
            <a:off x="4869000" y="3695760"/>
            <a:ext cx="1665000" cy="68580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Contact</a:t>
            </a:r>
            <a:br>
              <a:rPr sz="1400"/>
            </a:b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1"/>
          <p:cNvSpPr/>
          <p:nvPr/>
        </p:nvSpPr>
        <p:spPr>
          <a:xfrm flipV="1">
            <a:off x="5481720" y="4381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1"/>
          <p:cNvSpPr/>
          <p:nvPr/>
        </p:nvSpPr>
        <p:spPr>
          <a:xfrm>
            <a:off x="5450040" y="554364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4937040" y="443880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9"/>
          <p:cNvSpPr/>
          <p:nvPr/>
        </p:nvSpPr>
        <p:spPr>
          <a:xfrm>
            <a:off x="4468680" y="5964120"/>
            <a:ext cx="53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1"/>
          <p:cNvSpPr/>
          <p:nvPr/>
        </p:nvSpPr>
        <p:spPr>
          <a:xfrm flipH="1">
            <a:off x="4049640" y="6400800"/>
            <a:ext cx="81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5"/>
          <p:cNvSpPr/>
          <p:nvPr/>
        </p:nvSpPr>
        <p:spPr>
          <a:xfrm>
            <a:off x="230040" y="4619520"/>
            <a:ext cx="1839960" cy="83844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Check Record Page in </a:t>
            </a:r>
            <a:br>
              <a:rPr sz="1000"/>
            </a:b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Aircraft Technical Log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7"/>
          <p:cNvSpPr/>
          <p:nvPr/>
        </p:nvSpPr>
        <p:spPr>
          <a:xfrm>
            <a:off x="1835280" y="42386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7"/>
          <p:cNvSpPr/>
          <p:nvPr/>
        </p:nvSpPr>
        <p:spPr>
          <a:xfrm>
            <a:off x="2070000" y="5232240"/>
            <a:ext cx="519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1T09:47:24Z</dcterms:created>
  <dc:creator>terheijden</dc:creator>
  <dc:description/>
  <dc:language>en-US</dc:language>
  <cp:lastModifiedBy>Terheijden, Corneel van</cp:lastModifiedBy>
  <dcterms:modified xsi:type="dcterms:W3CDTF">2015-02-27T10:50:39Z</dcterms:modified>
  <cp:revision>9</cp:revision>
  <dc:subject/>
  <dc:title>Dia 1</dc:title>
</cp:coreProperties>
</file>