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37E7-096E-4C78-8C28-CBD20B9B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0A1-03EA-4535-9460-A1BFD8A7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F80-01F9-4C90-A8CF-154AFE3E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1CF4-BB96-4447-8089-379E2300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B0A8-1047-478B-8538-2FE6E567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E537-461A-475A-8E86-5D7091B5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499D-5981-4B23-A256-832A5429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730D-CDB8-4A16-9AF5-BF7253AA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6895-23FB-40E6-9C2A-55544985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7D88-F248-40EE-A4E9-5AA3075C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D7F1-8C67-41B6-AB61-A9FE67C3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BA3-C507-424F-BF11-6805453F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9788-4CDF-4D0B-9D5B-6A6256C1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EF51-FC75-4B50-8E33-AC517692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1909-0BF5-4A04-AFE7-2F851BE3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0874-4439-4F85-900E-B104249E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7AF9-D34B-4B2C-8647-DED027E5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6AB-F972-45F8-92AE-65ECAC86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7E8-83DC-4EF8-AA13-5F3C94AE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D0E3-037D-4FE2-A2A6-C926881F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B3A4-5DE1-46DB-8DA0-C1C14078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573-7FF2-4B60-AAE5-3605A88B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7C0-24DD-44F6-9BA8-752E274A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F2BC-057B-4076-A351-6B8257C1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65E6-E7B0-4B39-83F8-D259D16FA7D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0116-9A05-41AF-AC9B-EC27767F9C3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rojectenbankcultuurhistorie.nl/content/img%255Cbodem_voeten3.jpg&amp;imgrefurl=http://www.projectenbankcultuurhistorie.nl/content/Bodem_onder_onze_Voeten.xml.asp%3Fbc%3Dbalk2-6-1%26type%3Dbalk2%26parent%3D6-1&amp;h=470&amp;w=301&amp;sz=68&amp;hl=nl&amp;start=1&amp;um=1&amp;tbnid=ZLuytrcc_YGfkM:&amp;tbnh=129&amp;tbnw=83&amp;prev=/images%3Fq%3Dbodemprofiel%26svnum%3D10%26um%3D1%26hl%3Dnl%26rls%3Dcom.microsoft:*:IE-SearchBox%26rlz%3D1I7ADBF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onovapro.nl/img/handen.jpg&amp;imgrefurl=http://www.bionovapro.nl/base/Bionovapro_products_D.asp%3FID%3D156%26Lang%3D1&amp;h=150&amp;w=200&amp;sz=23&amp;hl=nl&amp;start=12&amp;um=1&amp;tbnid=Q0jX2KOC0xDlAM:&amp;tbnh=78&amp;tbnw=104&amp;prev=/images%3Fq%3Dbodemstructuur%26svnum%3D10%26um%3D1%26hl%3Dnl%26rls%3Dcom.microsoft:*:IE-SearchBox%26rlz%3D1I7ADBF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Grondbewerking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7242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nkee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4703760" cy="3529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Berdi MGG, aanleg golfbaan Marssum"/>
          <p:cNvPicPr/>
          <p:nvPr/>
        </p:nvPicPr>
        <p:blipFill>
          <a:blip r:embed="rId2"/>
          <a:stretch/>
        </p:blipFill>
        <p:spPr>
          <a:xfrm>
            <a:off x="5580000" y="2565360"/>
            <a:ext cx="3300480" cy="2195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451640" y="1628640"/>
            <a:ext cx="13813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Plaatstructu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 horizontale gelaagdheid van bodem is te zien, vaak op slempige gronden. Bij opdrogen barsten de platen en krullen ze omhoo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ntstaan o.a. door zware druk van machines die regelmatig een bodem berijden. Denk aan de ploegzool bij een tractor of het rijden van bouwverkeer bij nieuwbouw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-&gt; is een vaste plaa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fi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957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lgen slecht profi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chte doorwort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chte doorluch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chte doorwat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ruchtbaarheid kan in gevaar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27640" y="3213000"/>
            <a:ext cx="2286000" cy="1505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27640" y="1989000"/>
            <a:ext cx="20876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631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Profielverbetering is vaak een kostbare zaak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Afweging: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-&gt; de te maken kosten t.o.v. de te verwachte opbrengste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rofielverbetering wenselijk in volgende omstandigheden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80074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ste lagen in de bouwvoor kunnen ook dieper voorkomen dan de bouwvoo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orende lagen die dieper in het profiel zitten: oerbanken, keileembanken, grind lag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gewenste volgorde van grondlag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gelijke ligging van het maaive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Grondbewerking wenselijk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mpen en stuiven oplos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lant- of zaai/ zode klaar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ofileren/ unduleren/ egaliseren terr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er- en luchthuishouding rege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reken storende l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leg drainage/ leidingen/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agen verwisselen\ ontgrav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derbrengen compost, stoppelresten, stalmest, herbiciden en dergelijke + bestrijden van onkrui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Grondbewerking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of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verbeteri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6096240" cy="4143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Berdi MGG, aanleg golfbaan Marssum"/>
          <p:cNvPicPr/>
          <p:nvPr/>
        </p:nvPicPr>
        <p:blipFill>
          <a:blip r:embed="rId2"/>
          <a:stretch/>
        </p:blipFill>
        <p:spPr>
          <a:xfrm>
            <a:off x="5651640" y="2565360"/>
            <a:ext cx="2706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el grondbewerking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039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gewas een zo gunstig mogelijke bewortelingsplaats te gev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&gt; je hebt daarvoor voldoende lucht, water en een goede structuur nodi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76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rondverbeter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kal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ganische bem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ede ontwat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ondbewerking (op juiste momen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2 x  Challenger voor de ploeg met bijna 1000 pk"/>
          <p:cNvPicPr/>
          <p:nvPr/>
        </p:nvPicPr>
        <p:blipFill>
          <a:blip r:embed="rId1"/>
          <a:stretch/>
        </p:blipFill>
        <p:spPr>
          <a:xfrm>
            <a:off x="2268360" y="4076640"/>
            <a:ext cx="42865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Profilering t.b.v. ontwerp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en van grondverzet zijn het ontgraven, transporteren, ophogen en egaliseren van gro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moet dan denken aan werkzaamheden als hydraulische graafmachines, dumper, laadschop, bulldozer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Storingen in de bodem opheffen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en van grondbewerking zijn: het opheffen van een verdichting, het breken van storende lagen en lagen te wissel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moet dan denken aan werkzaamheden als diepploegen, diepwoelen, drainere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houd: Grondbewerking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tructuur/ prof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verbe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bewe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bewerkingswertui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2924280"/>
            <a:ext cx="1576440" cy="2450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588000" y="1916280"/>
            <a:ext cx="13813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Zaai- en plantklaar maken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of verzorging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verplaatst de grond niet en bewerkt deze niet dieper dan de bouwvo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orbeelden van zaai- en plantklaar maken zijn het bestrijden van onkruiden, het uitvoeren en onderwerken van een bemesting en het loswerken van de bouwvoor voor het plantwer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Arial Black"/>
              </a:rPr>
              <a:t>                   </a:t>
            </a:r>
            <a:r>
              <a:rPr b="1" lang="nl-NL" sz="2800" spc="-1" strike="noStrike">
                <a:solidFill>
                  <a:srgbClr val="ffffb7"/>
                </a:solidFill>
                <a:latin typeface="Arial Black"/>
              </a:rPr>
              <a:t>Voorbeeld: De frees</a:t>
            </a:r>
            <a:br>
              <a:rPr sz="2800"/>
            </a:br>
            <a:br>
              <a:rPr sz="1800"/>
            </a:br>
            <a:r>
              <a:rPr b="0" lang="nl-NL" sz="1800" spc="-1" strike="noStrike">
                <a:solidFill>
                  <a:srgbClr val="ffffb7"/>
                </a:solidFill>
                <a:latin typeface="Arial Black"/>
              </a:rPr>
              <a:t>- </a:t>
            </a: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toplaagbegroeiing, onderwerken van mest, bestrijden van onkruid of het maken van zaai- en plantbedden.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niet gebruiken in te natte grond of als je veel regen verwacht. 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door de snijdende werking van de frees kun je in vaste grond werken en planten verkleinen en vermengen. 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achter de frees zit een verstelbare kap waar de grond tegen gegooid wordt. De grond wordt op deze manier nog meer verkruimeld.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afhankelijk van de draairichting kan een freesas met de rijrichting meelopen (meelopende frees) of tegengesteld zijn draaien (overtopfrees)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38284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Inzet machines/ werktuige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059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keuze wordt bepaald door -in veel gevallen een combinatie- van de volgende factore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grondsoort en draagkracht van de bod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tijdstip van de uitvoering van het grondwe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diepte van het uit te voeren grondwe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beschikbare budget en/of beschikbare tij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grootte van het ob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bereikbaarheid van het ob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hoeveelheid aan grondwerkzaamhed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anbouwwerktuig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5946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chter of voor een een of tweeassige tractor, soms aangedreven door de aftak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werkingsdiep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ondergrondbewerking (dieper dan 30 cm) bv. woel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hoofdgrondbewerking (van 0 tot 30 cm) bv. frees spitmachine, triltandcultivat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voor- en nabewerking (van 0 tot 10 cm) bv. rotorkopeg, egalisatieba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verzorgende bewerking                                                 (van 0 tot 5 cm) bv. schoffelmachine                                        t.b.v. onkruidbestrijd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2857680" cy="2028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419640" y="6308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Rotorkop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557000"/>
            <a:ext cx="80074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EIND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6197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ar bestaat grond ui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459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ste delen, onder te verdelen in; (Ca 5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organische stof (humus, afval, plant, di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organische stof (zand, klei, kalk, zou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iën, onder te verdelen in; (Ca 2 x 2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ater (met daarin opgeloste zouten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luc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ndsoorten: zand, veen, klei, loss, leem en za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uctuur/ profi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4191120" cy="3752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1557360"/>
            <a:ext cx="38894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Struct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nderlinge rangschikking en binding van de afzonderlijke bodemdeeltj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Profi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e doorsnede van de bodem, ook wel de gelaagdhe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lang structu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35164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- aanwezigheid poriën en holten tussen vaste gronddeeltjes groot belang voor eigenschappen, - vanwege volgende factore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lucht en warmte in de grond dring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goede beworteling mogelijk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water in de grond vasthoud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te veel water kan worden afgevoe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38512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Voor gunstige structuur is van belang;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2420640"/>
            <a:ext cx="5761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doende hoeveelheid poriën en holten in de gron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en juiste verhouding tussen deze poriën en holte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doende stabiliteit 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doende bodemleve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3141720"/>
            <a:ext cx="21416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uctuurvorme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832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jze van rangschikking en het veel/ weinig voorkomen van poriën en holte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ruimelstructu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orrelstructu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atstructu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732720" y="4076640"/>
            <a:ext cx="1544400" cy="1544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156360" y="2349360"/>
            <a:ext cx="21193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ruimelstructuu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2342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gronddeeltjes zijn tot groepen samengebundeld tot de zogenaamde kruime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e kruimel, tussen de poriën, is ruimte voor water en tussen de kruimels is ruimte voor luch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&gt; dit is de BE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orrelstructu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059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fzonderlijke bodemdeeltjes liggen geheel los van elkaar: Er is geen enkele bind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: bak met knik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ok bij humusarme zandgronden en vastgereden kleigrond kan de bovengrond een korrelstructuur bezitten. Deze gronden stuiven gemakkelijk en slempen bij regenval snel dich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&gt; is een losse bend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10:52Z</dcterms:created>
  <dc:creator>ICT</dc:creator>
  <dc:description/>
  <dc:language>en-US</dc:language>
  <cp:lastModifiedBy>default</cp:lastModifiedBy>
  <dcterms:modified xsi:type="dcterms:W3CDTF">2008-11-10T12:56:04Z</dcterms:modified>
  <cp:revision>6</cp:revision>
  <dc:subject/>
  <dc:title>grondbewerking</dc:title>
</cp:coreProperties>
</file>