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6D55-14A6-48D3-A43E-F576B62CB3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BF91-8DD3-4B42-A899-EE155E57467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378-85F5-4294-A16B-BC8C4787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E34-FF07-40D4-892E-112E4E63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6C2-252E-40E0-8839-B4335543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426-5CFF-4A66-AE7B-291DBA20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5F4-5D89-48CE-8B65-A8A7A640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BB4-A9C3-46A8-B55F-BD978D45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C7F-B1AF-4FA1-9A8C-88A3A2DF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256-2DE5-4D9B-8B32-475A34D3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723-B0B1-47A2-90BB-65E4B421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29D-6180-4FFF-921D-5A6E5371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FB3-7FDA-4619-A5D2-2226099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78B-7AC3-47B5-9156-5F60A9AC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F359-47FD-4620-BF16-1CC517F6FB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ijkswaterstaat.nl/hsl/imagepop.jsp?source=/hsl/Images/Bundel%20HSL%20-%20A4%20(TP040426-31)_1024x681_tcm51-11586.jpg&amp;alt=Ecologische%20duiker%20bij%20bundeling%20van%20de%20HSL-Zuid%20met%20de%20A4%20(april%202004)&amp;text=Bundel%20HSL-A4%20(TPapril2004-31)&amp;width=813&amp;height=541%20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uimpje.punt.nl/index.php?foto=true&amp;id=322436&amp;fgroep=2100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mondeoclipper/werf_deurganckdok&amp;page=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2160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3300"/>
                </a:solidFill>
                <a:latin typeface="Arial"/>
              </a:rPr>
              <a:t>Grond vervoeren</a:t>
            </a:r>
            <a:br>
              <a:rPr sz="5400"/>
            </a:br>
            <a:r>
              <a:rPr b="0" lang="nl-NL" sz="2000" spc="-1" strike="noStrike">
                <a:solidFill>
                  <a:srgbClr val="cc3300"/>
                </a:solidFill>
                <a:latin typeface="Arial"/>
              </a:rPr>
              <a:t>blz 203-2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umper008"/>
          <p:cNvPicPr/>
          <p:nvPr/>
        </p:nvPicPr>
        <p:blipFill>
          <a:blip r:embed="rId1"/>
          <a:stretch/>
        </p:blipFill>
        <p:spPr>
          <a:xfrm>
            <a:off x="2050920" y="2205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randstofko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Q2e84iyJdUmK2cWg"/>
          <p:cNvPicPr/>
          <p:nvPr/>
        </p:nvPicPr>
        <p:blipFill>
          <a:blip r:embed="rId1"/>
          <a:stretch/>
        </p:blipFill>
        <p:spPr>
          <a:xfrm>
            <a:off x="468360" y="119700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zwaartransportfoto_1"/>
          <p:cNvPicPr/>
          <p:nvPr/>
        </p:nvPicPr>
        <p:blipFill>
          <a:blip r:embed="rId2"/>
          <a:stretch/>
        </p:blipFill>
        <p:spPr>
          <a:xfrm>
            <a:off x="4788000" y="3068640"/>
            <a:ext cx="4356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60-MVC-003F%20(Small)"/>
          <p:cNvPicPr/>
          <p:nvPr/>
        </p:nvPicPr>
        <p:blipFill>
          <a:blip r:embed="rId1"/>
          <a:stretch/>
        </p:blipFill>
        <p:spPr>
          <a:xfrm>
            <a:off x="1403280" y="1268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zandschep"/>
          <p:cNvPicPr/>
          <p:nvPr/>
        </p:nvPicPr>
        <p:blipFill>
          <a:blip r:embed="rId1"/>
          <a:stretch/>
        </p:blipFill>
        <p:spPr>
          <a:xfrm>
            <a:off x="971640" y="1557360"/>
            <a:ext cx="698508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nik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1_816"/>
          <p:cNvPicPr/>
          <p:nvPr/>
        </p:nvPicPr>
        <p:blipFill>
          <a:blip r:embed="rId1"/>
          <a:stretch/>
        </p:blipFill>
        <p:spPr>
          <a:xfrm>
            <a:off x="324000" y="1341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6732720" y="530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Min 1600 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rekker kie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Trekker%20dumper%2010m3"/>
          <p:cNvPicPr/>
          <p:nvPr/>
        </p:nvPicPr>
        <p:blipFill>
          <a:blip r:embed="rId1"/>
          <a:stretch/>
        </p:blipFill>
        <p:spPr>
          <a:xfrm>
            <a:off x="1332000" y="141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ortste weg of de veilig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zbrowntrouble"/>
          <p:cNvPicPr/>
          <p:nvPr/>
        </p:nvPicPr>
        <p:blipFill>
          <a:blip r:embed="rId1"/>
          <a:stretch/>
        </p:blipFill>
        <p:spPr>
          <a:xfrm>
            <a:off x="900000" y="1484280"/>
            <a:ext cx="7201080" cy="4478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92200" y="5464080"/>
            <a:ext cx="59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en lo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Siku%20liebherr%20shovel%20SK1873"/>
          <p:cNvPicPr/>
          <p:nvPr/>
        </p:nvPicPr>
        <p:blipFill>
          <a:blip r:embed="rId1"/>
          <a:stretch/>
        </p:blipFill>
        <p:spPr>
          <a:xfrm>
            <a:off x="250920" y="1125360"/>
            <a:ext cx="3809880" cy="233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C460C_Preserial_0142"/>
          <p:cNvPicPr/>
          <p:nvPr/>
        </p:nvPicPr>
        <p:blipFill>
          <a:blip r:embed="rId2"/>
          <a:stretch/>
        </p:blipFill>
        <p:spPr>
          <a:xfrm>
            <a:off x="4211640" y="2997360"/>
            <a:ext cx="493236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4_331"/>
          <p:cNvPicPr/>
          <p:nvPr/>
        </p:nvPicPr>
        <p:blipFill>
          <a:blip r:embed="rId1"/>
          <a:stretch/>
        </p:blipFill>
        <p:spPr>
          <a:xfrm>
            <a:off x="971640" y="124128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4_334"/>
          <p:cNvPicPr/>
          <p:nvPr/>
        </p:nvPicPr>
        <p:blipFill>
          <a:blip r:embed="rId1"/>
          <a:stretch/>
        </p:blipFill>
        <p:spPr>
          <a:xfrm>
            <a:off x="97164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4_335"/>
          <p:cNvPicPr/>
          <p:nvPr/>
        </p:nvPicPr>
        <p:blipFill>
          <a:blip r:embed="rId1"/>
          <a:stretch/>
        </p:blipFill>
        <p:spPr>
          <a:xfrm>
            <a:off x="90000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064200" y="604044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227640" y="57340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"/>
              </a:rPr>
              <a:t>Y-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nkele begri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p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lagterrein voor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= bouwput, sloot, cune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n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waar zand in kom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een weg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mper =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rijdende zandw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 transportwagen achter d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met de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!135452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og, vol en geknik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b_foto_04"/>
          <p:cNvPicPr/>
          <p:nvPr/>
        </p:nvPicPr>
        <p:blipFill>
          <a:blip r:embed="rId1"/>
          <a:stretch/>
        </p:blipFill>
        <p:spPr>
          <a:xfrm>
            <a:off x="539640" y="1657440"/>
            <a:ext cx="81727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Dui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Ecologische duiker bij bundeling van de HSL-Zuid met de A4 (april 200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60640"/>
            <a:ext cx="770400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ver de openbare w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stemming geme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ute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 w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- en uit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 gew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ne of (licht) vervuil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Volvo A40D  knikdumper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Aanvullen van de muur met zan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laden van dumpers met zand voor de aanvullin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aanbrengen van het zand voor de opvulling van de baggerdijk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169_6928.JP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Zandtransport kan zo 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ketelhaven1500-16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aterpillar 740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169_6963.JPG"/>
          <p:cNvPicPr/>
          <p:nvPr/>
        </p:nvPicPr>
        <p:blipFill>
          <a:blip r:embed="rId1"/>
          <a:stretch/>
        </p:blipFill>
        <p:spPr>
          <a:xfrm>
            <a:off x="971640" y="6922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een nauwkeurige technisch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omschrijving van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e methode van op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(weg- en waterbou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bestek"/>
          <p:cNvPicPr/>
          <p:nvPr/>
        </p:nvPicPr>
        <p:blipFill>
          <a:blip r:embed="rId1"/>
          <a:stretch/>
        </p:blipFill>
        <p:spPr>
          <a:xfrm>
            <a:off x="0" y="0"/>
            <a:ext cx="8785080" cy="6178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2700360" y="5300640"/>
            <a:ext cx="3417840" cy="642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3300"/>
                </a:solidFill>
                <a:latin typeface="Arial"/>
              </a:rPr>
              <a:t>RAW - best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nderwerpen RAW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Algem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ouwrijp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Gron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iol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Verh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choeiing/dam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uikers en st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pspuiten van z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zand%20opspuiten_tcm50-35541"/>
          <p:cNvPicPr/>
          <p:nvPr/>
        </p:nvPicPr>
        <p:blipFill>
          <a:blip r:embed="rId1"/>
          <a:stretch/>
        </p:blipFill>
        <p:spPr>
          <a:xfrm>
            <a:off x="1258920" y="1628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chine 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duur is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paciteit, het laad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randstof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oort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 d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zandauto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4321080" cy="313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trekker_dumper"/>
          <p:cNvPicPr/>
          <p:nvPr/>
        </p:nvPicPr>
        <p:blipFill>
          <a:blip r:embed="rId3"/>
          <a:stretch/>
        </p:blipFill>
        <p:spPr>
          <a:xfrm>
            <a:off x="4211640" y="29973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adverm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oskinagritre"/>
          <p:cNvPicPr/>
          <p:nvPr/>
        </p:nvPicPr>
        <p:blipFill>
          <a:blip r:embed="rId1"/>
          <a:stretch/>
        </p:blipFill>
        <p:spPr>
          <a:xfrm>
            <a:off x="395280" y="126828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trekker-kipper"/>
          <p:cNvPicPr/>
          <p:nvPr/>
        </p:nvPicPr>
        <p:blipFill>
          <a:blip r:embed="rId2"/>
          <a:stretch/>
        </p:blipFill>
        <p:spPr>
          <a:xfrm>
            <a:off x="4284720" y="2852640"/>
            <a:ext cx="4535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veel transportmiddel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!133330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at 375 LME &amp; Volvo A40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81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3:06:53Z</dcterms:created>
  <dc:creator>default</dc:creator>
  <dc:description/>
  <dc:language>en-US</dc:language>
  <cp:lastModifiedBy>Jurrien van 't Oever</cp:lastModifiedBy>
  <dcterms:modified xsi:type="dcterms:W3CDTF">2013-10-11T12:08:04Z</dcterms:modified>
  <cp:revision>7</cp:revision>
  <dc:subject/>
  <dc:title>Grond vervoeren</dc:title>
</cp:coreProperties>
</file>