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535-DB19-4BA8-BDE0-B18A60B4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76D-5E5C-4E6C-A226-C86EAB1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B13-CD66-41CC-A7FE-7DA95330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B2B-5D57-4164-A52B-525B913E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0B3B-78F6-4FB0-BD5E-944AA32D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0064-EDD9-4C82-9216-313F74AC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D27E-B08F-49A4-823C-8F070E3C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0DE8-C918-4D82-829B-425EADC3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DC96-D419-42C2-84D7-F0429D9B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27F1-43D6-4BDE-8CEA-4A4A634F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21C7-AF5F-4F90-B162-65DAD15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FC3-9592-42FD-BB6E-899291D0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88A3-B657-43D8-B502-200066E1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FB5E-5D3D-47D7-84E6-5487F20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2421-4085-4E4E-A3B8-71C71F3B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8E0C-37A4-418C-AD34-8A126F07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9977-09FB-49C8-B679-EA464A06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D15-548F-4E2D-8C57-6E4A00A2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E64-4DC3-4F24-8DAD-7104A56D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AB9-E242-4B08-9CFB-DD2BA8A3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323-2D6E-4FCB-911D-EF12A200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2B6-FCDD-40E1-BA97-B67CA16D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DC8-1199-4B64-8021-D5FFEE1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EB0-14AF-4516-9234-8AF050D8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99C8-DD6D-4AF4-B279-C350269248B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06A-A557-408E-B9A1-0B8B368C921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jectenbankcultuurhistorie.nl/content/img%255Cbodem_voeten3.jpg&amp;imgrefurl=http://www.projectenbankcultuurhistorie.nl/content/Bodem_onder_onze_Voeten.xml.asp%3Fbc%3Dbalk2-6-1%26type%3Dbalk2%26parent%3D6-1&amp;h=470&amp;w=301&amp;sz=68&amp;hl=nl&amp;start=1&amp;um=1&amp;tbnid=ZLuytrcc_YGfkM:&amp;tbnh=129&amp;tbnw=83&amp;prev=/images%3Fq%3Dbodemprofiel%26svnum%3D10%26um%3D1%26hl%3Dnl%26rls%3Dcom.microsoft:*:IE-SearchBox%26rlz%3D1I7ADBF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novapro.nl/img/handen.jpg&amp;imgrefurl=http://www.bionovapro.nl/base/Bionovapro_products_D.asp%3FID%3D156%26Lang%3D1&amp;h=150&amp;w=200&amp;sz=23&amp;hl=nl&amp;start=12&amp;um=1&amp;tbnid=Q0jX2KOC0xDlAM:&amp;tbnh=78&amp;tbnw=104&amp;prev=/images%3Fq%3Dbodemstructuur%26svnum%3D10%26um%3D1%26hl%3Dnl%26rls%3Dcom.microsoft:*:IE-SearchBox%26rlz%3D1I7ADBF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Grondbewerk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724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kee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580000" y="2565360"/>
            <a:ext cx="3300480" cy="219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38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laat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horizontale gelaagdheid van bodem is te zien, vaak op slempige gronden. Bij opdrogen barsten de platen en krullen ze omho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tstaan o.a. door zware druk van machines die regelmatig een bodem berijden. Denk aan de ploegzool bij een tractor of het rijden van bouwverkeer bij nieuwbou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is een vaste pla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95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lgen slecht profi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ort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luc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a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uchtbaarheid kan in gevaar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0876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1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elverbetering is vaak een kostbare zaak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fweging: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-&gt; de te maken kosten t.o.v. de te verwachte opbrengste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ofielverbetering wenselijk in volgende omstandigheden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ste lagen in de bouwvoor kunnen ook dieper voorkomen dan de bouwvo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ende lagen die dieper in het profiel zitten: oerbanken, keileembanken, grind 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wenste volgorde van grond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lijke ligging van het maaiv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wenselijk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mpen en stuiven oplo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t- of zaai/ zode klaar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fileren/ unduleren/ egaliseren terr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- en luchthuishouding reg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reken storende 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drainage/ leidingen/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gen verwisselen\ ontgrav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brengen compost, stoppelresten, stalmest, herbiciden en dergelijke + bestrijden van onkrui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f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erbeter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6096240" cy="414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651640" y="2565360"/>
            <a:ext cx="2706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el grondbewerk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gewas een zo gunstig mogelijke bewortelingsplaats te ge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je hebt daarvoor voldoende lucht, water en een goede structuur no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76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ndverbeter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kal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sche bem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ede ontwa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ndbewerking (op juiste mom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2 x  Challenger voor de ploeg met bijna 1000 pk"/>
          <p:cNvPicPr/>
          <p:nvPr/>
        </p:nvPicPr>
        <p:blipFill>
          <a:blip r:embed="rId1"/>
          <a:stretch/>
        </p:blipFill>
        <p:spPr>
          <a:xfrm>
            <a:off x="2268360" y="4076640"/>
            <a:ext cx="42865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lering t.b.v. ontwerp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verzet zijn het ontgraven, transporteren, ophogen en egaliseren van gro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hydraulische graafmachines, dumper, laadschop, bulldoz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toringen in de bodem opheffe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bewerking zijn: het opheffen van een verdichting, het breken van storende lagen en lagen te wissel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diepploegen, diepwoelen, drai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houd: Grondbewerking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uctuur/ prof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verbe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swertu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924280"/>
            <a:ext cx="157644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588000" y="1916280"/>
            <a:ext cx="13813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Zaai- en plantklaar maken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of verzorging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verplaatst de grond niet en bewerkt deze niet dieper dan de bouwvo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beelden van zaai- en plantklaar maken zijn het bestrijden van onkruiden, het uitvoeren en onderwerken van een bemesting en het loswerken van de bouwvoor voor het plantwe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Voorbeeld: De frees</a:t>
            </a:r>
            <a:br>
              <a:rPr sz="2800"/>
            </a:br>
            <a:br>
              <a:rPr sz="1800"/>
            </a:br>
            <a:r>
              <a:rPr b="0" lang="nl-NL" sz="1800" spc="-1" strike="noStrike">
                <a:solidFill>
                  <a:srgbClr val="ffffb7"/>
                </a:solidFill>
                <a:latin typeface="Arial Black"/>
              </a:rPr>
              <a:t>- </a:t>
            </a: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toplaagbegroeiing, onderwerken van mest, bestrijden van onkruid of het maken van zaai- en plantbedden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niet gebruiken in te natte grond of als je veel regen verwacht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door de snijdende werking van de frees kun je in vaste grond werken en planten verkleinen en vermengen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chter de frees zit een verstelbare kap waar de grond tegen gegooid wordt. De grond wordt op deze manier nog meer verkruimeld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fhankelijk van de draairichting kan een freesas met de rijrichting meelopen (meelopende frees) of tegengesteld zijn draaien (overtopfrees)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828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Inzet machines/ werktuige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keuze wordt bepaald door -in veel gevallen een combinatie- van de volgende factor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ndsoort en draagkracht van de bod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tijdstip van de uitvoering van het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diepte van het uit te voeren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schikbare budget en/of beschikbare tij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otte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bereikbaarheid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hoeveelheid aan grondwerkzaamhe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nbouwwerktuig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4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hter of voor een een of tweeassige tractor, soms aangedreven door de aftak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werkingsdiep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ondergrondbewerking (dieper dan 30 cm) bv. woel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hoofdgrondbewerking (van 0 tot 30 cm) bv. frees spitmachine, triltandcultiv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oor- en nabewerking (van 0 tot 10 cm) bv. rotorkopeg, egalisatieba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erzorgende bewerking                                                 (van 0 tot 5 cm) bv. schoffelmachine                                        t.b.v. onkruidbestrij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857680" cy="2028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1964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torko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IND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19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ar bestaat grond u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te delen, onder te verdelen in; (Ca 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ganische stof (humus, afval, plant, d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organische stof (zand, klei, kalk, zou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ën, onder te verdelen in; (Ca 2 x 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 (met daarin opgeloste zouten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u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ndsoorten: zand, veen, klei, loss, leem en z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/ 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91120" cy="375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1557360"/>
            <a:ext cx="3889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Struc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nderlinge rangschikking en binding van de afzonderlijke bodemdeelt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Prof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e doorsnede van de bodem, ook wel de gelaagd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lang 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- aanwezigheid poriën en holten tussen vaste gronddeeltjes groot belang voor eigenschappen, - vanwege volgende factore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lucht en warmte in de grond dring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goede beworteling mogelij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water in de grond vasthoud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te veel water kan worden afgevoe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3851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Voor gunstige structuur is van belang;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576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hoeveelheid poriën en holten in de gro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juiste verhouding tussen deze poriën en holt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stabiliteit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bodemlev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141720"/>
            <a:ext cx="21416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vorme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832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jze van rangschikking en het veel/ weinig voorkomen van poriën en holt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uim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rr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at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1193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uimelstructuu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gronddeeltjes zijn tot groepen samengebundeld tot de zogenaamde kruim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 kruimel, tussen de poriën, is ruimte voor water en tussen de kruimels is ruimte voor luch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&gt; dit is de BE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rrel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fzonderlijke bodemdeeltjes liggen geheel los van elkaar: Er is geen enkele bi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: bak met knik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k bij humusarme zandgronden en vastgereden kleigrond kan de bovengrond een korrelstructuur bezitten. Deze gronden stuiven gemakkelijk en slempen bij regenval snel dic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is een losse ben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10:52Z</dcterms:created>
  <dc:creator>ICT</dc:creator>
  <dc:description/>
  <dc:language>en-US</dc:language>
  <cp:lastModifiedBy>default</cp:lastModifiedBy>
  <dcterms:modified xsi:type="dcterms:W3CDTF">2008-11-10T12:56:04Z</dcterms:modified>
  <cp:revision>6</cp:revision>
  <dc:subject/>
  <dc:title>grondbewerking</dc:title>
</cp:coreProperties>
</file>